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1FDD33-48D4-49AA-84F8-56BAE6CFE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ç·Ê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¿Â¶óÀÎ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´ë·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¥ÀÌÅÍ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¶È¸ÇÏ¿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¸°íÀ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Ï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üÃ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ÇÏ±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¶§¹®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±â±îÁ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¸¹À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½Ã°£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É¸®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À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¯µµÇÔ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û¶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ñ¾àÀû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â»ó½ÃÄÑ¼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À´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³¼±Ç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ÀÌ´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473120" y="863640"/>
            <a:ext cx="8344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66840" y="88920"/>
            <a:ext cx="105552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96880" y="243000"/>
            <a:ext cx="8012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9360" y="1117440"/>
            <a:ext cx="894564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Àý¿¡ OR¿Í ROWNUM °°ÀÌ »ç¿ë½Ã ¹ß»ýÇÏ´Â ÀüÃ¼¹üÀ§ Ã³¸® ¹æ¹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PK1   :  SUGA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1  :  SUGAE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4  :  SUGAS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6040" y="3898800"/>
            <a:ext cx="3870360" cy="230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 (SUGAEDSC 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 SUGASERL LIKE 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SUGASERL LIKE  'F%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&lt; 2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59160" y="3481560"/>
            <a:ext cx="5440320" cy="3213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  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COUNT (STOP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    CONCATE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593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025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602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091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821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82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76440" y="1116000"/>
            <a:ext cx="799776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OB_CLSS, S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27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96120" y="3097080"/>
            <a:ext cx="137808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ºÐ 2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8520" y="3751200"/>
            <a:ext cx="783288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´·Ä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19280" y="4137120"/>
            <a:ext cx="769788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JOB_CLSS,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1, 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54920" y="6095880"/>
            <a:ext cx="135252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ºÐ 13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1690560" y="1047600"/>
            <a:ext cx="6754680" cy="6067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: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:º»ÀÎÄ«µå¹øÈ£ != NULL)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 ÀÔ·ÂµÈ Ä«µå°¡ °¡Á·Ä«µåÀÓ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º»ÀÎ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!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/* ÃÖÁ¾ Ä«µå°¡ ¾Æ´Ô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( ; 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 :´ÙÀ½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ÀÌÀü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´ÙÀ½Ä«µå¹øÈ£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ÃÖÁ¾Ä«µåÀÓ 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°í°´¹øÈ£, °áÁ¦ÀÏÀÚ, 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°í°´¹øÈ£ , :°áÁ¦ÀÏÀÚ, :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22200" y="1219320"/>
            <a:ext cx="104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291960" y="988920"/>
            <a:ext cx="87310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¹æ½ÄÀ¸·Î ¼öÇàµÇ¾î ½Ã°£ÀÌ ¸¹ÀÌ °É¸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39720" y="2930400"/>
            <a:ext cx="8109000" cy="335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, °í°´¹øÈ£, °áÁ¦ÀÏÀÚ, À¯È¿±â°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ÖÁ¾Ä«µå±¸ºÐ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º»ÀÎÄ«µå¹øÈ£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:INPUT_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NNECT BY  PRI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º»ÀÎÄ«µå¹øÈ£ = Ä«µå¹øÈ£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ÀÌÀüÄ«µå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102520" y="4338720"/>
            <a:ext cx="1569960" cy="98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£¾Æ ¿Ã¶ó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5092560" y="6022800"/>
            <a:ext cx="3063960" cy="58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ÖÁ¾ Ä«µå ¹øÈ£ Ã£¾Æ ³»·Á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Å×ÀÌºíÀº Áö³­´ÞÀº ¸¶Áö¸· ³¯Â¥¿¡, ÇöÀç¿ù¿¡´Â ¾îÁ¦±îÁöÀÇ ÇÕ°è ±â·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11280" y="266760"/>
            <a:ext cx="82929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201680" y="2058840"/>
            <a:ext cx="4184640" cy="2549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Áý°èÀÏÀÚ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1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22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5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55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4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4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44520" y="4791240"/>
            <a:ext cx="885204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28ÀÏ Áý°èÅ×ÀÌºíÀ» °»½ÅÇÏÁö ¸øÇÑ »óÈ²¿¡¼­ 4¿ù 29ÀÏ ÇöÀç±îÁöÀÇ SUM(COL2)¸¦ COL1º°·Î GROUP BYÇÏ¿©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93760" y="25401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93760" y="31827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93760" y="410040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93760" y="354348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1517760" y="228600"/>
            <a:ext cx="8248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79360" y="1117440"/>
            <a:ext cx="916308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Áý°è´Â Áý°èÅ×ÀÌºíÀ» ÀÌ¿ë¸øÇÏ°í ¿Â¶óÀÎ Å×ÀÌºí¿¡¼­ Ã³¸®ÇÏ¿© ¼öÇà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ÃÖ´ëÇÑ Áý°èÅ×ÀÌºíÀ»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93544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146480" y="2368440"/>
            <a:ext cx="119232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9280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6622920" y="2368440"/>
            <a:ext cx="111744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a0404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a0404"/>
                </a:solidFill>
                <a:latin typeface="Arial"/>
                <a:ea typeface="Arial"/>
              </a:rPr>
              <a:t>960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35440" y="349236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88832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3008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952720" y="3416400"/>
            <a:ext cx="4311720" cy="590400"/>
          </a:xfrm>
          <a:prstGeom prst="rect">
            <a:avLst/>
          </a:prstGeom>
          <a:solidFill>
            <a:srgbClr val="dfdcd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                  2  ¿ù                3  ¿ù          4/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274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560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5674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7888320" y="3435480"/>
            <a:ext cx="95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/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ÇöÀç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22240" y="4079880"/>
            <a:ext cx="5923080" cy="3071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SUM(COL2),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(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COL2, 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Áý°è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Áý°è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101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4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FLD1 AS COL1, FLD2 AS COL2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ÇöÇà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Ã³¸®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9604028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5040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GROUP BY  COL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021360" y="3997440"/>
            <a:ext cx="1094040" cy="975240"/>
          </a:xfrm>
          <a:custGeom>
            <a:avLst/>
            <a:gdLst/>
            <a:ahLst/>
            <a:rect l="0" t="0" r="r" b="b"/>
            <a:pathLst>
              <a:path w="3039" h="2709">
                <a:moveTo>
                  <a:pt x="2444" y="522"/>
                </a:moveTo>
                <a:lnTo>
                  <a:pt x="2316" y="492"/>
                </a:lnTo>
                <a:lnTo>
                  <a:pt x="2853" y="0"/>
                </a:lnTo>
                <a:lnTo>
                  <a:pt x="3039" y="686"/>
                </a:lnTo>
                <a:lnTo>
                  <a:pt x="2902" y="644"/>
                </a:lnTo>
                <a:lnTo>
                  <a:pt x="2874" y="741"/>
                </a:lnTo>
                <a:lnTo>
                  <a:pt x="2839" y="878"/>
                </a:lnTo>
                <a:lnTo>
                  <a:pt x="2787" y="1000"/>
                </a:lnTo>
                <a:lnTo>
                  <a:pt x="2737" y="1122"/>
                </a:lnTo>
                <a:lnTo>
                  <a:pt x="2669" y="1244"/>
                </a:lnTo>
                <a:lnTo>
                  <a:pt x="2598" y="1358"/>
                </a:lnTo>
                <a:lnTo>
                  <a:pt x="2524" y="1475"/>
                </a:lnTo>
                <a:lnTo>
                  <a:pt x="2447" y="1579"/>
                </a:lnTo>
                <a:lnTo>
                  <a:pt x="2387" y="1678"/>
                </a:lnTo>
                <a:lnTo>
                  <a:pt x="2305" y="1772"/>
                </a:lnTo>
                <a:lnTo>
                  <a:pt x="2236" y="1853"/>
                </a:lnTo>
                <a:lnTo>
                  <a:pt x="2148" y="1934"/>
                </a:lnTo>
                <a:lnTo>
                  <a:pt x="2072" y="2008"/>
                </a:lnTo>
                <a:lnTo>
                  <a:pt x="1990" y="2082"/>
                </a:lnTo>
                <a:lnTo>
                  <a:pt x="1896" y="2158"/>
                </a:lnTo>
                <a:lnTo>
                  <a:pt x="1798" y="2229"/>
                </a:lnTo>
                <a:lnTo>
                  <a:pt x="1705" y="2290"/>
                </a:lnTo>
                <a:lnTo>
                  <a:pt x="1614" y="2351"/>
                </a:lnTo>
                <a:lnTo>
                  <a:pt x="1506" y="2415"/>
                </a:lnTo>
                <a:lnTo>
                  <a:pt x="1361" y="2483"/>
                </a:lnTo>
                <a:lnTo>
                  <a:pt x="1241" y="2542"/>
                </a:lnTo>
                <a:lnTo>
                  <a:pt x="1128" y="2580"/>
                </a:lnTo>
                <a:lnTo>
                  <a:pt x="1027" y="2613"/>
                </a:lnTo>
                <a:lnTo>
                  <a:pt x="936" y="2638"/>
                </a:lnTo>
                <a:lnTo>
                  <a:pt x="846" y="2661"/>
                </a:lnTo>
                <a:lnTo>
                  <a:pt x="756" y="2676"/>
                </a:lnTo>
                <a:lnTo>
                  <a:pt x="663" y="2691"/>
                </a:lnTo>
                <a:lnTo>
                  <a:pt x="578" y="2699"/>
                </a:lnTo>
                <a:lnTo>
                  <a:pt x="432" y="2709"/>
                </a:lnTo>
                <a:lnTo>
                  <a:pt x="263" y="2709"/>
                </a:lnTo>
                <a:lnTo>
                  <a:pt x="0" y="2696"/>
                </a:lnTo>
                <a:lnTo>
                  <a:pt x="391" y="2666"/>
                </a:lnTo>
                <a:lnTo>
                  <a:pt x="506" y="2646"/>
                </a:lnTo>
                <a:lnTo>
                  <a:pt x="597" y="2618"/>
                </a:lnTo>
                <a:lnTo>
                  <a:pt x="695" y="2590"/>
                </a:lnTo>
                <a:lnTo>
                  <a:pt x="789" y="2554"/>
                </a:lnTo>
                <a:lnTo>
                  <a:pt x="972" y="2473"/>
                </a:lnTo>
                <a:lnTo>
                  <a:pt x="1131" y="2382"/>
                </a:lnTo>
                <a:lnTo>
                  <a:pt x="1282" y="2283"/>
                </a:lnTo>
                <a:lnTo>
                  <a:pt x="1413" y="2163"/>
                </a:lnTo>
                <a:lnTo>
                  <a:pt x="1532" y="2057"/>
                </a:lnTo>
                <a:lnTo>
                  <a:pt x="1683" y="1906"/>
                </a:lnTo>
                <a:lnTo>
                  <a:pt x="1809" y="1767"/>
                </a:lnTo>
                <a:lnTo>
                  <a:pt x="1924" y="1612"/>
                </a:lnTo>
                <a:lnTo>
                  <a:pt x="2017" y="1477"/>
                </a:lnTo>
                <a:lnTo>
                  <a:pt x="2110" y="1317"/>
                </a:lnTo>
                <a:lnTo>
                  <a:pt x="2192" y="1158"/>
                </a:lnTo>
                <a:lnTo>
                  <a:pt x="2261" y="1033"/>
                </a:lnTo>
                <a:lnTo>
                  <a:pt x="2329" y="871"/>
                </a:lnTo>
                <a:lnTo>
                  <a:pt x="2400" y="693"/>
                </a:lnTo>
                <a:lnTo>
                  <a:pt x="2444" y="522"/>
                </a:lnTo>
                <a:close/>
              </a:path>
            </a:pathLst>
          </a:custGeom>
          <a:solidFill>
            <a:srgbClr val="ff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497640" y="4006800"/>
            <a:ext cx="1332360" cy="2005200"/>
          </a:xfrm>
          <a:custGeom>
            <a:avLst/>
            <a:gdLst/>
            <a:ahLst/>
            <a:rect l="0" t="0" r="r" b="b"/>
            <a:pathLst>
              <a:path w="3701" h="5570">
                <a:moveTo>
                  <a:pt x="2690" y="1068"/>
                </a:moveTo>
                <a:lnTo>
                  <a:pt x="2478" y="968"/>
                </a:lnTo>
                <a:lnTo>
                  <a:pt x="3053" y="0"/>
                </a:lnTo>
                <a:lnTo>
                  <a:pt x="3701" y="1529"/>
                </a:lnTo>
                <a:lnTo>
                  <a:pt x="3487" y="1425"/>
                </a:lnTo>
                <a:lnTo>
                  <a:pt x="3507" y="1683"/>
                </a:lnTo>
                <a:lnTo>
                  <a:pt x="3497" y="1965"/>
                </a:lnTo>
                <a:lnTo>
                  <a:pt x="3474" y="2136"/>
                </a:lnTo>
                <a:lnTo>
                  <a:pt x="3457" y="2348"/>
                </a:lnTo>
                <a:lnTo>
                  <a:pt x="3425" y="2585"/>
                </a:lnTo>
                <a:lnTo>
                  <a:pt x="3391" y="2823"/>
                </a:lnTo>
                <a:lnTo>
                  <a:pt x="3341" y="3060"/>
                </a:lnTo>
                <a:lnTo>
                  <a:pt x="3299" y="3238"/>
                </a:lnTo>
                <a:lnTo>
                  <a:pt x="3243" y="3450"/>
                </a:lnTo>
                <a:lnTo>
                  <a:pt x="3186" y="3666"/>
                </a:lnTo>
                <a:lnTo>
                  <a:pt x="3127" y="3808"/>
                </a:lnTo>
                <a:lnTo>
                  <a:pt x="3060" y="3991"/>
                </a:lnTo>
                <a:lnTo>
                  <a:pt x="2982" y="4132"/>
                </a:lnTo>
                <a:lnTo>
                  <a:pt x="2883" y="4302"/>
                </a:lnTo>
                <a:lnTo>
                  <a:pt x="2784" y="4460"/>
                </a:lnTo>
                <a:lnTo>
                  <a:pt x="2631" y="4635"/>
                </a:lnTo>
                <a:lnTo>
                  <a:pt x="2483" y="4809"/>
                </a:lnTo>
                <a:lnTo>
                  <a:pt x="2345" y="4955"/>
                </a:lnTo>
                <a:lnTo>
                  <a:pt x="2204" y="5075"/>
                </a:lnTo>
                <a:lnTo>
                  <a:pt x="2081" y="5183"/>
                </a:lnTo>
                <a:lnTo>
                  <a:pt x="1950" y="5258"/>
                </a:lnTo>
                <a:lnTo>
                  <a:pt x="1790" y="5350"/>
                </a:lnTo>
                <a:lnTo>
                  <a:pt x="1649" y="5404"/>
                </a:lnTo>
                <a:lnTo>
                  <a:pt x="1462" y="5466"/>
                </a:lnTo>
                <a:lnTo>
                  <a:pt x="1255" y="5508"/>
                </a:lnTo>
                <a:lnTo>
                  <a:pt x="1095" y="5537"/>
                </a:lnTo>
                <a:lnTo>
                  <a:pt x="884" y="5562"/>
                </a:lnTo>
                <a:lnTo>
                  <a:pt x="732" y="5570"/>
                </a:lnTo>
                <a:lnTo>
                  <a:pt x="608" y="5553"/>
                </a:lnTo>
                <a:lnTo>
                  <a:pt x="399" y="5537"/>
                </a:lnTo>
                <a:lnTo>
                  <a:pt x="0" y="5445"/>
                </a:lnTo>
                <a:lnTo>
                  <a:pt x="443" y="5437"/>
                </a:lnTo>
                <a:lnTo>
                  <a:pt x="633" y="5416"/>
                </a:lnTo>
                <a:lnTo>
                  <a:pt x="810" y="5395"/>
                </a:lnTo>
                <a:lnTo>
                  <a:pt x="977" y="5346"/>
                </a:lnTo>
                <a:lnTo>
                  <a:pt x="1122" y="5275"/>
                </a:lnTo>
                <a:lnTo>
                  <a:pt x="1265" y="5200"/>
                </a:lnTo>
                <a:lnTo>
                  <a:pt x="1410" y="5109"/>
                </a:lnTo>
                <a:lnTo>
                  <a:pt x="1521" y="5026"/>
                </a:lnTo>
                <a:lnTo>
                  <a:pt x="1645" y="4926"/>
                </a:lnTo>
                <a:lnTo>
                  <a:pt x="1755" y="4797"/>
                </a:lnTo>
                <a:lnTo>
                  <a:pt x="1852" y="4668"/>
                </a:lnTo>
                <a:lnTo>
                  <a:pt x="1933" y="4568"/>
                </a:lnTo>
                <a:lnTo>
                  <a:pt x="2024" y="4406"/>
                </a:lnTo>
                <a:lnTo>
                  <a:pt x="2123" y="4248"/>
                </a:lnTo>
                <a:lnTo>
                  <a:pt x="2189" y="4099"/>
                </a:lnTo>
                <a:lnTo>
                  <a:pt x="2263" y="3932"/>
                </a:lnTo>
                <a:lnTo>
                  <a:pt x="2354" y="3720"/>
                </a:lnTo>
                <a:lnTo>
                  <a:pt x="2423" y="3475"/>
                </a:lnTo>
                <a:lnTo>
                  <a:pt x="2485" y="3251"/>
                </a:lnTo>
                <a:lnTo>
                  <a:pt x="2537" y="3047"/>
                </a:lnTo>
                <a:lnTo>
                  <a:pt x="2591" y="2806"/>
                </a:lnTo>
                <a:lnTo>
                  <a:pt x="2623" y="2601"/>
                </a:lnTo>
                <a:lnTo>
                  <a:pt x="2648" y="2381"/>
                </a:lnTo>
                <a:lnTo>
                  <a:pt x="2682" y="2136"/>
                </a:lnTo>
                <a:lnTo>
                  <a:pt x="2704" y="1924"/>
                </a:lnTo>
                <a:lnTo>
                  <a:pt x="2714" y="1645"/>
                </a:lnTo>
                <a:lnTo>
                  <a:pt x="2717" y="1429"/>
                </a:lnTo>
                <a:lnTo>
                  <a:pt x="269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05748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210200" y="286380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45796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676920" y="2863800"/>
            <a:ext cx="1104840" cy="457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ÇöÀç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62720" y="3502080"/>
            <a:ext cx="486000" cy="438480"/>
          </a:xfrm>
          <a:custGeom>
            <a:avLst/>
            <a:gdLst/>
            <a:ahLst/>
            <a:rect l="0" t="0" r="r" b="b"/>
            <a:pathLst>
              <a:path w="1350" h="1218">
                <a:moveTo>
                  <a:pt x="0" y="405"/>
                </a:moveTo>
                <a:lnTo>
                  <a:pt x="0" y="811"/>
                </a:lnTo>
                <a:lnTo>
                  <a:pt x="945" y="811"/>
                </a:lnTo>
                <a:lnTo>
                  <a:pt x="945" y="1218"/>
                </a:lnTo>
                <a:lnTo>
                  <a:pt x="1350" y="608"/>
                </a:lnTo>
                <a:lnTo>
                  <a:pt x="945" y="0"/>
                </a:lnTo>
                <a:lnTo>
                  <a:pt x="945" y="405"/>
                </a:lnTo>
                <a:lnTo>
                  <a:pt x="0" y="405"/>
                </a:lnTo>
                <a:close/>
              </a:path>
            </a:pathLst>
          </a:custGeom>
          <a:solidFill>
            <a:srgbClr val="fa040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1501920" y="228600"/>
            <a:ext cx="83534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46120" y="1633680"/>
            <a:ext cx="9148680" cy="52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L1, SUM(COL2), . 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COL1, COL2,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Áý°èÀÏÀÚ BETWEEN :BEGIN_DATE AND TO_CHAR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FLD1 AS COL1, FLD2 AS COL2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öÇà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³¸®ÀÏÀÚ &gt;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S Áý°èÀÏÀÚ_IX) */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ÀÏÀ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Ã³¸®ÀÏÀÚ &lt;= TO_CHAR(SYSDATE,'YYMMDD'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COL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93760" y="1117440"/>
            <a:ext cx="878688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 Å×ÀÌºí°ú ¿ùº°Åë°è Å×ÀÌºíÀ» µ¿½Ã¿¡ ÀÌ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ùº° Æò°¡ ±Ý¾× ÇÕ°è¸¦ ¿Â¶óÀÎÀ¸·Î Á¶È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³º° Å×ÀÌºí¿¡¼­ ÀÐ¾î¿Ã °æ¿ì ¿Â¶óÀÎ Ã³¸® °ï¶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1469880" y="2387520"/>
            <a:ext cx="66009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123920" y="3394080"/>
            <a:ext cx="7601040" cy="90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14164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81668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163600" y="3416400"/>
            <a:ext cx="5626080" cy="863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84480" y="33987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85000" y="3398760"/>
            <a:ext cx="0" cy="893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35240" y="302256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3508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064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27120" y="3022560"/>
            <a:ext cx="513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2431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4818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28000" y="302256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82784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3739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0" y="482"/>
                </a:moveTo>
                <a:lnTo>
                  <a:pt x="97" y="243"/>
                </a:lnTo>
                <a:lnTo>
                  <a:pt x="0" y="0"/>
                </a:lnTo>
                <a:lnTo>
                  <a:pt x="777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25600" y="2025720"/>
            <a:ext cx="1922760" cy="851400"/>
          </a:xfrm>
          <a:custGeom>
            <a:avLst/>
            <a:gdLst/>
            <a:ahLst/>
            <a:rect l="0" t="0" r="r" b="b"/>
            <a:pathLst>
              <a:path w="5341" h="2365">
                <a:moveTo>
                  <a:pt x="4459" y="1977"/>
                </a:moveTo>
                <a:lnTo>
                  <a:pt x="4626" y="1968"/>
                </a:lnTo>
                <a:lnTo>
                  <a:pt x="4785" y="1946"/>
                </a:lnTo>
                <a:lnTo>
                  <a:pt x="4939" y="1902"/>
                </a:lnTo>
                <a:lnTo>
                  <a:pt x="5076" y="1862"/>
                </a:lnTo>
                <a:lnTo>
                  <a:pt x="5191" y="1801"/>
                </a:lnTo>
                <a:lnTo>
                  <a:pt x="5266" y="1725"/>
                </a:lnTo>
                <a:lnTo>
                  <a:pt x="5319" y="1654"/>
                </a:lnTo>
                <a:lnTo>
                  <a:pt x="5341" y="1579"/>
                </a:lnTo>
                <a:lnTo>
                  <a:pt x="5341" y="388"/>
                </a:lnTo>
                <a:lnTo>
                  <a:pt x="5319" y="317"/>
                </a:lnTo>
                <a:lnTo>
                  <a:pt x="5266" y="251"/>
                </a:lnTo>
                <a:lnTo>
                  <a:pt x="5191" y="180"/>
                </a:lnTo>
                <a:lnTo>
                  <a:pt x="5076" y="119"/>
                </a:lnTo>
                <a:lnTo>
                  <a:pt x="4939" y="66"/>
                </a:lnTo>
                <a:lnTo>
                  <a:pt x="4785" y="35"/>
                </a:lnTo>
                <a:lnTo>
                  <a:pt x="4626" y="13"/>
                </a:lnTo>
                <a:lnTo>
                  <a:pt x="4459" y="0"/>
                </a:lnTo>
                <a:lnTo>
                  <a:pt x="890" y="0"/>
                </a:lnTo>
                <a:lnTo>
                  <a:pt x="709" y="13"/>
                </a:lnTo>
                <a:lnTo>
                  <a:pt x="555" y="35"/>
                </a:lnTo>
                <a:lnTo>
                  <a:pt x="396" y="66"/>
                </a:lnTo>
                <a:lnTo>
                  <a:pt x="260" y="119"/>
                </a:lnTo>
                <a:lnTo>
                  <a:pt x="145" y="180"/>
                </a:lnTo>
                <a:lnTo>
                  <a:pt x="70" y="251"/>
                </a:lnTo>
                <a:lnTo>
                  <a:pt x="22" y="317"/>
                </a:lnTo>
                <a:lnTo>
                  <a:pt x="0" y="388"/>
                </a:lnTo>
                <a:lnTo>
                  <a:pt x="0" y="1579"/>
                </a:lnTo>
                <a:lnTo>
                  <a:pt x="22" y="1654"/>
                </a:lnTo>
                <a:lnTo>
                  <a:pt x="70" y="1725"/>
                </a:lnTo>
                <a:lnTo>
                  <a:pt x="145" y="1801"/>
                </a:lnTo>
                <a:lnTo>
                  <a:pt x="260" y="1862"/>
                </a:lnTo>
                <a:lnTo>
                  <a:pt x="396" y="1902"/>
                </a:lnTo>
                <a:lnTo>
                  <a:pt x="555" y="1946"/>
                </a:lnTo>
                <a:lnTo>
                  <a:pt x="709" y="1968"/>
                </a:lnTo>
                <a:lnTo>
                  <a:pt x="890" y="1977"/>
                </a:lnTo>
                <a:lnTo>
                  <a:pt x="449" y="2365"/>
                </a:lnTo>
                <a:lnTo>
                  <a:pt x="1327" y="1977"/>
                </a:lnTo>
                <a:lnTo>
                  <a:pt x="4459" y="1977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1668600" y="208764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1657440" y="20764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2090880" y="23400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2079720" y="2327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524640" y="2049480"/>
            <a:ext cx="1921320" cy="849600"/>
          </a:xfrm>
          <a:custGeom>
            <a:avLst/>
            <a:gdLst/>
            <a:ahLst/>
            <a:rect l="0" t="0" r="r" b="b"/>
            <a:pathLst>
              <a:path w="5337" h="2360">
                <a:moveTo>
                  <a:pt x="3996" y="1972"/>
                </a:moveTo>
                <a:lnTo>
                  <a:pt x="4887" y="2360"/>
                </a:lnTo>
                <a:lnTo>
                  <a:pt x="4451" y="1972"/>
                </a:lnTo>
                <a:lnTo>
                  <a:pt x="4627" y="1972"/>
                </a:lnTo>
                <a:lnTo>
                  <a:pt x="4786" y="1941"/>
                </a:lnTo>
                <a:lnTo>
                  <a:pt x="4940" y="1910"/>
                </a:lnTo>
                <a:lnTo>
                  <a:pt x="5068" y="1857"/>
                </a:lnTo>
                <a:lnTo>
                  <a:pt x="5183" y="1795"/>
                </a:lnTo>
                <a:lnTo>
                  <a:pt x="5267" y="1734"/>
                </a:lnTo>
                <a:lnTo>
                  <a:pt x="5320" y="1659"/>
                </a:lnTo>
                <a:lnTo>
                  <a:pt x="5337" y="1575"/>
                </a:lnTo>
                <a:lnTo>
                  <a:pt x="5337" y="396"/>
                </a:lnTo>
                <a:lnTo>
                  <a:pt x="5320" y="313"/>
                </a:lnTo>
                <a:lnTo>
                  <a:pt x="5267" y="251"/>
                </a:lnTo>
                <a:lnTo>
                  <a:pt x="5183" y="176"/>
                </a:lnTo>
                <a:lnTo>
                  <a:pt x="5068" y="123"/>
                </a:lnTo>
                <a:lnTo>
                  <a:pt x="4940" y="70"/>
                </a:lnTo>
                <a:lnTo>
                  <a:pt x="4786" y="30"/>
                </a:lnTo>
                <a:lnTo>
                  <a:pt x="4627" y="8"/>
                </a:lnTo>
                <a:lnTo>
                  <a:pt x="4451" y="0"/>
                </a:lnTo>
                <a:lnTo>
                  <a:pt x="877" y="0"/>
                </a:lnTo>
                <a:lnTo>
                  <a:pt x="701" y="8"/>
                </a:lnTo>
                <a:lnTo>
                  <a:pt x="542" y="30"/>
                </a:lnTo>
                <a:lnTo>
                  <a:pt x="396" y="70"/>
                </a:lnTo>
                <a:lnTo>
                  <a:pt x="260" y="123"/>
                </a:lnTo>
                <a:lnTo>
                  <a:pt x="145" y="176"/>
                </a:lnTo>
                <a:lnTo>
                  <a:pt x="61" y="251"/>
                </a:lnTo>
                <a:lnTo>
                  <a:pt x="8" y="313"/>
                </a:lnTo>
                <a:lnTo>
                  <a:pt x="0" y="396"/>
                </a:lnTo>
                <a:lnTo>
                  <a:pt x="0" y="1575"/>
                </a:lnTo>
                <a:lnTo>
                  <a:pt x="8" y="1659"/>
                </a:lnTo>
                <a:lnTo>
                  <a:pt x="61" y="1734"/>
                </a:lnTo>
                <a:lnTo>
                  <a:pt x="145" y="1795"/>
                </a:lnTo>
                <a:lnTo>
                  <a:pt x="260" y="1857"/>
                </a:lnTo>
                <a:lnTo>
                  <a:pt x="396" y="1910"/>
                </a:lnTo>
                <a:lnTo>
                  <a:pt x="542" y="1941"/>
                </a:lnTo>
                <a:lnTo>
                  <a:pt x="701" y="1972"/>
                </a:lnTo>
                <a:lnTo>
                  <a:pt x="877" y="1972"/>
                </a:lnTo>
                <a:lnTo>
                  <a:pt x="3996" y="1972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6770520" y="21178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759720" y="210672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192800" y="236844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182000" y="235728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94120" y="2071800"/>
            <a:ext cx="1937160" cy="864000"/>
          </a:xfrm>
          <a:custGeom>
            <a:avLst/>
            <a:gdLst/>
            <a:ahLst/>
            <a:rect l="0" t="0" r="r" b="b"/>
            <a:pathLst>
              <a:path w="5381" h="2400">
                <a:moveTo>
                  <a:pt x="4482" y="2004"/>
                </a:moveTo>
                <a:lnTo>
                  <a:pt x="4658" y="1995"/>
                </a:lnTo>
                <a:lnTo>
                  <a:pt x="4826" y="1964"/>
                </a:lnTo>
                <a:lnTo>
                  <a:pt x="4984" y="1942"/>
                </a:lnTo>
                <a:lnTo>
                  <a:pt x="5121" y="1889"/>
                </a:lnTo>
                <a:lnTo>
                  <a:pt x="5223" y="1827"/>
                </a:lnTo>
                <a:lnTo>
                  <a:pt x="5306" y="1756"/>
                </a:lnTo>
                <a:lnTo>
                  <a:pt x="5359" y="1681"/>
                </a:lnTo>
                <a:lnTo>
                  <a:pt x="5381" y="1610"/>
                </a:lnTo>
                <a:lnTo>
                  <a:pt x="5381" y="405"/>
                </a:lnTo>
                <a:lnTo>
                  <a:pt x="5359" y="321"/>
                </a:lnTo>
                <a:lnTo>
                  <a:pt x="5306" y="238"/>
                </a:lnTo>
                <a:lnTo>
                  <a:pt x="5223" y="176"/>
                </a:lnTo>
                <a:lnTo>
                  <a:pt x="5121" y="123"/>
                </a:lnTo>
                <a:lnTo>
                  <a:pt x="4984" y="70"/>
                </a:lnTo>
                <a:lnTo>
                  <a:pt x="4826" y="30"/>
                </a:lnTo>
                <a:lnTo>
                  <a:pt x="4658" y="8"/>
                </a:lnTo>
                <a:lnTo>
                  <a:pt x="4482" y="0"/>
                </a:lnTo>
                <a:lnTo>
                  <a:pt x="899" y="0"/>
                </a:lnTo>
                <a:lnTo>
                  <a:pt x="723" y="8"/>
                </a:lnTo>
                <a:lnTo>
                  <a:pt x="555" y="30"/>
                </a:lnTo>
                <a:lnTo>
                  <a:pt x="396" y="70"/>
                </a:lnTo>
                <a:lnTo>
                  <a:pt x="260" y="123"/>
                </a:lnTo>
                <a:lnTo>
                  <a:pt x="154" y="176"/>
                </a:lnTo>
                <a:lnTo>
                  <a:pt x="70" y="238"/>
                </a:lnTo>
                <a:lnTo>
                  <a:pt x="17" y="321"/>
                </a:lnTo>
                <a:lnTo>
                  <a:pt x="0" y="405"/>
                </a:lnTo>
                <a:lnTo>
                  <a:pt x="0" y="1610"/>
                </a:lnTo>
                <a:lnTo>
                  <a:pt x="17" y="1681"/>
                </a:lnTo>
                <a:lnTo>
                  <a:pt x="70" y="1756"/>
                </a:lnTo>
                <a:lnTo>
                  <a:pt x="154" y="1827"/>
                </a:lnTo>
                <a:lnTo>
                  <a:pt x="260" y="1889"/>
                </a:lnTo>
                <a:lnTo>
                  <a:pt x="396" y="1942"/>
                </a:lnTo>
                <a:lnTo>
                  <a:pt x="555" y="1964"/>
                </a:lnTo>
                <a:lnTo>
                  <a:pt x="723" y="1995"/>
                </a:lnTo>
                <a:lnTo>
                  <a:pt x="899" y="2004"/>
                </a:lnTo>
                <a:lnTo>
                  <a:pt x="1120" y="2400"/>
                </a:lnTo>
                <a:lnTo>
                  <a:pt x="1340" y="2004"/>
                </a:lnTo>
                <a:lnTo>
                  <a:pt x="4482" y="2004"/>
                </a:lnTo>
                <a:close/>
              </a:path>
            </a:pathLst>
          </a:cu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133880" y="21286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554360" y="2381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314360" y="348948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306440" y="34815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32080" y="370368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424160" y="369576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314360" y="392112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306440" y="391320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8040600" y="347832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8034480" y="347040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105760" y="369252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8097840" y="368460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7988400" y="39099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980480" y="390204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7576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7464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0099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9988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66884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65768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92120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91004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6168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66056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68691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68580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565280" y="5356080"/>
            <a:ext cx="12128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619280" y="537516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LAST_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03360" y="46800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25320" y="46990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S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70440" y="5097600"/>
            <a:ext cx="2682720" cy="341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5764320" y="5116680"/>
            <a:ext cx="2340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SUBSTR(:E_DATE,1,4)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795816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8010360" y="511668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822168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80360" y="55926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8300880" y="56116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E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135080" y="441324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071720" y="430848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1640" y="4402080"/>
            <a:ext cx="0" cy="96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077920" y="429732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816680" y="4390920"/>
            <a:ext cx="0" cy="7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53320" y="4284720"/>
            <a:ext cx="127440" cy="151200"/>
          </a:xfrm>
          <a:custGeom>
            <a:avLst/>
            <a:gdLst/>
            <a:ahLst/>
            <a:rect l="0" t="0" r="r" b="b"/>
            <a:pathLst>
              <a:path w="354" h="420">
                <a:moveTo>
                  <a:pt x="354" y="420"/>
                </a:moveTo>
                <a:lnTo>
                  <a:pt x="177" y="359"/>
                </a:lnTo>
                <a:lnTo>
                  <a:pt x="0" y="420"/>
                </a:lnTo>
                <a:lnTo>
                  <a:pt x="177" y="0"/>
                </a:lnTo>
                <a:lnTo>
                  <a:pt x="354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8709120" y="4413240"/>
            <a:ext cx="0" cy="119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645400" y="430848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344680" y="4600440"/>
            <a:ext cx="1971720" cy="3430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411280" y="46274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2403360" y="46195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724360" y="4567320"/>
            <a:ext cx="1892160" cy="3412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753160" y="45943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5746680" y="458640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3203640" y="440208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39920" y="429732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6912000" y="4390920"/>
            <a:ext cx="0" cy="1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848640" y="4284720"/>
            <a:ext cx="128880" cy="151200"/>
          </a:xfrm>
          <a:custGeom>
            <a:avLst/>
            <a:gdLst/>
            <a:ahLst/>
            <a:rect l="0" t="0" r="r" b="b"/>
            <a:pathLst>
              <a:path w="358" h="420">
                <a:moveTo>
                  <a:pt x="358" y="420"/>
                </a:moveTo>
                <a:lnTo>
                  <a:pt x="176" y="359"/>
                </a:lnTo>
                <a:lnTo>
                  <a:pt x="0" y="420"/>
                </a:lnTo>
                <a:lnTo>
                  <a:pt x="176" y="0"/>
                </a:lnTo>
                <a:lnTo>
                  <a:pt x="358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47840" y="1662120"/>
            <a:ext cx="9375840" cy="532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V.¿µ¾÷¿ù,  V.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SUBSTR(¿µ¾÷ÀÏ,1,4) AS ¿µ¾÷¿ù, SUM(Æò°¡±Ý¾×) AS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700" spc="-1" strike="noStrike">
                <a:solidFill>
                  <a:srgbClr val="6600cc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(¿µ¾÷ÀÏ BETWEEN :S_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CHAR(LAST_DAY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DATE(:S_DATE,'YYMMDD'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'YYMMDD')</a:t>
            </a:r>
            <a:r>
              <a:rPr b="1" lang="en-US" sz="1600" spc="-1" strike="noStrike">
                <a:solidFill>
                  <a:srgbClr val="6600cc"/>
                </a:solidFill>
                <a:latin typeface="XXXXXX"/>
                <a:ea typeface="XXXXXX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700" spc="-1" strike="noStrike">
                <a:solidFill>
                  <a:srgbClr val="990000"/>
                </a:solidFill>
                <a:latin typeface="XXXXXX"/>
                <a:ea typeface="XXXXXX"/>
              </a:rPr>
              <a:t>OR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(¿µ¾÷ÀÏ BETWEEN  SUBSTR(:E_DATE,1,4) || '01'  AND :E_DATE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GROUP  BY  SUBSTR(¿µ¾÷ÀÏ,1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¿µ¾÷¿ù,  Æò°¡±Ý¾×  AS 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gt;= 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SUBSTR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S_DATE,'YYMMDD') ,1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'YYMMDD')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, 1,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lt;= SUBSTR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E_DATE,'YYMMDD'), -1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'YYMMDD'), 1, 4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) 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 BY  V.¿µ¾÷¿ù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15001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63520" y="1117440"/>
            <a:ext cx="943776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12640" y="2438280"/>
            <a:ext cx="3841920" cy="33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¹øÈ£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°Å·¡¸¶°¨ÀÏ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ÀÜ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6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25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0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8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2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1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1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35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3.18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3.3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2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00cc00"/>
                </a:solidFill>
                <a:latin typeface="XXXXXX"/>
                <a:ea typeface="XXXXXX"/>
              </a:rPr>
              <a:t>04.1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4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63680" y="2376360"/>
            <a:ext cx="3911760" cy="314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8480" y="4581360"/>
            <a:ext cx="4878360" cy="1940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)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6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4.16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»çÀÌ ÀÏÀÚ ¼ö :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) 3 °³¿ù°£ Æò±Õ ÀÜ¾×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21 *  6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9 *  8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9 * 135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5 *  5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3 * 1000000) ¡À 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9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818,131 ¿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1163520" y="1971720"/>
            <a:ext cx="256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ÀÏº°°Å·¡±â·Ï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5183280" y="1525680"/>
            <a:ext cx="411480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¸ÁÂ¹øÈ£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23-123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Ç ÇØ´ç±â°£ ¿¹Ä¡±Ý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5865840" y="4194000"/>
            <a:ext cx="22953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°³¿ù°£  Æò±ÕÀÜ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58640" y="2852640"/>
            <a:ext cx="389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5097600" y="1986120"/>
            <a:ext cx="4272120" cy="2205720"/>
            <a:chOff x="5097600" y="1986120"/>
            <a:chExt cx="4272120" cy="2205720"/>
          </a:xfrm>
        </p:grpSpPr>
        <p:sp>
          <p:nvSpPr>
            <p:cNvPr id="1300" name=""/>
            <p:cNvSpPr txBox="1"/>
            <p:nvPr/>
          </p:nvSpPr>
          <p:spPr>
            <a:xfrm>
              <a:off x="5097600" y="1989000"/>
              <a:ext cx="4272120" cy="220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ÇØ´ç±â°£          ¿¹Ä¡ÀÏ¼ö     ±Ý¾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</a:t>
              </a:r>
              <a:r>
                <a:rPr b="1" lang="en-US" sz="1400" spc="-1" strike="noStrike">
                  <a:solidFill>
                    <a:srgbClr val="ff0033"/>
                  </a:solidFill>
                  <a:latin typeface="XXXXXX"/>
                  <a:ea typeface="XXXXXX"/>
                </a:rPr>
                <a:t>01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- 1996.02.06     21 ÀÏ     6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07 - 1996.02.16      9 ÀÏ     8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17 - 1996.03.17     29 ÀÏ   1,35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3.18 - 1996.04.12     25 ÀÏ     5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4.13 - 1996.</a:t>
              </a:r>
              <a:r>
                <a:rPr b="1" lang="en-US" sz="1400" spc="-1" strike="noStrike">
                  <a:solidFill>
                    <a:srgbClr val="00cc00"/>
                  </a:solidFill>
                  <a:latin typeface="XXXXXX"/>
                  <a:ea typeface="XXXXXX"/>
                </a:rPr>
                <a:t>04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3 ÀÏ   1,0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97600" y="239220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620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4552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98800" y="2370240"/>
            <a:ext cx="0" cy="31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173400" y="1041480"/>
            <a:ext cx="44895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Â¹øÈ£+°Å·¡¸¶°¨ÀÏ(PK) ÀÎµ¦½º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35080" y="9874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46040" y="1400040"/>
            <a:ext cx="793440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ADD_MONTHS ( SYSDATE, -3 )  INTO :3°³¿ùÀüÀÏÀÚ  FROM  DU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DECLARE  CURSOR  CUR1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°Å·¡¸¶°¨ÀÏ,  ÀÜ¾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Å·¡¸¶°¨ÀÏ &gt;= ( SELECT  MAX(°Å·¡¸¶°¨À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:3°³¿ùÀüÀÏÀÚ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èÁÂ ¹øÈ£ = '23-12345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SYS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BY  °Å·¡¸¶°¨ÀÏ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PEN  CUR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FO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ETCH  CUR1  INTO :°Å·¡¸¶°¨ÀÏ, :ÀÜ¾×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. . . . . . .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214200" y="5599080"/>
            <a:ext cx="9509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ÇüÅÂ·Î Ã³¸®µÇ¹Ç·Î ¼Óµµ°¡ ´À¸®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44520" y="1081080"/>
            <a:ext cx="7280280" cy="596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1',CNT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2',CNT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3',CNT,0)) AS 9603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4',CNT,0)) AS 9604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0',CNT,0)) AS 9610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1',CNT,0)) AS 961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2',CNT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 AS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REG_DATE,1,6) AS REG_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UNT(*) AS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JOB_CLSS, SEX, SUBSTR(REG_DATE,1,6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C, SEX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913520" y="3747960"/>
            <a:ext cx="164160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: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 1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59480" y="4775040"/>
            <a:ext cx="1949400" cy="41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arallel : 27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35080" y="1117440"/>
            <a:ext cx="96091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-LINE VIEW¸¦ ÀÌ¿ë (¿¹Ä¡±â°£À» ¾Ë¾Æ³»±â À§ÇÑ ROWNUM Shift°¡ Æ÷ÀÎÆ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22440" y="2330280"/>
            <a:ext cx="194472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070680" y="3132000"/>
            <a:ext cx="2906640" cy="55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: 1996.01.16 À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Æò±ÕÀÜ¾× °è»êÀÇ ½ÃÀÛ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5824440" y="2416320"/>
            <a:ext cx="3414600" cy="527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±âÁ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1.12 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2440" y="3419640"/>
            <a:ext cx="1944720" cy="2610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41520" y="2606760"/>
            <a:ext cx="1909800" cy="26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2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646200" y="3797280"/>
            <a:ext cx="189396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2.17  8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638280" y="5194440"/>
            <a:ext cx="191304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3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1473120" y="1731960"/>
            <a:ext cx="14130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½ÇÁ¦°Å·¡±â·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758320" y="2757600"/>
            <a:ext cx="675720" cy="410040"/>
          </a:xfrm>
          <a:custGeom>
            <a:avLst/>
            <a:gdLst/>
            <a:ahLst/>
            <a:rect l="0" t="0" r="r" b="b"/>
            <a:pathLst>
              <a:path fill="none" w="1877" h="1139">
                <a:moveTo>
                  <a:pt x="1877" y="1139"/>
                </a:moveTo>
                <a:lnTo>
                  <a:pt x="1877" y="1139"/>
                </a:lnTo>
                <a:lnTo>
                  <a:pt x="1877" y="1139"/>
                </a:lnTo>
                <a:cubicBezTo>
                  <a:pt x="1877" y="939"/>
                  <a:pt x="1790" y="743"/>
                  <a:pt x="1626" y="569"/>
                </a:cubicBezTo>
                <a:cubicBezTo>
                  <a:pt x="1461" y="396"/>
                  <a:pt x="1224" y="253"/>
                  <a:pt x="938" y="153"/>
                </a:cubicBezTo>
                <a:cubicBezTo>
                  <a:pt x="653" y="53"/>
                  <a:pt x="32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730600" y="5351400"/>
            <a:ext cx="772560" cy="470880"/>
          </a:xfrm>
          <a:custGeom>
            <a:avLst/>
            <a:gdLst/>
            <a:ahLst/>
            <a:rect l="0" t="0" r="r" b="b"/>
            <a:pathLst>
              <a:path fill="none" w="2146" h="1308">
                <a:moveTo>
                  <a:pt x="2146" y="1308"/>
                </a:moveTo>
                <a:lnTo>
                  <a:pt x="2146" y="1308"/>
                </a:lnTo>
                <a:cubicBezTo>
                  <a:pt x="2121" y="1097"/>
                  <a:pt x="2025" y="893"/>
                  <a:pt x="1864" y="710"/>
                </a:cubicBezTo>
                <a:cubicBezTo>
                  <a:pt x="1675" y="494"/>
                  <a:pt x="1404" y="315"/>
                  <a:pt x="1077" y="190"/>
                </a:cubicBezTo>
                <a:cubicBezTo>
                  <a:pt x="749" y="66"/>
                  <a:pt x="378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2550960" y="343224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3006720" y="2701800"/>
            <a:ext cx="2649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897280" y="3259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6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6103800" y="5824440"/>
            <a:ext cx="3444840" cy="4849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ò±ÕÀÜ¾× °è»êÀÇ Á¾·áÀÏ : 1996.04.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550960" y="602928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2952720" y="5842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6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5851440" y="5106960"/>
            <a:ext cx="314784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4.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2965320" y="5286240"/>
            <a:ext cx="2760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2827440" y="4227480"/>
            <a:ext cx="4856040" cy="3873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ÇÁ¦ °è»ê¿¡ ÇÊ¿äÇÑ °Å·¡±â·Ï (96.01.16 ~ 96.04.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780000" y="3576600"/>
            <a:ext cx="0" cy="666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3792600" y="45975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300320" y="3908520"/>
            <a:ext cx="32688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1322280" y="2430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1106640" y="2214720"/>
            <a:ext cx="7378560" cy="401004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 txBox="1"/>
          <p:nvPr/>
        </p:nvSpPr>
        <p:spPr>
          <a:xfrm>
            <a:off x="501480" y="1387440"/>
            <a:ext cx="4308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ROWNUM Shift¿¡ ÀÇÇÑ ¿¹Ä¡±â°£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152568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291960" y="1033560"/>
            <a:ext cx="9423360" cy="62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SUM ( (V2.°Å·¡¸¶°¨ÀÏ - V1.°Å·¡¸¶°¨ÀÏ) * V1.ÀÜ¾×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/ (SYSDATE - (ADD_MONTHS(SYSDATE, -3)) )  AS  Æò±Õ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 AS  RNUM1 , ÀÜ¾×,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DECODE(SIGN(°Å·¡¸¶°¨ÀÏ - ADD_MONTHS(SYSDATE,-3) ),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Å·¡¸¶°¨ÀÏ or 3 °³¿ùÀü ÀÏÀ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-1, ADD_MONTHS(SYSDATE,-3), °Å·¡¸¶°¨ÀÏ) AS °Å·¡¸¶°¨ÀÏ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°Å·¡¸¶°¨ÀÏ &lt; SYSD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MAX(°Å·¡¸¶°¨ÀÏ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DD_MONTHS(SYSDATE,-3))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3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³¿ùÀü¿¡¼­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¡ÀåÃÖ±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°Å·¡¸¶°¨ÀÏ &lt;= ADD_MONTHS(SYSDATE, -3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1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 RNUM2, °Å·¡¸¶°¨ÀÏ, 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¾×, DECODE(SIGN(°Å·¡¸¶°¨ÀÏ - ADD_MONTHS(SYSDATE, -3)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-1, ADD_MONTHS(SYSDATE,-3), °Å·¡¸¶°¨ÀÏ) AS °Å·¡¸¶°¨À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 °Å·¡¸¶°¨ÀÏ &lt; SYSDAT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(MAX(°Å·¡¸¶°¨ÀÏ), ADD_MONTHS(SYSDATE,-3)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ADD_MONTHS(SYSDATE , -3)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33ff"/>
                </a:solidFill>
                <a:latin typeface="XXXXXX"/>
                <a:ea typeface="XXXXXX"/>
              </a:rPr>
              <a:t>SELECT 0 AS ÀÜ¾×, SYSDATE AS °Å·¡¸¶°¨ÀÏ FROM DUA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 1 Ä­ Shift À§Ç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V1.RNUM1 + 1  =  V2.RNUM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279360" y="1117440"/>
            <a:ext cx="2075040" cy="36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54560" y="218916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768240" y="4495680"/>
            <a:ext cx="756612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PK   :  ID_NO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IDX1 :  BR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PK   :  ACCT_SEQ + GIJUN_IL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IDX1 :  GIJUN_IL + 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022560" y="1333440"/>
            <a:ext cx="9986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í°´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365720" y="2687760"/>
            <a:ext cx="163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  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014880" y="1333440"/>
            <a:ext cx="18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º° ÀÏÀÏ ÀÜ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2838600" y="3570120"/>
            <a:ext cx="12034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¸¸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983200" y="3568680"/>
            <a:ext cx="19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60¸¸ ROWS / 2 À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4462560" y="2468520"/>
            <a:ext cx="1508040" cy="213120"/>
            <a:chOff x="4462560" y="2468520"/>
            <a:chExt cx="1508040" cy="213120"/>
          </a:xfrm>
        </p:grpSpPr>
        <p:sp>
          <p:nvSpPr>
            <p:cNvPr id="1355" name=""/>
            <p:cNvSpPr/>
            <p:nvPr/>
          </p:nvSpPr>
          <p:spPr>
            <a:xfrm>
              <a:off x="5211720" y="2573280"/>
              <a:ext cx="74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462560" y="2568600"/>
              <a:ext cx="707760" cy="79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62440" y="2468520"/>
              <a:ext cx="308160" cy="213120"/>
            </a:xfrm>
            <a:custGeom>
              <a:avLst/>
              <a:gdLst/>
              <a:ahLst/>
              <a:rect l="0" t="0" r="r" b="b"/>
              <a:pathLst>
                <a:path fill="none" w="856" h="592">
                  <a:moveTo>
                    <a:pt x="838" y="0"/>
                  </a:moveTo>
                  <a:lnTo>
                    <a:pt x="0" y="293"/>
                  </a:lnTo>
                  <a:lnTo>
                    <a:pt x="856" y="59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2720880" y="1795320"/>
            <a:ext cx="1816200" cy="1728720"/>
            <a:chOff x="2720880" y="1795320"/>
            <a:chExt cx="1816200" cy="1728720"/>
          </a:xfrm>
        </p:grpSpPr>
        <p:sp>
          <p:nvSpPr>
            <p:cNvPr id="1359" name=""/>
            <p:cNvSpPr txBox="1"/>
            <p:nvPr/>
          </p:nvSpPr>
          <p:spPr>
            <a:xfrm>
              <a:off x="2720880" y="1795320"/>
              <a:ext cx="181620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ICMF_CU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20880" y="217980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956200" y="1805040"/>
            <a:ext cx="1817640" cy="2156760"/>
            <a:chOff x="5956200" y="1805040"/>
            <a:chExt cx="1817640" cy="2156760"/>
          </a:xfrm>
        </p:grpSpPr>
        <p:sp>
          <p:nvSpPr>
            <p:cNvPr id="1362" name=""/>
            <p:cNvSpPr txBox="1"/>
            <p:nvPr/>
          </p:nvSpPr>
          <p:spPr>
            <a:xfrm>
              <a:off x="5956200" y="1805040"/>
              <a:ext cx="1817640" cy="2156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WDDA_AC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ACCT_S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GIJUN_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R_B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56200" y="218916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14360" y="995400"/>
            <a:ext cx="2401920" cy="32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163600" y="1380960"/>
            <a:ext cx="618984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CUST_NAME,  SUM(B.CUR_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CMF_CUST  A,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ID_NO  =  B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BR_CD = :IBRCD  AND  B.GIJUN_IL = :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 A.CUST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HAVING  SUM(B.CUR_BAL)  &gt;=  :ISUMBAL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217600" y="3773520"/>
            <a:ext cx="7048440" cy="279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ORT  (  GROUP  BY 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ÀüÃ¼ ¹üÀ§ÀÇ ¿øÀ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ICMF_CUST_IDX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WDDA_ACCT_ID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1508040" y="254160"/>
            <a:ext cx="7877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279360" y="1117440"/>
            <a:ext cx="7429680" cy="11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A.CUST_NAME ¶§¹®¿¡ ÀüÃ¼ ¹üÀ§ Ã³¸® -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Ã¹ È­¸éÀÌ ³ª¿À±â±îÁöÀÇ ¼öÇà ¼Óµµ°¡ ³Ê¹« ¿À·¡ °É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 (1) - GROUP BY¸¦ ¾ø¾Ø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744480" y="2320920"/>
            <a:ext cx="7770960" cy="1708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CUST_NAME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(A.ID_NO, :I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AND B.GIJUN_IL = :IDATE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4175280" y="2735280"/>
            <a:ext cx="4376880" cy="438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HAVING SUM(B.CUR_BAL) ÀýÀº ¼­ºêÄõ¸®·Î Ã³¸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327320" y="4060800"/>
            <a:ext cx="7415280" cy="30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FUNCTION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NUMBER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S  SUM_BAL  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M(CUR_BA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INTO  SUM_B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WDDA_ACC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ID_NO = 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IJUN_IL = 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SUM_B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1515960" y="216000"/>
            <a:ext cx="7805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30120" y="1143000"/>
            <a:ext cx="2760840" cy="39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°í·Á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814320" y="1719360"/>
            <a:ext cx="8416800" cy="2232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ILTER   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&lt;-- CHECK ±â´É¸¸ ¼öÇ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   OF  'ICMF_CUST_IDX1'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&lt;-- ºÎºÐ ¹üÀ§ Ã³¸®È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 AGGRE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RANGE SCAN )      OF  'WDDA_ACCT_IDX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967040" y="4257720"/>
            <a:ext cx="7345440" cy="248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. GROUP BY »ç¿ë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¹üÀ§·Î Ã³¸®ÇÔ.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ATCH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üÅÂÀÇ Ã³¸®´Â ´ç¿¬È÷ GROUP BY¸¦ »ç¿ëÇÏ¿©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³¸®ÇÏ´Â °ÍÀÌ ´õ ºü¸£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. FUNCTION »ç¿ë :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ÀûÀ¸·Î ¸ðµç ¹üÀ§ÀÇ µ¥ÀÌÅÍ¸¦ Ã³¸®ÇÏ´Âµ¥´Â ¸Å°Ç¸¶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UNCTIONÀ» ÇÑ¹ø¾¿ ¼öÇàÇÏ¹Ç·Î GROUP BY¸¦ »ç¿ëÇÏ´Â °Íº¸´Ù ´À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Ì¿Í °°Àº SQLÀº ¹Ýµå½Ã Ã¹ È­¸éÀÇ ÀÀ´ä ¼Óµµ¸¦ Áß¿äÇÏ°Ô ¿©±â´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Â¶óÀÎ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Á·Î±×·¥°ú °°Àº ºÐ¾ß¿¡¼­¸¸ »ç¿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1496880" y="254160"/>
            <a:ext cx="782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501480" y="2305080"/>
            <a:ext cx="900108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1.CUST_NAME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CUR_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ID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GIJUN_IL = :IDATE))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ID_NO = V1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V1.CUST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228600" y="1143000"/>
            <a:ext cx="946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NCTIONÀ» »ç¿ëÇÏÁö ¾Ê±â À§ÇØ¼­ IN-LINE VIEW¸¦ »ç¿ëÇÑ´Ù¸é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ºÎºÐ¹üÀ§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500120" y="5526000"/>
            <a:ext cx="450864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GROUP BY Àý »ç¿ë : 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155088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26880" y="5126040"/>
            <a:ext cx="9431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 : CUSTOMER_PK :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 : SALE_PK     : SALEDATE + CUST_NO +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 : PRODUCT_PK  :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3589200" y="1898640"/>
            <a:ext cx="2135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¸ÅÃâ°Å·¡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6854760" y="1898640"/>
            <a:ext cx="152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¹°Ç°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917640" y="1871640"/>
            <a:ext cx="147312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°í°´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741240" y="2346480"/>
            <a:ext cx="1895400" cy="251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_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58880" y="2765520"/>
            <a:ext cx="1851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654360" y="2360520"/>
            <a:ext cx="2004840" cy="244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62280" y="2765520"/>
            <a:ext cx="198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703920" y="2347920"/>
            <a:ext cx="1889280" cy="2433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UNIT_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719760" y="27655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2595600" y="3252960"/>
            <a:ext cx="1009440" cy="185400"/>
            <a:chOff x="2595600" y="3252960"/>
            <a:chExt cx="1009440" cy="185400"/>
          </a:xfrm>
        </p:grpSpPr>
        <p:sp>
          <p:nvSpPr>
            <p:cNvPr id="1394" name=""/>
            <p:cNvSpPr/>
            <p:nvPr/>
          </p:nvSpPr>
          <p:spPr>
            <a:xfrm>
              <a:off x="306072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59560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909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956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5678640" y="3252960"/>
            <a:ext cx="1009440" cy="185400"/>
            <a:chOff x="5678640" y="3252960"/>
            <a:chExt cx="1009440" cy="185400"/>
          </a:xfrm>
        </p:grpSpPr>
        <p:sp>
          <p:nvSpPr>
            <p:cNvPr id="1399" name=""/>
            <p:cNvSpPr/>
            <p:nvPr/>
          </p:nvSpPr>
          <p:spPr>
            <a:xfrm flipH="1">
              <a:off x="567864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20568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33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56880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 txBox="1"/>
          <p:nvPr/>
        </p:nvSpPr>
        <p:spPr>
          <a:xfrm>
            <a:off x="338040" y="1112760"/>
            <a:ext cx="9534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Ü¼ø È®ÀÎÀ» À§ÇÑ ¿ëµµ·Î µðÅ×ÀÏ Å×ÀÌºíÀÌ ¸¶½ºÅ¸ Å×ÀÌºíÀ» JOINÇÒ ¶§ÀÇ °³¼± ¹æ¹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561960" y="3559320"/>
            <a:ext cx="7791480" cy="2784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 ( RANGE SCAN )  OF  'SALE_PK' 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INDEX  ( UNIQUE SCAN )  OF  'CUSTOMER_PK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312840" y="1116000"/>
            <a:ext cx="842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582480" y="1536840"/>
            <a:ext cx="7167600" cy="186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ALE  A,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 '19950101'  AND 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SALE_AMT &gt;= 1000  AND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CUST_NO = </a:t>
            </a:r>
            <a:r>
              <a:rPr b="1" lang="en-US" sz="1800" spc="-1" strike="noStrike">
                <a:solidFill>
                  <a:srgbClr val="ff33ff"/>
                </a:solidFill>
                <a:latin typeface="XXXXXX"/>
                <a:ea typeface="XXXXXX"/>
              </a:rPr>
              <a:t>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B.BR_NO  BETWEEN  'B10001'   AND   'B10100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7497720" y="2855880"/>
            <a:ext cx="141300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.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9360" y="1117440"/>
            <a:ext cx="1968480" cy="26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84280" y="228600"/>
            <a:ext cx="829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20840" y="3807000"/>
            <a:ext cx="796752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  SELECT  ID_NO, GRADE  FROM  CUSTOMER_TM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FOR ( ; ;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{   FETCH  C  INTO  :ID_NO,  :GRADE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UNT(*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INTO :CNT_ID  FROM  CUSTOMER  WHERE 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 ( CNT_ID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==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0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THEN  CHECK_EXIST = "E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{  CHECK_EXIST = "E00"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GRADE INTO :GRADE2  FROM  CUSTOMER  WHERE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( GRADE1 == GRADE2 )  THEN  CHECK_GRADE = "G0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CHECK_GRADE = "G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OSE  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85960" y="1120680"/>
            <a:ext cx="165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È®ÀÎ´ë»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áÁ¤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56240" y="112068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Á¤½Äµî·Ï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1600" y="2514600"/>
            <a:ext cx="769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20920" y="251460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61120" y="1471680"/>
            <a:ext cx="3314880" cy="1846440"/>
          </a:xfrm>
          <a:prstGeom prst="rect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È®ÀÎ´ë»ó °í°´ÀÌ Á¤½Ä°í°´¿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¸ÀçÇÏ¸é E00 ¾Æ´Ï¸é E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00 Á¸ÀçÇÒ °æ¿ì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ADE °ªÀÌ °°À¸¸é G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Ù¸£¸é G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51120" y="1434960"/>
            <a:ext cx="1616040" cy="21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47880" y="1901880"/>
            <a:ext cx="160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87840" y="1436760"/>
            <a:ext cx="1362240" cy="18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0" y="18795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 txBox="1"/>
          <p:nvPr/>
        </p:nvSpPr>
        <p:spPr>
          <a:xfrm>
            <a:off x="249120" y="1117440"/>
            <a:ext cx="9566280" cy="8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 È½¼ö°¡ ³Ê¹« ¸¹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8356680" y="2868480"/>
            <a:ext cx="11304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87680" y="2043000"/>
            <a:ext cx="43020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469880" y="2952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830240" y="2952720"/>
            <a:ext cx="0" cy="11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397160" y="4081320"/>
            <a:ext cx="43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955800" y="3340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8760" y="2039760"/>
            <a:ext cx="1150920" cy="361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971720" y="2460600"/>
            <a:ext cx="129852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51200" y="3141720"/>
            <a:ext cx="1241280" cy="1514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965240" y="2982960"/>
            <a:ext cx="1255680" cy="360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965240" y="2738520"/>
            <a:ext cx="1255680" cy="8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2178000" y="312120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971720" y="4081320"/>
            <a:ext cx="1235160" cy="951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849920" y="2030400"/>
            <a:ext cx="39672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04820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114960" y="2048040"/>
            <a:ext cx="1150920" cy="36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13520" y="2813040"/>
            <a:ext cx="1385640" cy="241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84720" y="3286080"/>
            <a:ext cx="1384200" cy="108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5543640" y="31827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87960" y="4729320"/>
            <a:ext cx="1380960" cy="27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322880" y="5719680"/>
            <a:ext cx="1204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14600" y="2460600"/>
            <a:ext cx="1581120" cy="79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394080" y="2752560"/>
            <a:ext cx="1573200" cy="99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422520" y="2824200"/>
            <a:ext cx="163224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157640" y="317988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414600" y="4021200"/>
            <a:ext cx="1495440" cy="623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414600" y="4692600"/>
            <a:ext cx="149724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772320" y="3054240"/>
            <a:ext cx="1471680" cy="101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25924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786720" y="2930400"/>
            <a:ext cx="1485720" cy="143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507440" y="31035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6800760" y="4179960"/>
            <a:ext cx="1414440" cy="82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7283520" y="2374920"/>
            <a:ext cx="9270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032280" y="5719680"/>
            <a:ext cx="5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6208560" y="5719680"/>
            <a:ext cx="100008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268280" y="5767560"/>
            <a:ext cx="1204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681120" y="3666960"/>
            <a:ext cx="8035920" cy="31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NESTED 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VIEW  OF  ' FROM$_SUBQUERY$_  1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8800               SORT ( GROUP B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   TABLE  ACCESS ( BY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      INDEX ( RANGE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TABLE 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   INDEX ( UNIQUE SCAN ) OF  ' PK_CUSTOMER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49120" y="974880"/>
            <a:ext cx="9634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IN-LINE VIEW¸¦ ÀÌ¿ë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63680" y="1403280"/>
            <a:ext cx="87901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CNT)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(SELECT  CUST_NO, COUNT(*)  AS  C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DATE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CUST_NO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V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CUST_NO = B.CUST_NO  AND  B.BR_NO BETWEEN 'B10001' AND 'B10100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7696080" y="1395360"/>
            <a:ext cx="157176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1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4097160" y="2440080"/>
            <a:ext cx="1050840" cy="236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8664480" y="2452680"/>
            <a:ext cx="1025640" cy="236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08160" y="1889280"/>
            <a:ext cx="473040" cy="34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69840" y="277020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65120" y="277020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890640" y="386244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404640" y="3151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80202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381400" y="1886040"/>
            <a:ext cx="1263600" cy="349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523880" y="2293920"/>
            <a:ext cx="1420920" cy="476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523880" y="2838600"/>
            <a:ext cx="1346400" cy="1636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486080" y="2824200"/>
            <a:ext cx="1346040" cy="546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18320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523880" y="3862440"/>
            <a:ext cx="1346400" cy="88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668920" y="1922400"/>
            <a:ext cx="434880" cy="349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589800" y="1893960"/>
            <a:ext cx="1263600" cy="35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024600" y="3084480"/>
            <a:ext cx="94932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027840" y="3421080"/>
            <a:ext cx="1063440" cy="80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61437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024600" y="4578480"/>
            <a:ext cx="1003320" cy="218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5265720" y="5487840"/>
            <a:ext cx="1155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090960" y="2290680"/>
            <a:ext cx="1442880" cy="5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05000" y="2637000"/>
            <a:ext cx="1400400" cy="41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6892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05000" y="4324320"/>
            <a:ext cx="127008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7305840" y="4610160"/>
            <a:ext cx="1292040" cy="190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60930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7334280" y="2844720"/>
            <a:ext cx="1162080" cy="1278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9390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554200" y="552456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580080" y="552456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8534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3090960" y="4613400"/>
            <a:ext cx="1298520" cy="158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105000" y="2592360"/>
            <a:ext cx="1357560" cy="274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76840" y="2951280"/>
            <a:ext cx="1092240" cy="377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4765680" y="2801880"/>
            <a:ext cx="10954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4826160" y="4584600"/>
            <a:ext cx="1008000" cy="19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2052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513252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668760" y="204300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98400" y="5524560"/>
            <a:ext cx="14493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358040" y="2592360"/>
            <a:ext cx="1203480" cy="57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255600" y="1190520"/>
            <a:ext cx="959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IN-LINE VIEW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1192320" y="4240080"/>
            <a:ext cx="7216920" cy="2371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SORT ( AGGREGAT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( BY 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( RANGE 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TABLE ACCESS ( BY  ROWID ) OF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INDEX ( UNIQUE  SCAN ) OF 'PK_CUSTOMER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276120" y="1100160"/>
            <a:ext cx="9253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EXISTS¸¦ ÀÌ¿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525680" y="29376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565200" y="1609560"/>
            <a:ext cx="78343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= 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BR_NO  BETWEEN 'B10001' AND 'B10100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6988320" y="1612800"/>
            <a:ext cx="140976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08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917960" y="5078520"/>
            <a:ext cx="1139760" cy="87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652760" y="1868400"/>
            <a:ext cx="43488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1184400" y="5465880"/>
            <a:ext cx="13636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430280" y="2754360"/>
            <a:ext cx="36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795320" y="2754360"/>
            <a:ext cx="0" cy="10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162080" y="38527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911160" y="31291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741760" y="1866960"/>
            <a:ext cx="1162080" cy="35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940040" y="2276640"/>
            <a:ext cx="1309680" cy="477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940040" y="2825640"/>
            <a:ext cx="1238040" cy="1643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1940040" y="2938320"/>
            <a:ext cx="1193760" cy="9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1940040" y="2619360"/>
            <a:ext cx="1238040" cy="549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21891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40040" y="3852720"/>
            <a:ext cx="1238040" cy="89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163080" y="1908000"/>
            <a:ext cx="40176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786720" y="1913040"/>
            <a:ext cx="1162080" cy="351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7986600" y="2903400"/>
            <a:ext cx="1441440" cy="212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8013600" y="3695760"/>
            <a:ext cx="1384560" cy="57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8318520" y="310500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8531280" y="5580000"/>
            <a:ext cx="1324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395520" y="2276640"/>
            <a:ext cx="1405080" cy="771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205160" y="286560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421080" y="3873600"/>
            <a:ext cx="1438200" cy="61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8335800" y="246384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2836800" y="551484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6791400" y="555480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6134040" y="2946240"/>
            <a:ext cx="762120" cy="432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302520" y="319392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6172200" y="4191120"/>
            <a:ext cx="800280" cy="368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6089760" y="2666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403440" y="2976480"/>
            <a:ext cx="130824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3417840" y="4456080"/>
            <a:ext cx="133200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84040" y="1190520"/>
            <a:ext cx="956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EXISTS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876920" y="2870280"/>
            <a:ext cx="1193760" cy="1346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499000" y="4622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486400" y="6006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5226120" y="6419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041560" y="19987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76800" y="2341440"/>
            <a:ext cx="307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5226120" y="426096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¹ÀâÇÑ ¿ä±¸»çÇ×À» Ã³¸®ÇÏ±â À§ÇÑ DYNAMIC SQLÀ» ÇÏ³ªÀÇ SQL·Î Ã³¸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1511280" y="228600"/>
            <a:ext cx="8226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744560" y="4497480"/>
            <a:ext cx="3944880" cy="182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1776240" y="4578480"/>
            <a:ext cx="947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ÀüÇ¥¹øÈ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25621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75760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»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14784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34332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7339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92904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´ë¸®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51656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71168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¸ÅÃâ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1776240" y="50450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0        SEL    GB      D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1776240" y="527832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1        SEL    GN      E      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1776240" y="5511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2        PUS    GS      A       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1776240" y="57452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3        PUS    SG      B      1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1776240" y="5979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4        DJN    DG      C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762200" y="4973760"/>
            <a:ext cx="393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937120" y="3668760"/>
            <a:ext cx="2793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906640" y="4087800"/>
            <a:ext cx="144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753240" y="2325600"/>
            <a:ext cx="1028520" cy="397080"/>
            <a:chOff x="6753240" y="2325600"/>
            <a:chExt cx="1028520" cy="397080"/>
          </a:xfrm>
        </p:grpSpPr>
        <p:grpSp>
          <p:nvGrpSpPr>
            <p:cNvPr id="1563" name=""/>
            <p:cNvGrpSpPr/>
            <p:nvPr/>
          </p:nvGrpSpPr>
          <p:grpSpPr>
            <a:xfrm>
              <a:off x="6753240" y="2517840"/>
              <a:ext cx="1028520" cy="1440"/>
              <a:chOff x="6753240" y="2517840"/>
              <a:chExt cx="1028520" cy="1440"/>
            </a:xfrm>
          </p:grpSpPr>
          <p:sp>
            <p:nvSpPr>
              <p:cNvPr id="1564" name=""/>
              <p:cNvSpPr/>
              <p:nvPr/>
            </p:nvSpPr>
            <p:spPr>
              <a:xfrm>
                <a:off x="675324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9144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6753240" y="2325600"/>
              <a:ext cx="203040" cy="397080"/>
              <a:chOff x="6753240" y="2325600"/>
              <a:chExt cx="203040" cy="397080"/>
            </a:xfrm>
          </p:grpSpPr>
          <p:sp>
            <p:nvSpPr>
              <p:cNvPr id="1567" name=""/>
              <p:cNvSpPr/>
              <p:nvPr/>
            </p:nvSpPr>
            <p:spPr>
              <a:xfrm flipH="1" flipV="1">
                <a:off x="6759720" y="232560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675324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9" name=""/>
          <p:cNvGrpSpPr/>
          <p:nvPr/>
        </p:nvGrpSpPr>
        <p:grpSpPr>
          <a:xfrm>
            <a:off x="4287960" y="2325600"/>
            <a:ext cx="1028520" cy="397080"/>
            <a:chOff x="4287960" y="2325600"/>
            <a:chExt cx="1028520" cy="397080"/>
          </a:xfrm>
        </p:grpSpPr>
        <p:grpSp>
          <p:nvGrpSpPr>
            <p:cNvPr id="1570" name=""/>
            <p:cNvGrpSpPr/>
            <p:nvPr/>
          </p:nvGrpSpPr>
          <p:grpSpPr>
            <a:xfrm>
              <a:off x="4287960" y="2517840"/>
              <a:ext cx="1028520" cy="1440"/>
              <a:chOff x="4287960" y="2517840"/>
              <a:chExt cx="1028520" cy="1440"/>
            </a:xfrm>
          </p:grpSpPr>
          <p:sp>
            <p:nvSpPr>
              <p:cNvPr id="1571" name=""/>
              <p:cNvSpPr/>
              <p:nvPr/>
            </p:nvSpPr>
            <p:spPr>
              <a:xfrm>
                <a:off x="4287960" y="251784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82616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4287960" y="2325600"/>
              <a:ext cx="203040" cy="397080"/>
              <a:chOff x="4287960" y="2325600"/>
              <a:chExt cx="203040" cy="397080"/>
            </a:xfrm>
          </p:grpSpPr>
          <p:sp>
            <p:nvSpPr>
              <p:cNvPr id="1574" name=""/>
              <p:cNvSpPr/>
              <p:nvPr/>
            </p:nvSpPr>
            <p:spPr>
              <a:xfrm flipH="1" flipV="1">
                <a:off x="429408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4287960" y="252576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1919160" y="2325600"/>
            <a:ext cx="1028880" cy="397080"/>
            <a:chOff x="1919160" y="2325600"/>
            <a:chExt cx="1028880" cy="397080"/>
          </a:xfrm>
        </p:grpSpPr>
        <p:grpSp>
          <p:nvGrpSpPr>
            <p:cNvPr id="1577" name=""/>
            <p:cNvGrpSpPr/>
            <p:nvPr/>
          </p:nvGrpSpPr>
          <p:grpSpPr>
            <a:xfrm>
              <a:off x="1919160" y="2517840"/>
              <a:ext cx="1028880" cy="1440"/>
              <a:chOff x="1919160" y="2517840"/>
              <a:chExt cx="1028880" cy="1440"/>
            </a:xfrm>
          </p:grpSpPr>
          <p:sp>
            <p:nvSpPr>
              <p:cNvPr id="1578" name=""/>
              <p:cNvSpPr/>
              <p:nvPr/>
            </p:nvSpPr>
            <p:spPr>
              <a:xfrm>
                <a:off x="191916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457360" y="2519280"/>
                <a:ext cx="49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19160" y="2325600"/>
              <a:ext cx="203400" cy="397080"/>
              <a:chOff x="1919160" y="2325600"/>
              <a:chExt cx="203400" cy="397080"/>
            </a:xfrm>
          </p:grpSpPr>
          <p:sp>
            <p:nvSpPr>
              <p:cNvPr id="1581" name=""/>
              <p:cNvSpPr/>
              <p:nvPr/>
            </p:nvSpPr>
            <p:spPr>
              <a:xfrm flipH="1" flipV="1">
                <a:off x="192564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191916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493560" y="1909800"/>
            <a:ext cx="1432080" cy="2179440"/>
            <a:chOff x="493560" y="1909800"/>
            <a:chExt cx="1432080" cy="2179440"/>
          </a:xfrm>
        </p:grpSpPr>
        <p:sp>
          <p:nvSpPr>
            <p:cNvPr id="1584" name=""/>
            <p:cNvSpPr txBox="1"/>
            <p:nvPr/>
          </p:nvSpPr>
          <p:spPr>
            <a:xfrm>
              <a:off x="493560" y="1909800"/>
              <a:ext cx="1432080" cy="2179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üÇ¥¹øÈ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3560" y="233676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829640" y="1909800"/>
            <a:ext cx="1432080" cy="852480"/>
            <a:chOff x="7829640" y="1909800"/>
            <a:chExt cx="1432080" cy="852480"/>
          </a:xfrm>
        </p:grpSpPr>
        <p:sp>
          <p:nvSpPr>
            <p:cNvPr id="1587" name=""/>
            <p:cNvSpPr txBox="1"/>
            <p:nvPr/>
          </p:nvSpPr>
          <p:spPr>
            <a:xfrm>
              <a:off x="7829640" y="1909800"/>
              <a:ext cx="1432080" cy="8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ö»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29640" y="233028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"/>
          <p:cNvSpPr txBox="1"/>
          <p:nvPr/>
        </p:nvSpPr>
        <p:spPr>
          <a:xfrm>
            <a:off x="5337000" y="1909800"/>
            <a:ext cx="1432080" cy="116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* Áö»ç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346720" y="2320920"/>
            <a:ext cx="142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868480" y="1909800"/>
            <a:ext cx="1441440" cy="1506240"/>
            <a:chOff x="2868480" y="1909800"/>
            <a:chExt cx="1441440" cy="1506240"/>
          </a:xfrm>
        </p:grpSpPr>
        <p:sp>
          <p:nvSpPr>
            <p:cNvPr id="1592" name=""/>
            <p:cNvSpPr txBox="1"/>
            <p:nvPr/>
          </p:nvSpPr>
          <p:spPr>
            <a:xfrm>
              <a:off x="2868480" y="1909800"/>
              <a:ext cx="1432080" cy="1506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ë¸®Á¡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89360" y="233676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»ùÇÃµ¥ÀÌÅ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625920" y="2133720"/>
            <a:ext cx="2592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¸°è´ÜÀ§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1584360" y="2957400"/>
            <a:ext cx="686448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SEL    PUS    DJN    1   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DGU    USN           1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2  (ÁöÁ¡º°)     GB     GN     GS     2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3  (´ë¸®Á¡º°)   A      B             3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1  (Áö»çº°)     SEL    PUS           1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2  (ÁöÁ¡º°)     GN     GD       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3  (´ë¸®Á¡º°)   A      B      C      3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1136520" y="3076560"/>
            <a:ext cx="412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84360" y="2556000"/>
            <a:ext cx="6862680" cy="39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¯Çü±×·ì  À¯Çü (À¯ÇüÀÌ¸§)  ´ë»ó1  ´ë»ó2  ´ë»ó3  UNIT  A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701800" y="2549520"/>
            <a:ext cx="5062680" cy="2957400"/>
            <a:chOff x="2701800" y="2549520"/>
            <a:chExt cx="5062680" cy="2957400"/>
          </a:xfrm>
        </p:grpSpPr>
        <p:sp>
          <p:nvSpPr>
            <p:cNvPr id="1602" name=""/>
            <p:cNvSpPr/>
            <p:nvPr/>
          </p:nvSpPr>
          <p:spPr>
            <a:xfrm>
              <a:off x="2701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73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28956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3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644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1517760" y="254160"/>
            <a:ext cx="852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38120" y="1538280"/>
            <a:ext cx="913284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CURSOR  EXP_CURSOR IS  SELECT  *  FROM È¸°è´ÜÀ§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OPEN EXP_CURSO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FETCH  EXP_CURSOR  INTO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EXP_RE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1530360" y="266760"/>
            <a:ext cx="8485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17520" y="102888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(°è¼Ó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588960" y="1522440"/>
            <a:ext cx="8910720" cy="529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E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79360" y="1117440"/>
            <a:ext cx="924876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³»¿¡¼­ È¸°è´ÜÀ§ Å×ÀÌºí ¸Å°Ç ¸¶´Ù SELECT SUM(¸ÅÃâ¾×)°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¹Ýº¹ ¼öÇàÀ¸·Î ¼º´É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611280" y="2803680"/>
            <a:ext cx="8085240" cy="3729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Åë°èÅ×ÀÌºí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UNIT, ACCT, MECH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UNIT, A.ACCT, SUM(¸ÅÃâ¾×) MECHU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È¸°è´ÜÀ§ A, ¸ÅÃâ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( A.À¯Çü±×·ì = '+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 ( A.À¯Çü±×·ì = '-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OT 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UNIT, ACC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496880" y="228600"/>
            <a:ext cx="8345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4200" y="1303200"/>
            <a:ext cx="8997840" cy="4043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ID_NO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ID_NO, NULL, 'E01', 'E00'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GRADE, NULL, NULL, A.GRADE, 'G00', 'G01'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USTOMER_TMP  A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A.ID_NO  =  B.ID_NO(+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C  INTO  :ID_NO,  :CHECK_EXIST, :CHECK_GRAD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69960" y="243000"/>
            <a:ext cx="730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05120" y="3862440"/>
            <a:ext cx="2666880" cy="249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«µå¿¥º¸½Ì³»¿ª  Å×ÀÌº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¯Ç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¢¼ö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¹ßÇà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¿µ¾÷Á¡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3120" y="1193760"/>
            <a:ext cx="8589960" cy="24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UTER Á¶ÀÎ°ú DECODE¸¦ ÀÌ¿ëÇÏ¿© º¹ÀâÇÑ ·ÎÁ÷À» °£´ÜÈ÷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¿ä±¸ »çÇ×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ÀÔ·ÂµÈ Ä«µå¹øÈ£¿¡ ¿¥º¸½ÌÀÌ ¿ä±¸µÉ °æ¿ì ÃÖÃÊ ¿¥º¸½ÌÀÏ °æ¿ì¿¡´Â ÀÏ·Ã¹øÈ£¸¦ 1·Î ¼ÂÆÃÇÏ°í,ÀÌ¹Ì ¿¥º¸½ÌÀÌ µÈ °æ¿ì¿¡´Â ÀÔ·ÂµÈ Ä«µå¹øÈ£ÀÇ ÀÏ·Ã¹øÈ£ Áß ÃÖ´ë ¹øÈ£ (MAX ÀÏ·Ã¹øÈ£)¸¦ Ã£¾Æ¼­ ±× ¹øÈ£¿¡ +1 À» ÇÏ¿© Ä«µå¿¥º¸½Ì³»¿ª¿¡ INSERT ÇÑ´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4480" y="4325760"/>
            <a:ext cx="264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0960" y="1781280"/>
            <a:ext cx="940428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AX(ÀÏ·Ã¹øÈ£) +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INTO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ÀÔ·ÂÄ«µå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F (SQLCA.SQLCODE  = =  140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/*  Ä«µå¹øÈ£  NOT  FOUND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Ï¹ÝÀûÀÎ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3440" y="1295280"/>
            <a:ext cx="8496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1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UTER JOINÀ» »ç¿ëÇÏ¿© ÇÑ¹ø¿¡ INSERT·Î ÀÛ¾÷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7560" y="3033720"/>
            <a:ext cx="8618400" cy="2914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B TBCARDEMBO_PK) USE_NL(A B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Ô·ÂÄ«µå¹øÈ£, DECODE(B.Ä«µå¹øÈ£, NULL, 1, B.ÀÏ·Ã¹øÈ£+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¯Çü, :Á¢¼öÀÏÀÚ, :¹ßÇàÀÏÀÚ, :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Ä«µå¿¥º¸½Ì³»¿ª 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SELECT  :ÀÔ·ÂÄ«µå¹øÈ£  AS  ÀÔ·ÂÄ«µå¹øÈ£  FROM  DUAL)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Ô·ÂÄ«µå¹øÈ£ = B.Ä«µå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40560" y="2454120"/>
            <a:ext cx="2452680" cy="90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ORT MERGE·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®¸®´Â °Í ¹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960" y="1219320"/>
            <a:ext cx="1860480" cy="28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5600" y="1265400"/>
            <a:ext cx="6605640" cy="21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724360" y="2227320"/>
            <a:ext cx="942120" cy="163800"/>
            <a:chOff x="5724360" y="2227320"/>
            <a:chExt cx="942120" cy="163800"/>
          </a:xfrm>
        </p:grpSpPr>
        <p:sp>
          <p:nvSpPr>
            <p:cNvPr id="251" name=""/>
            <p:cNvSpPr/>
            <p:nvPr/>
          </p:nvSpPr>
          <p:spPr>
            <a:xfrm>
              <a:off x="6242040" y="2303640"/>
              <a:ext cx="409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4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4208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07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94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81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768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358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945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532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58040" y="2227320"/>
              <a:ext cx="208440" cy="163800"/>
            </a:xfrm>
            <a:custGeom>
              <a:avLst/>
              <a:gdLst/>
              <a:ahLst/>
              <a:rect l="0" t="0" r="r" b="b"/>
              <a:pathLst>
                <a:path fill="none" w="579" h="455">
                  <a:moveTo>
                    <a:pt x="562" y="0"/>
                  </a:moveTo>
                  <a:lnTo>
                    <a:pt x="0" y="220"/>
                  </a:lnTo>
                  <a:lnTo>
                    <a:pt x="579" y="4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002120" y="1411200"/>
            <a:ext cx="1787400" cy="19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30560" y="149220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9760" y="1515960"/>
            <a:ext cx="26028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30560" y="1771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00640" y="177156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30560" y="2014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400640" y="2014560"/>
            <a:ext cx="6429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30560" y="225900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00640" y="2259000"/>
            <a:ext cx="11001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¹Îµî·Ï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30560" y="250344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00640" y="2503440"/>
            <a:ext cx="133020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ÄÚµå (F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30560" y="2747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400640" y="2747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µî±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30560" y="2990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00640" y="2990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µî·Ï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45240" y="1585800"/>
            <a:ext cx="1568520" cy="170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673680" y="16668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0080" y="1666800"/>
            <a:ext cx="125244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º¯°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673680" y="194616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970680" y="19461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673680" y="2190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70680" y="219060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Àû¿ë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673680" y="2433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970680" y="2433600"/>
            <a:ext cx="7952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673680" y="267804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970680" y="2678040"/>
            <a:ext cx="1100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»ç¿ø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673680" y="292248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70680" y="292248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±¸º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61440" y="2922480"/>
            <a:ext cx="6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48480" y="1932120"/>
            <a:ext cx="156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1800" y="1628640"/>
            <a:ext cx="1347840" cy="122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830240" y="171144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98800" y="1711440"/>
            <a:ext cx="71928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27360" y="1989000"/>
            <a:ext cx="1254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¿µ¾÷Á¡ÄÚµ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830240" y="22334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27240" y="223344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830240" y="24782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27240" y="2478240"/>
            <a:ext cx="488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01800" y="197496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149640" y="2232000"/>
            <a:ext cx="856080" cy="147960"/>
            <a:chOff x="3149640" y="2232000"/>
            <a:chExt cx="856080" cy="147960"/>
          </a:xfrm>
        </p:grpSpPr>
        <p:sp>
          <p:nvSpPr>
            <p:cNvPr id="303" name=""/>
            <p:cNvSpPr/>
            <p:nvPr/>
          </p:nvSpPr>
          <p:spPr>
            <a:xfrm>
              <a:off x="3619440" y="2300400"/>
              <a:ext cx="37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55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9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2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6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68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2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6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2916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4920" y="2232000"/>
              <a:ext cx="190800" cy="147960"/>
            </a:xfrm>
            <a:custGeom>
              <a:avLst/>
              <a:gdLst/>
              <a:ahLst/>
              <a:rect l="0" t="0" r="r" b="b"/>
              <a:pathLst>
                <a:path fill="none" w="530" h="411">
                  <a:moveTo>
                    <a:pt x="510" y="0"/>
                  </a:moveTo>
                  <a:lnTo>
                    <a:pt x="0" y="199"/>
                  </a:lnTo>
                  <a:lnTo>
                    <a:pt x="530" y="4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3200" y="3695760"/>
            <a:ext cx="9004320" cy="2882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383000" y="1492200"/>
            <a:ext cx="9270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14720" y="175752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4912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9040" y="1654200"/>
            <a:ext cx="932328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UST_CU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CURSOR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 B.¿µ¾÷Á¡¸í, A.°í°´¹øÈ£, A.°í°´¸í,  A.ÁÖ¹Îµî·Ï¹øÈ£, A.µî±Þ, A.µî·ÏÀÏÀ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 °í°´ A,  ¿µ¾÷Á¡ B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 B.¿µ¾÷Á¡ÄÚµå = 'A15'  AND  A.¿µ¾÷Á¡ÄÚµå = B.¿µ¾÷Á¡ÄÚµå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330099"/>
                </a:solidFill>
                <a:latin typeface="XXXXXX"/>
                <a:ea typeface="XXXXXX"/>
              </a:rPr>
              <a:t>FOR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{  EXEC SQL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FETCH CUST_CUR  INTO :CUST_LIS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¹ß¼ÛÁÖ¼Ò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°í°´¹øÈ£ = :CUST_LIS.°í°´¹øÈ£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Àû¿ëÀÏÀÚ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= (SELECT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MAX(Àû¿ëÀÏÀÚ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B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B.°í°´¹øÈ£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IF (SQLCA.SQLCODE == 1403 )   /*  ÁÖ¼Ò°¡  µî·ÏµÇÁö  ¾Ê¾ÒÀ½   */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CONTINU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56996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196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LOOP³»¿¡¼­ÀÇ SQL¹®ÀÇ ¹Ýº¹½Ç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49360" y="2763720"/>
            <a:ext cx="9178920" cy="3637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CUST_CUR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/*+  INDEX(C  ¹ß¼ÛÁÖ¼Òº¯°æ_PK)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.¿µ¾÷Á¡¸í,  A.°í°´¹øÈ£,  A.°í°´¸í,   A.ÁÖ¹Îµî·Ï¹øÈ£,  A.µî±Þ,  A.µî·ÏÀÏÀ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¹ß¼ÛÁÖ¼Ò,  C.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°í°´   A,  ¿µ¾÷Á¡  B,  ¹ß¼ÛÁÖ¼Òº¯°æ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B.¿µ¾÷Á¡ÄÚµå = 'A15'  AND  A.¿µ¾÷Á¡ÄÚµå = B.¿µ¾÷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°í°´¹øÈ£ = C.°í°´¹øÈ£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°í°´¹øÈ£  IS  NULL  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.Àû¿ëÀÏÀÚ(+) = (SELECT.... ) ´Â ¾Èµ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Àû¿ëÀÏÀÚ =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D ¹ß¼ÛÁÖ¼Òº¯°æ_PK)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 D.°í°´¹øÈ£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) 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230652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19520" y="230652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1920" y="235728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41920" y="235728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669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835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234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7880" y="4902120"/>
            <a:ext cx="17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525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231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44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19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2800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57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16624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166240" y="257184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16624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16624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16624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18532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8420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384200" y="257184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8420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4000" y="4627440"/>
            <a:ext cx="1124280" cy="641880"/>
          </a:xfrm>
          <a:custGeom>
            <a:avLst/>
            <a:gdLst/>
            <a:ahLst/>
            <a:rect l="0" t="0" r="r" b="b"/>
            <a:pathLst>
              <a:path w="3123" h="1783">
                <a:moveTo>
                  <a:pt x="0" y="594"/>
                </a:moveTo>
                <a:lnTo>
                  <a:pt x="0" y="1187"/>
                </a:lnTo>
                <a:lnTo>
                  <a:pt x="2186" y="1187"/>
                </a:lnTo>
                <a:lnTo>
                  <a:pt x="2186" y="1783"/>
                </a:lnTo>
                <a:lnTo>
                  <a:pt x="3123" y="891"/>
                </a:lnTo>
                <a:lnTo>
                  <a:pt x="2186" y="0"/>
                </a:lnTo>
                <a:lnTo>
                  <a:pt x="2186" y="594"/>
                </a:lnTo>
                <a:lnTo>
                  <a:pt x="0" y="594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950240" y="4890960"/>
            <a:ext cx="1771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59080" y="5367240"/>
            <a:ext cx="185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NCATE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87800" y="27115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78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878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878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68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134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13400" y="271152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134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4134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134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324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3760" y="5815080"/>
            <a:ext cx="8945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363680" y="1644480"/>
            <a:ext cx="7754760" cy="5330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  </a:t>
            </a:r>
            <a:r>
              <a:rPr b="1" lang="en-US" sz="1200" spc="-1" strike="noStrike">
                <a:solidFill>
                  <a:srgbClr val="660033"/>
                </a:solidFill>
                <a:latin typeface="XXXXXX"/>
                <a:ea typeface="XXXXXX"/>
              </a:rPr>
              <a:t>/*&lt;- ÃÖ°í Å« ´ÞÀÇ ÀÏÀÚ ¸¸Å­ ¹Ýº¹ÇÏ¸é¼­ »ó¼¼ Á¶°ÇÀº WHERE ¿¡¼­ Á¶Á¤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A.Ãâ°í¼ö·®), SUM(A.Ãâ°í¼ö·®*B.¿äÃ»´Ü°¡) Ãâ°í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9900cc"/>
                </a:solidFill>
                <a:latin typeface="XXXXXX"/>
                <a:ea typeface="XXXXXX"/>
              </a:rPr>
              <a:t>Á¦Ç°Ãâ°í³»¿ª A, ÁÖ¹®³»¿ª B, »ç¾çÇ×¸ñ³»¿ª C,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¼±ÅÃ»ç¾ç D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â   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   = B.ÁÖ¹®¿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¹øÈ£ 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¦Ç°ÀÏ·Ã¹øÈ£ =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ÀÏ·Ã¹øÈ£         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/*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&lt;-- D.ÀÏ·Ã¹øÈ£ : PK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ºÐ·ùÄÚµå = D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±Ô°Ý     = D.±Ô°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Á¦Ç°ÀÏ·Ã¹øÈ£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.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ºÎ¼­ÄÚµå =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= 9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)) &lt;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760" y="985680"/>
            <a:ext cx="95248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¢ ¿ùÀÇ ÀÏÀÚº°·Î Ãâ°í ¼ö·®, Ãâ°í ±Ý¾×ÀÇ ÇÕ°è¸¦ ±¸ÇÑ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42200" y="6105600"/>
            <a:ext cx="127800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º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075440" y="3017880"/>
            <a:ext cx="26193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 -&gt; D -&gt; B -&gt; E -&gt;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14320" y="1208160"/>
            <a:ext cx="7751880" cy="478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    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INSER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309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9360   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74            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6408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38280" y="5535720"/>
            <a:ext cx="81504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 ´©Àû°ªÀ» ±¸ÇÏ±â À§ÇØ ¸Å¹ø ±× ³¯±îÁöÀÇ ´©Àû ÇÕÀ» ¹Ýº¹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88240" y="3522600"/>
            <a:ext cx="628560" cy="22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6880" y="1069920"/>
            <a:ext cx="1911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9200" y="1479600"/>
            <a:ext cx="7729560" cy="5565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VL(¼ö·®,NULL,0), NVL(±Ý¾×,NULL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/* &lt;-- ÃÖÁ¾ ´©Àû °ªÀ» º¸°üÇÏ´Â º¯¼ö, ÃÊ±â°ªÀ» 0À¸·Î ¼¼ÆÃ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°ø¾÷ÀÏ_´©°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ºÎ¼­ÄÚµå = 3000 AND ¹øÈ£ = :B1.±¸ºÐ AND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ÀÏÀÚ = i - 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*B.¿äÃ»´Ü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Á¦Ç°Ãâ°í³»¿ª A, ÁÖ¹®³»¿ª B, »ç¾çÇ×¸ñ³»¿ª C, ¼±ÅÃ»ç¾ç D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 AND A.ÁÖ¹®³â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= B.ÁÖ¹®¿ù AND A.ÁÖ¹®¹øÈ£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AND A.Á¦Ç°ÀÏ·Ã¹øÈ£ = 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ÀÏ·Ã¹øÈ£ = E.Á¦Ç°ÀÏ·Ã¹øÈ£ AND D.ºÐ·ùÄÚµå = C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±Ô°Ý = C.±Ô°Ý AND C.ÄÚµå = E.»ç¾çÇ×¸ñ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 AND A.ºÎ¼­ÄÚµå = 3000 AND E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)) 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 Å×ÀÌºíÀÇ Ã³¸®¸¦ LOOP ³»¿¡¼­ ºÒÇÊ¿äÇÏ°Ô ¹Ýº¹ÀûÀ¸·Î Ã³¸®ÇÑ °æ¿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96880" y="228600"/>
            <a:ext cx="7977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00320" y="1500120"/>
            <a:ext cx="629280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CNT_096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 = :CE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!= 'HV' AND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 BY  SA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_NULL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OR (  J = 0 ; ;  J++  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FETCH  CNT_096  INTO  :SA_CODE,  :SA_CN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COUNT(*)  INTO  :SA_CNT_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= :CENTE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= :SA_CODE   AND 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LOC1  IS 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T_CNT = SA_CNT - SA_CNT_NUL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506600" y="228600"/>
            <a:ext cx="796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79360" y="1117440"/>
            <a:ext cx="9464760" cy="14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ÇÑ Ã³¸®¹üÀ§¸¦ ºÒÇÊ¿äÇÏ°Ô LOOP·Î ¹Ýº¹¼öÇà -&gt; ¼öÇà 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7880" y="1928880"/>
            <a:ext cx="8370720" cy="435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ROW_CNT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 (DECODE (LOC1,NULL,1,0))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COUNT(*)  SA_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ENTER  =  :CENTER  AND  SA !=  'HV'  AND  QTY6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SA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J=0 ; ; J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EC  SQL  FETCH  ROW_CNT INTO :SA_CODE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:SA_CNT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: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...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ET_CNT  =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SA_CNT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-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12720" y="243000"/>
            <a:ext cx="8172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79360" y="1117440"/>
            <a:ext cx="91915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Á¶°ÇÀÌ Á¶±Ý ´Ù¸£¸é¼­ µ¿ÀÏÇÑ Å×ÀÌºíÀ» »ç¿ëÇÏ´Â SQLÅëÇ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¯»ç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52320" y="2273400"/>
            <a:ext cx="6119640" cy="5163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(LINE_NO)  INTO  :TOT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COUNT(LINE_NO)  INTO 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 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LINE_NO &lt; 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98680" y="228600"/>
            <a:ext cx="82677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040" y="2070000"/>
            <a:ext cx="8375760" cy="2682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 (LINE_NO) 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(DECODE(SIGN(LINE_NO), -1, 1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TOT_LINE_NO,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RK_CD= :BRK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BM_SRL_NO = :SBM_SR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6360" y="10922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502080" y="204804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85840" y="1647720"/>
            <a:ext cx="3243240" cy="1158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FEELING, :DUE, :EXPRESS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3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38800" y="2030400"/>
            <a:ext cx="1118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486320" y="1704960"/>
            <a:ext cx="98748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OT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575320" y="1776240"/>
            <a:ext cx="3243240" cy="821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NEW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8781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09640" y="3247920"/>
            <a:ext cx="3600360" cy="1427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8  A,  STCO113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A.POST_NO = B.POST_NO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1129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9520" y="2567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90840" y="312264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9520" y="4381560"/>
            <a:ext cx="0" cy="109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90840" y="534672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4240" y="5472000"/>
            <a:ext cx="2887560" cy="1124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ODY_CODE =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746600" y="3313080"/>
            <a:ext cx="2274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1’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54880" y="389880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STCO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80000" y="4110120"/>
            <a:ext cx="30909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XXXXXX"/>
                <a:ea typeface="XXXXXX"/>
              </a:rPr>
              <a:t>WHERE A.CUSTOMER_NO = :CUSTOMER_NO_T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70640" y="3814920"/>
            <a:ext cx="3422520" cy="821520"/>
          </a:xfrm>
          <a:prstGeom prst="rect">
            <a:avLst/>
          </a:prstGeom>
          <a:solidFill>
            <a:srgbClr val="ffd8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1280" y="3013200"/>
            <a:ext cx="425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295416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380" y="0"/>
                </a:moveTo>
                <a:lnTo>
                  <a:pt x="331" y="164"/>
                </a:lnTo>
                <a:lnTo>
                  <a:pt x="380" y="332"/>
                </a:lnTo>
                <a:lnTo>
                  <a:pt x="0" y="164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9840" y="446724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74960" y="4818240"/>
            <a:ext cx="1190520" cy="330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08560" y="3554280"/>
            <a:ext cx="266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7600" y="5878440"/>
            <a:ext cx="954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97440" y="5256360"/>
            <a:ext cx="4591080" cy="1670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 A, STCO100 B, STCO100 C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A.BODY_CODE = :FE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B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B.BODY_CODE = :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C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C.BODY_CODE =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86280" y="2567160"/>
            <a:ext cx="1738080" cy="2766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1080" y="240048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133880" y="4632480"/>
            <a:ext cx="235116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FEELING, :DUE,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67520" y="35733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3804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52720" y="938160"/>
            <a:ext cx="6870600" cy="663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30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NOT FOUND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NEW  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ADDRESS_A, A.POST_NO, B.ADDRESS_B,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ADDRESS_A, :POST_NO, :ADDRESS_B,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:USER_CLASS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  ------&gt;&gt; 2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8  A,  STCO113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A.CUSTOMER_NO = :CUSTOMER_NO_TMP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AND  A.POST_NO = B.POST_NO(+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  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|-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DE_NAME  INTO  :USER_CLASS_NAM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HEAD_CODE = 'K' AND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BODY_CODE = :USER_CLASS;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------&gt;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'1'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MPANY_NAME,  COMPANY_LEVEL  INTO  :COMPANY_NAME, :COMPANY_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14  WHERE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CUSTOMER_NO = :CUSTOMER_NO_TMP;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CODE_NAME, B.CODE_NAME,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  A,  STCO100  B,  STCO100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A.HEAD_CODE = 'P'  AND  A.BODY_CODE = :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B.HEAD_CODE = 'Q'  AND  B.BODY_CODE = :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HEAD_CODE = 'R'  AND  C.BODY_CODE = :EXPRES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77920" y="1117440"/>
            <a:ext cx="950904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¢°¢ÀÇ SQLÀÌ º°µµ·Î ¼öÇàµÇ¹Ç·Î ¼Ò¿ä½Ã°£ÀÌ ±æ¾î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(¾ÕÀå ·ÎÁ÷³»ÀÇ ¹øÈ£¼øÀ¸·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. WHERE Á¶°Ç µ¿ÀÏ ¹®ÀåÀ» ÇÏ³ª·Î (ÈÄ¿¡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=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ß°¡¹®Á¦¸¦ °í·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11360" y="3121200"/>
            <a:ext cx="8178840" cy="379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8440" y="86364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: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R Á¶°Ç¿¡ ÀÎµ¦½º SUPPRESSINGÇÏ¿©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ºÎºÐ¹üÀ§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Ã³¸®·Î 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5560" y="1484280"/>
            <a:ext cx="8002440" cy="160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|| ''  LIKE  'E%'  OR  SUGASERL || ''  LIKE  'F%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&lt; 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04880" y="5322960"/>
            <a:ext cx="766440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 ¹üÀ§1  ¹üÀ§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EDSC &gt; :B1  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Á¼´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ç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||'' LIKE 'E%' OR SUGASERL||'' LIKE 'F%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'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120" y="5691240"/>
            <a:ext cx="761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2480" y="532620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37320" y="5332320"/>
            <a:ext cx="0" cy="11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15280" y="4616280"/>
            <a:ext cx="2033640" cy="77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6600cc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Áß ÇÑ °æ¿ìÀ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´Ù ¹®Á¦ ¾øÀ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2400" y="3035160"/>
            <a:ext cx="7612200" cy="16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               --- ¨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INDEX (RANGE SCAN) OF 'THISSUGA_IDX1' (NON-UNIQUE) --- ¨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0600" y="10018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. ´Ù¸¥ SQLÀÇ OUTPUTÀ» Á¶°Ç¿¡¼­ »ç¿ëÇÑ °ÍÀ» Á¶ÀÎÀ¸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22360" y="399240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6120" y="1433520"/>
            <a:ext cx="7740720" cy="193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A.ADDRESS_A, A.POST_NO, B.ADDRESS_B, A.USER_CLASS, C.COD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 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BODY_CODE = A.USER_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4240" y="34480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. :USER_CLASS != '1'¿¡ ´ëÇÑ ÇÊÅÍ¸µÀ» DECODE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20840" y="3784680"/>
            <a:ext cx="7810560" cy="2844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386000" y="113508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87520" y="21744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91960" y="11174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ÅëÇÕµÈ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25520" y="1000080"/>
            <a:ext cx="6777000" cy="622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V.MODEL_CODE,V.HANDLE_CONT, V.PARTS_PRICE,V.TRAVLE_PRICE,V.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V.PROMISE_DATE, V.AMOUNT_NO, V.FEELING, V.DUE, V.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.ADDRESS_A, A.POST_NO, B.ADDRESS_B,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USER_CLASS,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.CODE_NAME, F.CODE_NAME, G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ADDRESS_A,:POST_NO,:ADDRESS_B,:USER_CLASS, :USER_CLASS_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COMPANY_NAME, :COMPANY_LEVEL,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 MODEL_CODE,HANDLE_CONT, PARTS_PRICE,TRAVLE_PRICE,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HANDLE_CONT, PARTS_PRICE,TRAVLE_PRICE,TRANS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)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8  A,  STCO113  B,  STCO100  C,  STCO114  D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0  E,  STCO100  F,  STCO100 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CUSTOMER_NO = :CUSTOMER_NO_TM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POST_NO = B.POST_NO(+)   AND  C.HEAD_CODE = 'K'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BODY_CODE =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E.HEAD_CODE = 'P'  AND  E.BODY_CODE =  V.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F.HEAD_CODE = 'Q'  AND  F.BODY_CODE =  V.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G.HEAD_CODE = 'R'  AND  G.BODY_CODE =  V.EXPRES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63520" y="988920"/>
            <a:ext cx="96346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¿¡¼­ JOIN ÇüÅÂ·Î º¯°æÇÏ°í ARRAY PROCESSINGÀ» È°¿ëÇÑ ¿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¸ð ÀüÀÚÈ¸»ç ¼­ºñ½º ½Ã½ºÅÛÀÇ ½ÇÁ¦ »ç·Ê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4200" y="4888080"/>
            <a:ext cx="7297560" cy="18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1  : STPO121_PK  : MODEL + SA + PART1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0  : STPO120_PK  : SA + PART1        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096  : STPO096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07  : STPO107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41640" y="329580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38280" y="2495520"/>
            <a:ext cx="1500120" cy="170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58920" y="3201840"/>
            <a:ext cx="124200" cy="200520"/>
          </a:xfrm>
          <a:custGeom>
            <a:avLst/>
            <a:gdLst/>
            <a:ahLst/>
            <a:rect l="0" t="0" r="r" b="b"/>
            <a:pathLst>
              <a:path fill="none" w="345" h="557">
                <a:moveTo>
                  <a:pt x="0" y="0"/>
                </a:moveTo>
                <a:lnTo>
                  <a:pt x="345" y="265"/>
                </a:lnTo>
                <a:lnTo>
                  <a:pt x="0" y="5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90640" y="3281400"/>
            <a:ext cx="43992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4400" y="3070080"/>
            <a:ext cx="147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165480" y="2495520"/>
            <a:ext cx="1500120" cy="1730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71960" y="307008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261120" y="17413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67600" y="22446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269040" y="35575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75520" y="40608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80000" y="2770200"/>
            <a:ext cx="1581120" cy="190800"/>
            <a:chOff x="4680000" y="2770200"/>
            <a:chExt cx="1581120" cy="190800"/>
          </a:xfrm>
        </p:grpSpPr>
        <p:sp>
          <p:nvSpPr>
            <p:cNvPr id="419" name=""/>
            <p:cNvSpPr/>
            <p:nvPr/>
          </p:nvSpPr>
          <p:spPr>
            <a:xfrm flipH="1">
              <a:off x="5405400" y="285912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5760" y="277020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680000" y="2846520"/>
              <a:ext cx="70308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676760" y="4003560"/>
            <a:ext cx="1581120" cy="190800"/>
            <a:chOff x="4676760" y="4003560"/>
            <a:chExt cx="1581120" cy="190800"/>
          </a:xfrm>
        </p:grpSpPr>
        <p:sp>
          <p:nvSpPr>
            <p:cNvPr id="423" name=""/>
            <p:cNvSpPr/>
            <p:nvPr/>
          </p:nvSpPr>
          <p:spPr>
            <a:xfrm flipH="1">
              <a:off x="5402160" y="409248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00356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76760" y="4079880"/>
              <a:ext cx="70344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76200" y="993600"/>
            <a:ext cx="111276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25600" y="1344600"/>
            <a:ext cx="8924760" cy="549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CURSOR  MODEL_CURSO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WHERE  MODEL = :MODEL  AND  SA &gt;= :FROM_SA  AND  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ORDER  BY  MODEL, SA,  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OPEN  MODEL_CURS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 K=0;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K &lt; 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 K++) {  /*  200 ROW ±îÁö¸¸ Ã³¸®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MODEL_CURSOR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TO  :SA,  :PAR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 DES,  SPEC,  GUBUN4,  PRICE2,  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DES, :SPEC, :GUBUN4, :PRICE2, :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.ARR =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THEN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ENTER.ARR Àº ÀÌÀü ´Ü°è¿¡¼­ ±¸ÇØ³õÀº °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10-QTY7-QTY6, LOC   INTO :QTY, :LO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6,  LOC  INTO  :QTY, :L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 /* end of FOR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62080" y="1154160"/>
            <a:ext cx="9634680" cy="27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QLÀ» READ, WRITE¹®ÀåÀÇ ´ë¿ëÀ¸·Î ÀÌ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APPLICATION ¼öÁ¤¾Ê°í °³¼±ÇÏ±â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MAIN CURSOR ¹®ÀåÀÇ ORDER BY ÀýÀÌ ºÒÇÊ¿ä (PKÀÖÀ¸¹Ç·Î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ARRAY PROCESSING Àû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) HOLD CURSOR »ç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7120" y="1008000"/>
            <a:ext cx="48927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ÇÏ³ªÀÇ OUTER JOINÀ¸·Î ÇØ°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5120" y="1438200"/>
            <a:ext cx="9201240" cy="55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BEGIN DECLARE SECTION; </a:t>
            </a:r>
            <a:r>
              <a:rPr b="1" lang="en-US" sz="1600" spc="-1" strike="noStrike">
                <a:solidFill>
                  <a:srgbClr val="0033cc"/>
                </a:solidFill>
                <a:latin typeface="XXXXXX"/>
                <a:ea typeface="XXXXXX"/>
              </a:rPr>
              <a:t>/* 200 °³ÀÇ ARRAY¸¦ »ç¿ëÇÏµµ·Ï ¼±¾ðÇÑ´Ù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SA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0],   PART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DES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,  SPE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LO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5],   GUBUN4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    GUBUN8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,   QTY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LOAT  PRICE2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END DECLARE SEC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A.SA, A.PART1, B.DES, B.SPEC, B.GUBUN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VL(B.PRICE2,0), NVL(B.GUBUN8,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NVL(C.QTY10-C.QTY7-C.QTY6,0), D.QTY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LOC, D.L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SA, :PART1, :DES, :SPEC, :GUBUN4, :PRICE2, :GUBUN8, :QTY, :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 A, STPO120 B, STPO096 C, STPO107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MODEL = :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&gt;= :FROM_SA  AND  A.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= B.SA       AND  A.PART1 = B.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C.SA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PART1 = C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C.CENTER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D.SA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A.PART1 = D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D.CENTER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22200" y="960480"/>
            <a:ext cx="8786880" cy="9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SQL »ç¿ëÀÇ Àß¸øµÈ ÀÌÇØ¿Í 1 °Ç¾¿ Ã³¸®ÇÒ ¶§¸¶´Ù COMMITÀÇ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00120" y="228600"/>
            <a:ext cx="809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022480" y="1380960"/>
            <a:ext cx="7775640" cy="5815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ROCEDURE  INITIALIZE  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NUMBER  :=  1 ;  /*  PAGE¹øÈ£¸¦ ºÎ¿©ÇÑ´Ù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NUMBER  :=  0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 C1  IN  (SELECT  DEPT_CODE,  DEPT_AB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PT_CODE  NOT IN  ('991' , '999'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= T_CONT + 1;  &lt;-- 1 ÆäÀÌÁö ³»ÀÇ ¶óÀÎ Ä«¿îÆ® 1 Áõ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 T_CONT = 18  THEN  &lt;-- 1 ÆäÀÌÁö ´ç 18 ÁÙÀ» ÇÁ¸°Æ® ÇÏµµ·Ï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:=  T_PAGE + 1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:= 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LENGTH_ABBR  :=  LENGTH ( DEPT_ABBR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LENGTH_ABBR  &lt;=  4 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||SUBSTR(C1.DEPT_ABBR,3,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NSERT INTO MHB03T98 VALUES (T_PAGE, C1. DEPT_CODE, T_ABBR, 0,0,0,0,0,0,0,0,0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MMIT ;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&lt;-- LOOP ³»¿¡¼­ ¸Å 1 °Ç ¸¶´Ù COMMIT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END  LO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4860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78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65280" y="1554120"/>
            <a:ext cx="5614920" cy="131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EPT_CODE,  DEPT_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DEPT_TP 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35120" y="2976480"/>
            <a:ext cx="8369280" cy="3141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1      0.01       0.02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64      1.04       2.34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        1536     6.82     10 .74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7242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 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SELEC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584        TABLE  ACCESS ( BY ROWID )  OF  ' CZA10C10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76           INDEX  ( RANGE SCAN )  OF  ' CZA10C10_U1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288200" y="608796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°è¼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65280" y="1554120"/>
            <a:ext cx="8588520" cy="41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INTO  MHB03T98  VALUES (T_PAGE, C2.DEPT_CODE, T_ABBR, 0,0,0,0,0,0,0,0,0,0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49240" y="1954080"/>
            <a:ext cx="8574120" cy="257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6.88       10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INSER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82480" y="4594320"/>
            <a:ext cx="1154160" cy="42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49240" y="4995720"/>
            <a:ext cx="8369280" cy="14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5.18        8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68160" y="1876320"/>
            <a:ext cx="80834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F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ROWNUM &lt; 21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760" y="1349280"/>
            <a:ext cx="6485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¸¾à ¹Ýµå½Ã SUGASERL ÄÃ·³À» ÀÎµ¦½º·Î »ç¿ëÇØ¾ß ÇÑ´Ù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4986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360" y="1117440"/>
            <a:ext cx="94647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SQL ¹®ÀåÀÌ 1472 È¸ÀÇ LOOP ¿¡¼­ ¸Å¹ø ¼öÇà ¹× ¸Å ¹øÀÇ INSERT ½ÇÇà ¸¶´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®·£Àè¼ÇÀÇ Ä¿¹ÔÀ»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34800" y="2462040"/>
            <a:ext cx="9482040" cy="339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MHB03T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TRUNC( ( ROWNUM - 1 ) / 18 ) + 1 , DEPT_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SIGN (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LENGTH (DEPT_ABBR) - 5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1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|| SUBSTR (DEPT_ABBR,3,10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, 0, 0, 0, 0, 0, 0, 0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504280" y="5376960"/>
            <a:ext cx="1311120" cy="469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.1 Ã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12720" y="243000"/>
            <a:ext cx="7678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3760" y="1001880"/>
            <a:ext cx="881532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PK   :  DIETIDNO + DIETPERS +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IDX1 : 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63480" y="2781360"/>
            <a:ext cx="7392960" cy="404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DIETDATE, DIETEDIT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 DIETDATE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(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DIETIDNO, DIETPERS, DIETDATE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MIN(DIET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DATE &gt; :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(DIETDATE = :B1 AND DIETEDIT = :B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, DIETDATE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4860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33360" y="938160"/>
            <a:ext cx="84945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20640" y="1509840"/>
            <a:ext cx="7709040" cy="532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5112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4640" y="952560"/>
            <a:ext cx="925344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¼­ºêÄõ¸®°¡ ÇÏ³ª°¡ µÇ¾îµµ °á°ú°¡ µ¿ÀÏÇÏ°Ô ³ª¿Â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Ñ DIETDATE ÃÖ¼Ò°ª ±¸ÇÑµÚ ´Ù½Ã DIETEDIT ÃÖ¼Ò°ª ±¸ÇÏ³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Ø DIETDATE¿Í DIETEDITÀÇ ÃÖ¼Ò°ªÀ» ÇÔ²² ±¸ÇÏ³ª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20880" y="4903920"/>
            <a:ext cx="7894800" cy="344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33480" y="4249800"/>
            <a:ext cx="7894800" cy="336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27000" y="3255840"/>
            <a:ext cx="7894800" cy="34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2556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I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36232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23404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798720" y="2938320"/>
            <a:ext cx="142884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676920" y="2938320"/>
            <a:ext cx="21448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51000" y="1125360"/>
            <a:ext cx="84027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58720" y="1595520"/>
            <a:ext cx="762480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 (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DIETDATE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R  (DIETDATE = :B1  AND  DIETEDIT = :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380280" y="3497400"/>
            <a:ext cx="3235320" cy="48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ATENATION À¸·Î Ç®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654120" y="1635120"/>
            <a:ext cx="796464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IN(DIETDATE || 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860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4760" y="1141560"/>
            <a:ext cx="26240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148360" y="2182680"/>
            <a:ext cx="214776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Îµ¦½º »ç¿ë ¸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97040" y="5237280"/>
            <a:ext cx="8215200" cy="11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º¯È¯°úÁ¤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DIETDATE &gt; :B1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(DIETDATE &gt; :B1  AND  DIETEDIT = DIETEDIT)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DIETDATE &gt;= :B1  AND  (DIETEDIT = DECODE(DIETDATE, :B1, :B2, DIETEDI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2200" y="1123920"/>
            <a:ext cx="84916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3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6400" y="1617840"/>
            <a:ext cx="796140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,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1,8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9,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4875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91960" y="100332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488960" y="1290600"/>
            <a:ext cx="8040600" cy="575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DAMT,0) - NVL(A.C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OR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D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AND  B.BDID = 'Y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CAMT,0) - NVL(A.D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:B3 AND :B4   OR 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:B5 AND :B6   OR 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:B9 AND :B10  OR 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C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5001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7792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¿ÀÏÇÑ Å×ÀÌºíÀ» µÎ¹ø ÀÐÀ½, ÀüÃ¼¹üÀ§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77800" y="2678040"/>
            <a:ext cx="8978760" cy="373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B.CDID,'D',NVL(A.DAMT,0) - NVL(A.CAM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C',NVL(A.CAMT,0) - NVL(A.DAMT)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CUID, B.C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 AND  TO_DATE(:B2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 OR  A.BD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CDID  IN  ('C', 'D'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8640" y="2597040"/>
            <a:ext cx="8894880" cy="5018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PM002 C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,  PM003 A,  PM003 B,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:FROM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DEPT = SUBSTR(A.M3CODE,1,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 = E.M1GUN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M3SELECT = '01'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M3SELECT = '04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C.M2DEPT, C.M2PART, C.M2GUN, C.M2GUB, C.M2GOVNCD, C.ITEMC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1680" y="1046160"/>
            <a:ext cx="929952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1 : PM001_PK : M1GUN + M1GUB + M1GOVNCD + M1ITEMCD + M1SPECC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 : PM002_PK : M2GUN + M2GUB + M2GOVNCD + M2ITEMCD + M2SPECCD + M2DEPT + M2PART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3 : PM003_PK : M3SELECT + M3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67440" y="3716280"/>
            <a:ext cx="4641840" cy="26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SORT               ORDER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</a:t>
            </a: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FUL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PM001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ç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BY  ROWID  PM002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è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RANGE_SCAN PM002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é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ê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127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8000" y="8161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3280" y="6156360"/>
            <a:ext cx="8734320" cy="387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GACODE + SUGASERL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·Î µÈ °áÇÕÀÎµ¦½º·Î ÇØ°á, ÀÌ ¶§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ÄÃ·³ ¼ø¼­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¡ À¯ÀÇÇÒ °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6720" y="1449360"/>
            <a:ext cx="779616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NVL(SUGACODE, ' '), NVL(SUGASERL,' '), NVL(SUGADESC,' 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(SUGAEDSC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CODE LIKE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 SUGASERL || '' = 'CA'  OR  SUGASERL || '' = 'D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&lt; 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68320" y="4579920"/>
            <a:ext cx="674676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¹üÀ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CODE LIKE :B1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 || '' = 'CA' OR SUGASERL || '' = 'DA'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Á¼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8000" y="398772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1560" y="4932360"/>
            <a:ext cx="672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4583160"/>
            <a:ext cx="0" cy="108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8000" y="554508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7920" y="2995560"/>
            <a:ext cx="6329520" cy="1570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658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81         INDEX (RANGE SCAN) OF 'THISSUGA_PK1' (UNIQU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91960" y="988920"/>
            <a:ext cx="9510840" cy="60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Å×ÀÌºíÀÇ FULL SCAN°ú ORDER BY Àý¿¡ ÀÇÇÑ ÀüÃ¼¹üÀ§ Ã³¸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ÀÇ 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 : A ¿Í B Å×ÀÌºíÀÌ ¸ÕÀú »ó¼ö°¡ µÇÁö¸¸ ÀÌ¸¦ ¹Þ¾Æ¾²´Â ´Ù¸¥ Å×ÀÌºíÀº ¸ðµ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LL SCAN ÇØ¾ß 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 : FULL SCAN ÇÏ´Â Å×ÀÌºíÀÌ µå¶óÀÌºù Å×ÀÌºíÀÌ µÇ¸ç ÀÌ¶§ C ¿Í E Å×ÀÌºí Á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¡Àå ¸Ö¸® ÀÖ´Â E Å×ÀÌºíÀÌ ¸ÕÀú »ç¿ë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 : E °¡ Ç®¸®¸é C °¡ Ç®¸®°í A, B Áß¿¡¼­µµ ¸Ö¸®ÀÖ´Â B °¡ ¸ÕÀú Ç®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4 : SORT ÇÏ¿© °á°ú¸¦ ³»º¸³»¹Ç·Î ÀüÃ¼¹üÀ§·Î Ã³¸®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 PM002_PK ÀÎµ¦½ºÀÇ Ä®·³ ¼ø¼­¸¦ ORDER BYÀýÀÇ ¼ø¼­¿Í ÀÏÄ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´Ù¸¥ SQL¿¡ ¹ÌÄ¡´Â ¿µÇâ °í·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Å×ÀÌºíÀÌ Ç®¸®´Â ¼ø¼­¸¦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5001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51000" y="2384280"/>
            <a:ext cx="8869320" cy="500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PM001  E,  PM002  C,  PM003  B,  PM003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 :FROM_PART  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DEP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A.M3CODE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PAR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= E.M1G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M3SELECT = '0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M3SELECT = '04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875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69720" y="2036880"/>
            <a:ext cx="191772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986360" y="4538520"/>
            <a:ext cx="4516560" cy="233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DEP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PAR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BY  ROWID   PM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RANGE_SCAN  PM002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 BY  ROWID   PM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 RANGE_SCAN  PM001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619280" y="1152360"/>
            <a:ext cx="8007480" cy="888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PK  :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M2DEPT + M2PAR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IX1 :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115040" y="4264200"/>
            <a:ext cx="2416320" cy="42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 --&gt; B --&gt; C --&gt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ÄÃ·³À¸·Î ÇØ¾ß ÇÒ ¼Ó¼ºÀ» 3 °³ÀÇ ÄÃ·³À¸·Î ºÐÇ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11280" y="27936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12880" y="4944960"/>
            <a:ext cx="46594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C  :  BASC_ID_PK  :  RCNO +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D_PK  :  ID +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1    : 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2    : 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05320" y="2325600"/>
            <a:ext cx="104616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70400" y="2182680"/>
            <a:ext cx="2192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80120" y="2325600"/>
            <a:ext cx="218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470560" y="1658880"/>
            <a:ext cx="1101600" cy="31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BO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305160" y="1706400"/>
            <a:ext cx="1101600" cy="14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PY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166840" y="3471840"/>
            <a:ext cx="2192400" cy="773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ß¸øµÈ ¸ðµ¨¸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14880" y="20480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943280"/>
            <a:ext cx="107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34040" y="3852720"/>
            <a:ext cx="1352520" cy="347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05640" y="3838680"/>
            <a:ext cx="66960" cy="752760"/>
          </a:xfrm>
          <a:custGeom>
            <a:avLst/>
            <a:gdLst/>
            <a:ahLst/>
            <a:rect l="0" t="0" r="r" b="b"/>
            <a:pathLst>
              <a:path fill="none" w="186" h="2091">
                <a:moveTo>
                  <a:pt x="186" y="0"/>
                </a:moveTo>
                <a:lnTo>
                  <a:pt x="0" y="0"/>
                </a:lnTo>
                <a:lnTo>
                  <a:pt x="0" y="2091"/>
                </a:lnTo>
                <a:lnTo>
                  <a:pt x="133" y="2091"/>
                </a:lnTo>
                <a:lnTo>
                  <a:pt x="159" y="20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45960" y="4470480"/>
            <a:ext cx="2514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222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171520" y="1147680"/>
            <a:ext cx="7126200" cy="5953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JY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5112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892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5720" y="1673280"/>
            <a:ext cx="7972560" cy="496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CPU      ELAPSE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ISK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QUERY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RREN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12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5.2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6.96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4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386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   TABLE ACCESS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FUL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1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23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27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96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03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69               INDEX (RANGE SCAN) OF 'OTPT_ID_PK' (UNIQUE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945480" y="1004760"/>
            <a:ext cx="258444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30760" y="1025640"/>
            <a:ext cx="252252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3040" y="3076560"/>
            <a:ext cx="3146400" cy="271296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986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277040" y="3179880"/>
            <a:ext cx="194328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 OTPT_RC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7184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089840" y="1155600"/>
            <a:ext cx="2309760" cy="183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U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 NU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, SG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, JYG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S  OTPT_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123,  OT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687680" y="3730680"/>
            <a:ext cx="143208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G1  SG2  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4   34   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6   51  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41280" y="3730680"/>
            <a:ext cx="71280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9720" y="3371760"/>
            <a:ext cx="241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123                 OT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2760" y="4246560"/>
            <a:ext cx="505080" cy="533880"/>
          </a:xfrm>
          <a:custGeom>
            <a:avLst/>
            <a:gdLst/>
            <a:ahLst/>
            <a:rect l="0" t="0" r="r" b="b"/>
            <a:pathLst>
              <a:path w="1403" h="1483">
                <a:moveTo>
                  <a:pt x="0" y="296"/>
                </a:moveTo>
                <a:lnTo>
                  <a:pt x="0" y="1187"/>
                </a:lnTo>
                <a:lnTo>
                  <a:pt x="280" y="1187"/>
                </a:lnTo>
                <a:lnTo>
                  <a:pt x="280" y="1483"/>
                </a:lnTo>
                <a:lnTo>
                  <a:pt x="1122" y="1483"/>
                </a:lnTo>
                <a:lnTo>
                  <a:pt x="1122" y="1187"/>
                </a:lnTo>
                <a:lnTo>
                  <a:pt x="1403" y="1187"/>
                </a:lnTo>
                <a:lnTo>
                  <a:pt x="1403" y="296"/>
                </a:lnTo>
                <a:lnTo>
                  <a:pt x="1122" y="296"/>
                </a:lnTo>
                <a:lnTo>
                  <a:pt x="1122" y="0"/>
                </a:lnTo>
                <a:lnTo>
                  <a:pt x="280" y="0"/>
                </a:lnTo>
                <a:lnTo>
                  <a:pt x="280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90960" y="3179880"/>
            <a:ext cx="220356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SG1  SG2 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34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4   3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51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6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6   5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083120" y="1528920"/>
            <a:ext cx="199080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NUM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G2,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ROM   N123,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6740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9200" y="403560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90560" y="4049640"/>
            <a:ext cx="14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86280" y="3529080"/>
            <a:ext cx="219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78840" y="3529080"/>
            <a:ext cx="193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4986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26880" y="1117440"/>
            <a:ext cx="9556920" cy="14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-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Å×ÀÌºíÀ» °°Àº Á¶°ÇÀ¸·Î 3 ¹ø ¿¢¼¼½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TableÀ» FULL SCAN(WHERE ID = :B2 -&gt; ÀÎµ¦½º°¡ RCNO + ID·Î±¸¼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35040" y="2576520"/>
            <a:ext cx="5310360" cy="141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TABL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NUM NUMBER(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02080" y="232092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28560" y="4091040"/>
            <a:ext cx="7613640" cy="253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 INTO 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 SG1, 2, SG2, 3,JYG1) OTPT_RC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TPT, N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AND KIND = '2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C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D')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_OTPT,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CNO = V_OTPT.OTPT_RC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747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1720" y="1511280"/>
            <a:ext cx="5748480" cy="1949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SG1, 2,SG2, 3,JYG1) OTPT_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SELECT 1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2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3 AS NUM FROM DUAL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31760" y="3594240"/>
            <a:ext cx="5091120" cy="307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FULL) OF 'N12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OTPT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Y ROWI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(RANGE SCAN) OF 'BASC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651640" y="4761000"/>
            <a:ext cx="2751120" cy="101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Îµ¦½º ÄÃ·³ ¼ø¼­ ¼öÁ¤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D + RCNO(BASIC_ID_P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5112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4308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¸µÀÌ ¹Ù¸£°Ô µÇ¸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58880" y="3614760"/>
            <a:ext cx="6508800" cy="30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 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D'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21600" y="996840"/>
            <a:ext cx="1552680" cy="261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# *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O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681360" y="1604880"/>
            <a:ext cx="1535040" cy="130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Y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43400" y="1954080"/>
            <a:ext cx="1081080" cy="378000"/>
            <a:chOff x="5243400" y="1954080"/>
            <a:chExt cx="1081080" cy="378000"/>
          </a:xfrm>
        </p:grpSpPr>
        <p:sp>
          <p:nvSpPr>
            <p:cNvPr id="559" name=""/>
            <p:cNvSpPr/>
            <p:nvPr/>
          </p:nvSpPr>
          <p:spPr>
            <a:xfrm flipV="1">
              <a:off x="5243400" y="2138400"/>
              <a:ext cx="10810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7280" y="2144880"/>
              <a:ext cx="187200" cy="18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7280" y="1954080"/>
              <a:ext cx="18720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83160" y="2000160"/>
            <a:ext cx="151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38880" y="1379520"/>
            <a:ext cx="151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43080" y="31910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½±°Ô Ã³¸®µÉ ¼ö ÀÖÀ½.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688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¥ÀÌÅÍ º¹Á¦¸¦ ÀÌ¿ëÇÏ¿© ±âÁØÀÌ µÇ´Â Ç×¸ñ¿¡ ´ëÇÏ¿© µ¥ÀÌÅÍ°¡ ¾ø¾îµ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üÁü¾øÀÌ ¸ðµÎ Ç¥½Ã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98680" y="228600"/>
            <a:ext cx="7880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03280" y="4470480"/>
            <a:ext cx="882972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§¿Í °°Àº È¯°æÇÏ¿¡ ¸ðµç Áö¿ª¿¡ ´ëÇÏ¿© ÇÑÁÖÀÏ µ¿¾È ÀÚ°ÝÀ» ÃëµæÇÑ ¸ðµç »ç¶÷À» Áö¿ªº°, ¼ºº°·Î ±¸ºÐÇÏ¿© Ç¥½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øÇÏ´Â ±â°£¿¡ ´ëÇØ ÇØ´çÁö¿ª¿¡ ÀÚ°ÝÃëµæÀÚ°¡ ¾ø´Â °æ¿ì¿¡µµ ³²³à Ç×¸ñÀÌ »ý¼ºµÇ¾î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 ÀÌ¶ó´Â °ªÀ» °¡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448000" y="1908000"/>
            <a:ext cx="1941480" cy="26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7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Çº¸ÇèÀÚ°Ý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¹Îµî·Ï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Ú°ÝÃëµ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ÄÚµå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60600" y="236232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134040" y="2216160"/>
            <a:ext cx="1635120" cy="1791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¿ª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ëÇ¥ÁöºÎÀ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3120" y="2749680"/>
            <a:ext cx="1619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390920" y="2978280"/>
            <a:ext cx="1704960" cy="162360"/>
            <a:chOff x="4390920" y="2978280"/>
            <a:chExt cx="1704960" cy="162360"/>
          </a:xfrm>
        </p:grpSpPr>
        <p:sp>
          <p:nvSpPr>
            <p:cNvPr id="574" name=""/>
            <p:cNvSpPr/>
            <p:nvPr/>
          </p:nvSpPr>
          <p:spPr>
            <a:xfrm>
              <a:off x="4390920" y="3054240"/>
              <a:ext cx="9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3480" y="305424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90920" y="2978280"/>
              <a:ext cx="248040" cy="162360"/>
            </a:xfrm>
            <a:custGeom>
              <a:avLst/>
              <a:gdLst/>
              <a:ahLst/>
              <a:rect l="0" t="0" r="r" b="b"/>
              <a:pathLst>
                <a:path fill="none" w="689" h="451">
                  <a:moveTo>
                    <a:pt x="0" y="0"/>
                  </a:moveTo>
                  <a:lnTo>
                    <a:pt x="689" y="2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040" y="1233360"/>
            <a:ext cx="8542440" cy="26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: SALE_PROD_NO_SALEDATE : PROD_NO + SALEDATE  (NON U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: PK_PRODUCT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: PROD_NO  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PRIMARY KE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1400" y="3362400"/>
            <a:ext cx="5929200" cy="223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PROD_NO,  SUM ( SALE_AMT * 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PROD_NO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ALEDATE 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688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¥½Ã ¿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84240" y="1855800"/>
            <a:ext cx="7707240" cy="349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84240" y="1841400"/>
            <a:ext cx="7707240" cy="447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84240" y="27068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79560" y="313056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355428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88920" y="39974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84240" y="3990960"/>
            <a:ext cx="7707240" cy="9097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84240" y="443880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54400" y="185580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2120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7828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78200" y="186372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7380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59680" y="18572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8984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18560" y="18716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17792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ö¿ª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338560" y="18795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¼º 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7656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âÁØ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059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8610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6116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4641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272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0074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397160" y="23464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97160" y="27446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397160" y="314784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397160" y="35956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97160" y="405756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397160" y="4533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97160" y="4965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584440" y="23400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584440" y="27511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95520" y="3170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84440" y="36320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84440" y="40356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584440" y="44974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2584440" y="49449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3084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3084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2194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3084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3084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3084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3084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9428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09428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00536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09428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09428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09428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09428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9230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9230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340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230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9230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9230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9230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746680" y="23302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746680" y="2741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573880" y="3160800"/>
            <a:ext cx="57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746680" y="36226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746680" y="40258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746680" y="4487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746680" y="493560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5469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5469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580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5469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5469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5469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5469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40412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740412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31520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40412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40412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40412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40412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1183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1183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0294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81183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81183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1183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1183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774280" y="421632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774280" y="465624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511280" y="25416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°£´Ü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360" y="1582560"/>
            <a:ext cx="7701120" cy="410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Áö¿ª¸í, ¼ºº°, SUM(DECODE(ÀÚ°ÝÃëµæÀÏÀÚ, :ÀÔ·ÂÀÏÀÚ  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1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2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3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4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5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6,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A, Áö¿ªÁ¤º¸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BETWEEN  :ÀÔ·ÂÀÏÀÚ  AND  :ÀÔ·ÂÀÏÀÚ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7800" y="549576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°æ³²Áö¿ª  ¿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³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Á¦ÁÖÁö¿ª ³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Ã³·³ ÀÚ°ÝÀ» ÃëµæÇÑ ·Î¿ì°¡ ¾øÀ¸¸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Ø´ç·Î¿ì°¡ ³ªÅ¸³ªÁö ¾ÊÀ½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2247840"/>
            <a:ext cx="2286000" cy="15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41360" y="2376360"/>
            <a:ext cx="22701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1 0 5 3 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2 1 3 4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1 0 1 2 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0 0 1 0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31840" y="1862280"/>
            <a:ext cx="273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BY Áö¿ª¸í, ¼º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450800" y="3824280"/>
            <a:ext cx="392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231920" y="4343400"/>
            <a:ext cx="774720" cy="1066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05280" y="2838600"/>
            <a:ext cx="1847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965400" y="2986200"/>
            <a:ext cx="173520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05000" y="3562200"/>
            <a:ext cx="572040" cy="1410120"/>
          </a:xfrm>
          <a:custGeom>
            <a:avLst/>
            <a:gdLst/>
            <a:ahLst/>
            <a:rect l="0" t="0" r="r" b="b"/>
            <a:pathLst>
              <a:path w="1589" h="3917">
                <a:moveTo>
                  <a:pt x="0" y="783"/>
                </a:moveTo>
                <a:lnTo>
                  <a:pt x="0" y="3134"/>
                </a:lnTo>
                <a:lnTo>
                  <a:pt x="1112" y="3134"/>
                </a:lnTo>
                <a:lnTo>
                  <a:pt x="1112" y="3917"/>
                </a:lnTo>
                <a:lnTo>
                  <a:pt x="1589" y="1958"/>
                </a:lnTo>
                <a:lnTo>
                  <a:pt x="1112" y="0"/>
                </a:lnTo>
                <a:lnTo>
                  <a:pt x="1112" y="783"/>
                </a:lnTo>
                <a:lnTo>
                  <a:pt x="0" y="783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19840" y="2857680"/>
            <a:ext cx="2171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80320" y="2909880"/>
            <a:ext cx="193824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°æ³²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¦ÁÖ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76800" y="3486240"/>
            <a:ext cx="572040" cy="1467360"/>
          </a:xfrm>
          <a:custGeom>
            <a:avLst/>
            <a:gdLst/>
            <a:ahLst/>
            <a:rect l="0" t="0" r="r" b="b"/>
            <a:pathLst>
              <a:path w="1589" h="4076">
                <a:moveTo>
                  <a:pt x="0" y="814"/>
                </a:moveTo>
                <a:lnTo>
                  <a:pt x="0" y="3261"/>
                </a:lnTo>
                <a:lnTo>
                  <a:pt x="1112" y="3261"/>
                </a:lnTo>
                <a:lnTo>
                  <a:pt x="1112" y="4076"/>
                </a:lnTo>
                <a:lnTo>
                  <a:pt x="1589" y="2038"/>
                </a:lnTo>
                <a:lnTo>
                  <a:pt x="1112" y="0"/>
                </a:lnTo>
                <a:lnTo>
                  <a:pt x="1112" y="814"/>
                </a:lnTo>
                <a:lnTo>
                  <a:pt x="0" y="814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122640" y="3867120"/>
            <a:ext cx="4586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019920" y="3745080"/>
            <a:ext cx="458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82160" y="3467160"/>
            <a:ext cx="572040" cy="1676880"/>
          </a:xfrm>
          <a:custGeom>
            <a:avLst/>
            <a:gdLst/>
            <a:ahLst/>
            <a:rect l="0" t="0" r="r" b="b"/>
            <a:pathLst>
              <a:path w="1589" h="4658">
                <a:moveTo>
                  <a:pt x="0" y="931"/>
                </a:moveTo>
                <a:lnTo>
                  <a:pt x="0" y="3727"/>
                </a:lnTo>
                <a:lnTo>
                  <a:pt x="1112" y="3727"/>
                </a:lnTo>
                <a:lnTo>
                  <a:pt x="1112" y="4658"/>
                </a:lnTo>
                <a:lnTo>
                  <a:pt x="1589" y="2329"/>
                </a:lnTo>
                <a:lnTo>
                  <a:pt x="1112" y="0"/>
                </a:lnTo>
                <a:lnTo>
                  <a:pt x="1112" y="931"/>
                </a:lnTo>
                <a:lnTo>
                  <a:pt x="0" y="931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9163080" y="3801960"/>
            <a:ext cx="4586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Group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5960" y="3060720"/>
            <a:ext cx="0" cy="2502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58920" y="106992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39760" y="1403280"/>
            <a:ext cx="8513640" cy="547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V.Áö¿ª¸í,R.¼ºº°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1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 A,  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 BETWEEN  :ÀÔ·ÂÀÏÀÚ  AND  :ÀÔ·ÂÀÏÀÚ +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GROUP  BY B.Áö¿ª¸í , A.¼ºº°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)  V,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 BY  V.Áö¿ª¸í, R.¼ºº°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1511280" y="2541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12880" y="2610000"/>
            <a:ext cx="292104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47920" y="2670120"/>
            <a:ext cx="0" cy="295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172040" y="2759040"/>
            <a:ext cx="693720" cy="2489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165640" y="2581200"/>
            <a:ext cx="294948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78000" y="2017800"/>
            <a:ext cx="100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940120" y="205272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.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695600" y="203040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SU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52560" y="2359080"/>
            <a:ext cx="162000" cy="323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816200" y="2394000"/>
            <a:ext cx="14292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16400" y="2390760"/>
            <a:ext cx="568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610400" y="278136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8448840" y="28544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461440" y="33973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448840" y="39560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8459640" y="45115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981920" y="2870280"/>
            <a:ext cx="438120" cy="1015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991640" y="3111480"/>
            <a:ext cx="415800" cy="4507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978680" y="3238560"/>
            <a:ext cx="428760" cy="2667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988400" y="3632040"/>
            <a:ext cx="419040" cy="2541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997760" y="4140360"/>
            <a:ext cx="422280" cy="129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001000" y="4673520"/>
            <a:ext cx="43164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8969400" y="4919760"/>
            <a:ext cx="272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2793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163520" y="1397160"/>
            <a:ext cx="8521560" cy="573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  V.Áö¿ª¸í,R.¼ºº°, SUM (DECODE(V.¼ºº°,R.¼ºº°,SUM1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ÀÚ°ÝÃëµæÀÏÀÚ, ¼ºº°, Áö¿ªÄÚµå  FROM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ÇÇº¸ÇèÀÚÀÚ°ÝÁ¤º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ÀÚ°ÝÃëµæÀÏÀÚ  BETWEEN :ÀÔ·ÂÀÏÀÚ AND :ÀÔ·ÂÀÏÀÚ+6 ) A,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WHERE  B.Áö¿ªÄÚµå = A.Áö¿ªÄÚµå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 )  V,   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 BY  V.Áö¿ª¸í, R.¼ºº°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26880" y="10699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öÁ¡º° ÇÕ°è¿Í ÃÑ°è¸¦ ÇÔ²² ±¸ÇÏ´Â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40004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80188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1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2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»Áö·Î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©ÀÇµµ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19580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ö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9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1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,23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60376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7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7,8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7015320" y="456876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ÅÅ¹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,3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401840" y="6329520"/>
            <a:ext cx="279864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 °è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14880" y="6329520"/>
            <a:ext cx="41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401840" y="4843440"/>
            <a:ext cx="699912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68440" y="4259160"/>
            <a:ext cx="209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µ¾÷ÀÏ:1996.09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709720" y="1862280"/>
            <a:ext cx="2038320" cy="2846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DAILY_TRA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SALE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CCT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SAWON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TERMINAL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_AMT (¼ö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_AMT (¿©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I_AMT  (½ÅÅ¹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982960" y="1535040"/>
            <a:ext cx="12524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ÀÏÀÏ°Å·¡³»¿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16200" y="2152800"/>
            <a:ext cx="201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738680" y="2146320"/>
            <a:ext cx="2664000" cy="248040"/>
            <a:chOff x="4738680" y="2146320"/>
            <a:chExt cx="2664000" cy="248040"/>
          </a:xfrm>
        </p:grpSpPr>
        <p:sp>
          <p:nvSpPr>
            <p:cNvPr id="738" name=""/>
            <p:cNvSpPr/>
            <p:nvPr/>
          </p:nvSpPr>
          <p:spPr>
            <a:xfrm>
              <a:off x="4749840" y="2263680"/>
              <a:ext cx="142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73640" y="2263680"/>
              <a:ext cx="1229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8680" y="2146320"/>
              <a:ext cx="321120" cy="248040"/>
            </a:xfrm>
            <a:custGeom>
              <a:avLst/>
              <a:gdLst/>
              <a:ahLst/>
              <a:rect l="0" t="0" r="r" b="b"/>
              <a:pathLst>
                <a:path fill="none" w="892" h="689">
                  <a:moveTo>
                    <a:pt x="0" y="0"/>
                  </a:moveTo>
                  <a:lnTo>
                    <a:pt x="892" y="344"/>
                  </a:lnTo>
                  <a:lnTo>
                    <a:pt x="0" y="6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740120" y="3606840"/>
            <a:ext cx="968400" cy="216360"/>
            <a:chOff x="4740120" y="3606840"/>
            <a:chExt cx="968400" cy="216360"/>
          </a:xfrm>
        </p:grpSpPr>
        <p:sp>
          <p:nvSpPr>
            <p:cNvPr id="742" name=""/>
            <p:cNvSpPr/>
            <p:nvPr/>
          </p:nvSpPr>
          <p:spPr>
            <a:xfrm>
              <a:off x="4753080" y="3703680"/>
              <a:ext cx="51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5720" y="37036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40120" y="3606840"/>
              <a:ext cx="240120" cy="216360"/>
            </a:xfrm>
            <a:custGeom>
              <a:avLst/>
              <a:gdLst/>
              <a:ahLst/>
              <a:rect l="0" t="0" r="r" b="b"/>
              <a:pathLst>
                <a:path fill="none" w="667" h="601">
                  <a:moveTo>
                    <a:pt x="95" y="0"/>
                  </a:moveTo>
                  <a:lnTo>
                    <a:pt x="667" y="279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 txBox="1"/>
          <p:nvPr/>
        </p:nvSpPr>
        <p:spPr>
          <a:xfrm>
            <a:off x="5718240" y="2732040"/>
            <a:ext cx="1492200" cy="1783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JONG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JM_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CLASS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304040" y="1511280"/>
            <a:ext cx="151776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BR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DDRES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004080" y="243036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¾¸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21480" y="30351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526160" y="117468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öÁ¡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16640" y="182232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26880" y="3797280"/>
            <a:ext cx="1730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¸°í¼­ 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 QUERY ÇüÅ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38040" y="1744560"/>
            <a:ext cx="9366120" cy="497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CURSOR FOR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 BR_NM  FROM  BRAN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SUM (R_AMT), SUM(A_AMT), SUM (I_AMT)  INTO  :RAMT,  :AAMT,  :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BR_NO = :BRNO  AND  SALEDATE = :SALEDATE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ÁöÁ¡º° 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  &lt;---  ÃÑ°è¸¦ À§ÇØ ´©Àû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Á¶±Ý °³¼±µÇ¾î JOIN°ú GROUP BY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65280" y="1681200"/>
            <a:ext cx="8040600" cy="5288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.BR_NO,  B.BR_NM, SUM (R_AMT), SUM(A_AMT), SUM (I_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  A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A.BR_NO  =  B.BR_NO  AND  A.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GROUP BY  B.BR_NO, B.BR_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JOINÀ» °³¼±ÇÏ¿© IN-LINE VIEW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65200" y="1639800"/>
            <a:ext cx="782316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SUM(R_AMT)  AS  RAM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3828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0400" y="1287360"/>
            <a:ext cx="8852040" cy="5700600"/>
            <a:chOff x="590400" y="1287360"/>
            <a:chExt cx="8852040" cy="5700600"/>
          </a:xfrm>
        </p:grpSpPr>
        <p:sp>
          <p:nvSpPr>
            <p:cNvPr id="161" name=""/>
            <p:cNvSpPr/>
            <p:nvPr/>
          </p:nvSpPr>
          <p:spPr>
            <a:xfrm>
              <a:off x="1096920" y="16956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974880" y="1314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0160" y="1692360"/>
              <a:ext cx="0" cy="461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52360" y="1847880"/>
              <a:ext cx="2317680" cy="514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90400" y="3139920"/>
              <a:ext cx="412920" cy="237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969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8680" y="31798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8680" y="3408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8680" y="3637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98680" y="43988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8680" y="46274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8680" y="48560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8680" y="5694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8680" y="5923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8680" y="61516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859040" y="638028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6320" y="17208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730920" y="1287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9560" y="1730520"/>
              <a:ext cx="0" cy="459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969240" y="1852560"/>
              <a:ext cx="2165400" cy="498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           199401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 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           199401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0           1994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888080" y="277164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63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88480" y="31161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988480" y="33447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988480" y="35733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1080" y="42973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1080" y="45259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01080" y="47545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75880" y="55166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75880" y="57452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75880" y="59738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38720" y="1720800"/>
              <a:ext cx="1069920" cy="335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288040" y="1873080"/>
              <a:ext cx="1063800" cy="362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2097000"/>
              <a:ext cx="1076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183280" y="128736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7720" y="3000240"/>
              <a:ext cx="914760" cy="1765800"/>
            </a:xfrm>
            <a:custGeom>
              <a:avLst/>
              <a:gdLst/>
              <a:ahLst/>
              <a:rect l="0" t="0" r="r" b="b"/>
              <a:pathLst>
                <a:path fill="none" w="2541" h="4905">
                  <a:moveTo>
                    <a:pt x="0" y="0"/>
                  </a:moveTo>
                  <a:lnTo>
                    <a:pt x="2541" y="3669"/>
                  </a:lnTo>
                  <a:lnTo>
                    <a:pt x="2541" y="4905"/>
                  </a:lnTo>
                  <a:lnTo>
                    <a:pt x="1376" y="4905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57720" y="4270320"/>
              <a:ext cx="914760" cy="1676880"/>
            </a:xfrm>
            <a:custGeom>
              <a:avLst/>
              <a:gdLst/>
              <a:ahLst/>
              <a:rect l="0" t="0" r="r" b="b"/>
              <a:pathLst>
                <a:path fill="none" w="2541" h="4658">
                  <a:moveTo>
                    <a:pt x="0" y="0"/>
                  </a:moveTo>
                  <a:lnTo>
                    <a:pt x="2541" y="3485"/>
                  </a:lnTo>
                  <a:lnTo>
                    <a:pt x="2541" y="4658"/>
                  </a:lnTo>
                  <a:lnTo>
                    <a:pt x="1376" y="465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45120" y="2784600"/>
              <a:ext cx="927360" cy="762480"/>
            </a:xfrm>
            <a:custGeom>
              <a:avLst/>
              <a:gdLst/>
              <a:ahLst/>
              <a:rect l="0" t="0" r="r" b="b"/>
              <a:pathLst>
                <a:path fill="none" w="2576" h="2118">
                  <a:moveTo>
                    <a:pt x="0" y="0"/>
                  </a:moveTo>
                  <a:lnTo>
                    <a:pt x="2576" y="953"/>
                  </a:lnTo>
                  <a:lnTo>
                    <a:pt x="2576" y="2118"/>
                  </a:lnTo>
                  <a:lnTo>
                    <a:pt x="1412" y="211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886200" y="1743120"/>
              <a:ext cx="787320" cy="4470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Ç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¾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480" y="2467080"/>
              <a:ext cx="559080" cy="3683520"/>
            </a:xfrm>
            <a:custGeom>
              <a:avLst/>
              <a:gdLst/>
              <a:ahLst/>
              <a:rect l="0" t="0" r="r" b="b"/>
              <a:pathLst>
                <a:path fill="none" w="1553" h="10232">
                  <a:moveTo>
                    <a:pt x="141" y="0"/>
                  </a:moveTo>
                  <a:lnTo>
                    <a:pt x="1553" y="0"/>
                  </a:lnTo>
                  <a:lnTo>
                    <a:pt x="1553" y="10232"/>
                  </a:lnTo>
                  <a:lnTo>
                    <a:pt x="0" y="10232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5040" y="2746440"/>
              <a:ext cx="559080" cy="1537200"/>
            </a:xfrm>
            <a:custGeom>
              <a:avLst/>
              <a:gdLst/>
              <a:ahLst/>
              <a:rect l="0" t="0" r="r" b="b"/>
              <a:pathLst>
                <a:path fill="none" w="1553" h="4270">
                  <a:moveTo>
                    <a:pt x="141" y="0"/>
                  </a:moveTo>
                  <a:lnTo>
                    <a:pt x="1553" y="0"/>
                  </a:lnTo>
                  <a:lnTo>
                    <a:pt x="1553" y="4270"/>
                  </a:lnTo>
                  <a:lnTo>
                    <a:pt x="0" y="4270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170320" y="524988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612200" y="641844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³»ÀÇ FETCH¸¦ ¾ø¾Ö±â À§ÇØ INLINE VIEW¿Í UNION ALLÀ»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00040" y="1569960"/>
            <a:ext cx="930744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 AS  RAMT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 °¢ ÁöÁ¡º° ÇÕ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ÃÑ°è' AS 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AS RAMT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ÀüÃ¼ ÃÑ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)  V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(+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470480" y="5076720"/>
            <a:ext cx="255420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°è Ç¥½Ã ÇÏ±â À§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20840" y="1146240"/>
            <a:ext cx="9180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24200" y="5592600"/>
            <a:ext cx="4776840" cy="117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CREATE  TABLE REPLICA12  (REPLICA  CHAR(1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1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2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85880" y="540216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82840" y="2120760"/>
            <a:ext cx="2673360" cy="1017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  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  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  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82840" y="1795320"/>
            <a:ext cx="26733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-LINE VIEW V1 ÀÇ °á°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454040" y="4451400"/>
            <a:ext cx="2674800" cy="542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60520" y="4122720"/>
            <a:ext cx="26654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EPLICA12 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317680" y="3191040"/>
            <a:ext cx="1146240" cy="87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454720" y="1414440"/>
            <a:ext cx="2944800" cy="2035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3600" y="4138560"/>
            <a:ext cx="2597040" cy="1356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ÃÑ¾×        45  50 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654440" y="3502080"/>
            <a:ext cx="4414680" cy="54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 BY DECODE(C.REPLICA...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35360" y="2886480"/>
            <a:ext cx="1548360" cy="739800"/>
          </a:xfrm>
          <a:custGeom>
            <a:avLst/>
            <a:gdLst/>
            <a:ahLst/>
            <a:rect l="0" t="0" r="r" b="b"/>
            <a:pathLst>
              <a:path fill="none" w="4301" h="2055">
                <a:moveTo>
                  <a:pt x="0" y="2055"/>
                </a:moveTo>
                <a:lnTo>
                  <a:pt x="0" y="2055"/>
                </a:lnTo>
                <a:lnTo>
                  <a:pt x="0" y="2055"/>
                </a:lnTo>
                <a:cubicBezTo>
                  <a:pt x="773" y="2055"/>
                  <a:pt x="1532" y="1934"/>
                  <a:pt x="2201" y="1705"/>
                </a:cubicBezTo>
                <a:cubicBezTo>
                  <a:pt x="2871" y="1476"/>
                  <a:pt x="3426" y="1146"/>
                  <a:pt x="3813" y="749"/>
                </a:cubicBezTo>
                <a:cubicBezTo>
                  <a:pt x="4039" y="516"/>
                  <a:pt x="4204" y="263"/>
                  <a:pt x="4301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55680" y="9777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38280" y="1414440"/>
            <a:ext cx="9217080" cy="559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O, 'ÃÑ°è') AS BR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R_NO, SUM(R_AMT)  AS  RAM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R_NO)  V,   BRANCH 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 V1,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REPLICA12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DECODE(C.REPLICA, '1', V1.BR_NO, 'ÃÑ°è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11040" y="10065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54000" y="1420920"/>
            <a:ext cx="8647200" cy="574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O, 'ÃÑ¾×') AS BR_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(SELECT  BR_NO, SUM(R_AMT)  AS  RAM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)  V,  BRANCH 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V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(SELECT '1' AS REPLICA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UN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SELECT '2' AS REPLICA FROM DUAL)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GROUP BY  DECODE(C.REPLICA, '1', V1.BR_NO, 'ÃÑ¾×'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181560" y="4051440"/>
            <a:ext cx="242568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AL TABLE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1512720" y="243000"/>
            <a:ext cx="7404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33360" y="1117440"/>
            <a:ext cx="7448400" cy="59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A01M00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:  MHA01M00_U1 : STK_CODE  (PRIMARY 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3T00  A :  MHB03T00_N3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4T00  C :  MHB04T00_U1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+ KEEP_GOOD_TP + S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3T00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A.DT  = 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C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4T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C.DT  =  :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KEEP_GOOD_TP = :B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726000" y="2930400"/>
            <a:ext cx="6119640" cy="4067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 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PROJECTION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 UNION ¶Ç´Â UNION ALL ¶§ ³ªÅ¸³²(¼öÁ÷Àû ºÎºÐÁýÇ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SORT ( UNIQUE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UNION Ã³¸®¸¦ À§Ç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-ALL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LAN »ó¿¡´Â Ç×»ó UNION-ALL·Î Ç¥½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696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9           INDEX ( RANGE SCAN ) OF 'MHB03T00_N3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8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2848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7           INDEX ( RANGE SCAN ) OF 'MHB04T00_U1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6760" y="3068640"/>
            <a:ext cx="3459240" cy="3446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475400" y="2190600"/>
            <a:ext cx="2282760" cy="998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Á¶ÀÎÀÇ Ã³¸®ºñ¿ë°ú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22848°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9244080" y="472752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9244080" y="577368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22200" y="1117440"/>
            <a:ext cx="8888400" cy="43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Á¶ÀÎ°Ç¼öÀÇ °ú´Ù·Î ÀÎÇÑ Ã³¸®ºñ¿ë Áõ´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UNIONÀ¸·Î ÀÎÇÑ Áßº¹Á¦°Å ÀÛ¾÷ ÇÊ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¼³°è»óÀÇ ¹®Á¦ --&gt;&gt;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PER-SUB TYPEÀÇ º¯È¯¿¡ ÁÖ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STK_CODE, B.ABBR --&gt; B.STK_CODE,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ÀýÀÇ ÄÃ·³ÀÌ µ¿ÀÏÇÑ Å×ÀÌºíÀÌ¹Ç·Î »ó´ëÅ×ÀÌºíÀº Á¸ÀçÀ¯¹«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Ç´ÜÀÇ ¿ªÇ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--&gt;  EXISTS »ç¿ë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31920" y="1136520"/>
            <a:ext cx="4057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8587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2520" y="1552680"/>
            <a:ext cx="8170920" cy="3600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3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&lt;--  Ã³¸® ¹üÀ§¸¦ °áÁ¤ÇÏ±â À§ÇØ ¸ÕÀú Ç®¸²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EXISTS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4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DT = :B3  AND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 = 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52440" y="1285920"/>
            <a:ext cx="208764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17400" y="1730520"/>
            <a:ext cx="7967520" cy="3110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3T00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4T00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C.DT = :B3  AND 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¤±ÔÈ­·Î ºó¹øÇÑ Á¶ÀÎ -&gt; ½ÇÇà½Ã°£ÀÌ ¿À·¡ °É¸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18280" y="232884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92240" y="1712880"/>
            <a:ext cx="1409760" cy="2706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392640" y="2276640"/>
            <a:ext cx="1143000" cy="203400"/>
            <a:chOff x="3392640" y="2276640"/>
            <a:chExt cx="1143000" cy="203400"/>
          </a:xfrm>
        </p:grpSpPr>
        <p:sp>
          <p:nvSpPr>
            <p:cNvPr id="811" name=""/>
            <p:cNvSpPr/>
            <p:nvPr/>
          </p:nvSpPr>
          <p:spPr>
            <a:xfrm>
              <a:off x="3395520" y="227664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392640" y="2381400"/>
              <a:ext cx="1143000" cy="0"/>
              <a:chOff x="3392640" y="2381400"/>
              <a:chExt cx="1143000" cy="0"/>
            </a:xfrm>
          </p:grpSpPr>
          <p:sp>
            <p:nvSpPr>
              <p:cNvPr id="813" name=""/>
              <p:cNvSpPr/>
              <p:nvPr/>
            </p:nvSpPr>
            <p:spPr>
              <a:xfrm>
                <a:off x="3392640" y="238140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59280" y="238140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5" name=""/>
          <p:cNvSpPr txBox="1"/>
          <p:nvPr/>
        </p:nvSpPr>
        <p:spPr>
          <a:xfrm>
            <a:off x="4443480" y="1630440"/>
            <a:ext cx="1419120" cy="1065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92240" y="2057400"/>
            <a:ext cx="139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40240" y="190980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392640" y="3695760"/>
            <a:ext cx="1143000" cy="203400"/>
            <a:chOff x="3392640" y="3695760"/>
            <a:chExt cx="1143000" cy="203400"/>
          </a:xfrm>
        </p:grpSpPr>
        <p:sp>
          <p:nvSpPr>
            <p:cNvPr id="819" name=""/>
            <p:cNvSpPr/>
            <p:nvPr/>
          </p:nvSpPr>
          <p:spPr>
            <a:xfrm>
              <a:off x="3395520" y="369576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92640" y="3800520"/>
              <a:ext cx="1143000" cy="0"/>
              <a:chOff x="3392640" y="3800520"/>
              <a:chExt cx="1143000" cy="0"/>
            </a:xfrm>
          </p:grpSpPr>
          <p:sp>
            <p:nvSpPr>
              <p:cNvPr id="821" name=""/>
              <p:cNvSpPr/>
              <p:nvPr/>
            </p:nvSpPr>
            <p:spPr>
              <a:xfrm>
                <a:off x="3392640" y="380052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59280" y="380052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5867280" y="3867120"/>
            <a:ext cx="917640" cy="147960"/>
            <a:chOff x="5867280" y="3867120"/>
            <a:chExt cx="917640" cy="147960"/>
          </a:xfrm>
        </p:grpSpPr>
        <p:sp>
          <p:nvSpPr>
            <p:cNvPr id="824" name=""/>
            <p:cNvSpPr/>
            <p:nvPr/>
          </p:nvSpPr>
          <p:spPr>
            <a:xfrm>
              <a:off x="5877000" y="3867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67280" y="3943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4429080" y="2857680"/>
            <a:ext cx="1450800" cy="2259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811920" y="3381480"/>
            <a:ext cx="147312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835680" y="370044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35560" y="3129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512040" y="2440080"/>
            <a:ext cx="3021120" cy="785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A_CODE, AREA_NAME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ÀÌ ÂüÁ¶ÇÏ°í ½Í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79360" y="4708440"/>
            <a:ext cx="613872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L     B : COL_PK    : YEAR + HOUSE + SERIAL_NO +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PK    : YEAR + HOUSE + SERIAL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IDX1  : YEAR +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ATION  A : NATION_PK :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SNO      : HSNO_PK   :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79360" y="1117440"/>
            <a:ext cx="8786880" cy="30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075040" y="99864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66760" y="992160"/>
            <a:ext cx="6508800" cy="197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, SUM(B.AM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ATION A, COL B, CO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AND B.YEAR = C.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AND B.SERIAL_NO = C.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NATION(+) = C.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AND C.YEAR = '1995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GROUP BY  A.AREA_CODE, 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ORDER BY  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8400" y="3908520"/>
            <a:ext cx="1843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077920" y="3171960"/>
            <a:ext cx="6843600" cy="3559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   CPU    ELAPSED      DISK      QUERY    CURRENT     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-  --------   ------   --------    ------    -------    -------   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PARSE        1        0.05       0.05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EXECUTE      1        0.00       0.00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FETCH       29       58.58      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58.60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      1559     132102          0       24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  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0  SELECT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SORT (GROUP B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NESTED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NESTED LOOPS (OUT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TABLE ACCESS (BY ROWID) OF 'COM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89             INDEX (RANGE SCAN) OF 'COM_IDX1' (NON-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   TABLE ACCESS (BY ROWID) OF 'NATION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UNIQUE SCAN) OF 'NATION_PK' (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  TABLE ACCESS (BY ROWID) OF 'COL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27893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RANGE SCAN) OF 'COL_PK' (UNIQUE)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160" y="12240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33240" y="1309680"/>
            <a:ext cx="607680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PRODU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PROD_NO  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1520" y="3389400"/>
            <a:ext cx="655812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PROD_NO FROM 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PROD_NO BETWEEN 'P20150' AND 'P2020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279360" y="1117440"/>
            <a:ext cx="9623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,000 ¹ø ÀÌ»ó µÇ´Â °úµµÇÑ Á¶ÀÎÀ¸·Î ¼öÇà ¼Óµµ°¡ 58 ÃÊ ÀÌ»ó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REA_CODE, AREA_NAMEÀ»  COM Å×ÀÌºí¿¡ Ãß°¡ÇÏ¿© ¹ÝÁ¤±ÔÈ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202280" y="2128680"/>
            <a:ext cx="5398920" cy="37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, SUM(B.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OL B, CO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YEAR = C.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ERIAL_NO = C.SERIA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YEAR = '1995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080040" y="5572080"/>
            <a:ext cx="2666880" cy="7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PARALLEL QUERY ±â´É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»ç¿ëÇÑ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913040" y="3678120"/>
            <a:ext cx="917640" cy="147960"/>
            <a:chOff x="1913040" y="3678120"/>
            <a:chExt cx="917640" cy="147960"/>
          </a:xfrm>
        </p:grpSpPr>
        <p:sp>
          <p:nvSpPr>
            <p:cNvPr id="843" name=""/>
            <p:cNvSpPr/>
            <p:nvPr/>
          </p:nvSpPr>
          <p:spPr>
            <a:xfrm>
              <a:off x="1922400" y="3678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13040" y="3754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 txBox="1"/>
          <p:nvPr/>
        </p:nvSpPr>
        <p:spPr>
          <a:xfrm>
            <a:off x="474840" y="2668680"/>
            <a:ext cx="1450800" cy="2743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514600" y="3192480"/>
            <a:ext cx="135576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8360" y="3511440"/>
            <a:ext cx="131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0960" y="2940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63600" y="1074600"/>
            <a:ext cx="9121680" cy="59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¸¦ ÀÌ¿ëÇÏ¿© ´ÙÁß »ç¿ëÀÚ°¡ µ¿½Ã¿¡ »ç¿ëÇÒ ¶§ ¹ß»ýÇÏ´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CK WAITINGÀ» ÇØ¼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T 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STATUS = 'I' OR (STATUS = 'J' AND DAT &lt; SYSDATE -1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ROW¿¡ ROW LOCKÀÌ ÁýÁß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 È°¿ëÇÏ¿© »ç¿ëÀÚµéÀÌ ¼­·Î ´Ù¸¥ ROW¸¦ UPDATEÇÏµµ·Ï ºÐ»ê½ÃÅ²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5001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60" y="2557440"/>
            <a:ext cx="7507440" cy="1952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06440" y="1031760"/>
            <a:ext cx="545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5127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789120" y="1389240"/>
            <a:ext cx="8807400" cy="599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SEQUENCE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CHE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.NEXTVA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SEQ_NO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DUAL;  </a:t>
            </a:r>
            <a:r>
              <a:rPr b="1" lang="en-US" sz="1400" spc="-1" strike="noStrike">
                <a:solidFill>
                  <a:srgbClr val="800000"/>
                </a:solidFill>
                <a:latin typeface="XXXXXX"/>
                <a:ea typeface="XXXXXX"/>
              </a:rPr>
              <a:t>&lt;-- RNUM = SEQ1.NEXTVAL »ç¿ëºÒ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  SET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ROWNUM AS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 AS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A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TUS = 'I'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TATUS = '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ND DAT &lt; SYSDATE -1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0033cc"/>
                </a:solidFill>
                <a:latin typeface="XXXXXX"/>
                <a:ea typeface="XXXXXX"/>
              </a:rPr>
              <a:t>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936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©·¯ ¸íÀÌ µ¿½Ã¿¡ °°Àº ·Î¿ì¿¡ ´ëÇØ LOCKÀ» ¾ò°íÀÚ ÇÒ °æ¿ì ¹ú¾îÁö´Â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¹®Á¦¸¦ SEQUENCE¸¦ ÀÌ¿ëÇÏ¿©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3880" y="241200"/>
            <a:ext cx="833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73280" y="1738440"/>
            <a:ext cx="8621640" cy="4876920"/>
            <a:chOff x="773280" y="1738440"/>
            <a:chExt cx="8621640" cy="4876920"/>
          </a:xfrm>
        </p:grpSpPr>
        <p:sp>
          <p:nvSpPr>
            <p:cNvPr id="859" name=""/>
            <p:cNvSpPr/>
            <p:nvPr/>
          </p:nvSpPr>
          <p:spPr>
            <a:xfrm flipV="1">
              <a:off x="2036880" y="1971720"/>
              <a:ext cx="1025280" cy="60480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1911240" y="2028960"/>
              <a:ext cx="1150920" cy="275724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3084480" y="1738440"/>
              <a:ext cx="1247760" cy="3429000"/>
              <a:chOff x="3084480" y="1738440"/>
              <a:chExt cx="1247760" cy="3429000"/>
            </a:xfrm>
          </p:grpSpPr>
          <p:sp>
            <p:nvSpPr>
              <p:cNvPr id="862" name=""/>
              <p:cNvSpPr/>
              <p:nvPr/>
            </p:nvSpPr>
            <p:spPr>
              <a:xfrm>
                <a:off x="3084480" y="1738440"/>
                <a:ext cx="1247760" cy="342900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84480" y="2119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084480" y="2500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84480" y="2881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84480" y="3262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84480" y="3643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84480" y="4024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084480" y="4405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084480" y="4786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030320" y="1824120"/>
              <a:ext cx="10652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3143160" y="17762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3143160" y="215748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3143160" y="482436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1014480" y="186372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565440" y="256716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15920" y="2433600"/>
              <a:ext cx="1093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73280" y="2403360"/>
              <a:ext cx="1676520" cy="5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0320" y="4525920"/>
              <a:ext cx="1128600" cy="53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1014480" y="460692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066760" y="1884240"/>
              <a:ext cx="1009800" cy="15876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1380960" y="303372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147160" y="1814400"/>
              <a:ext cx="1247760" cy="3429000"/>
              <a:chOff x="8147160" y="1814400"/>
              <a:chExt cx="1247760" cy="3429000"/>
            </a:xfrm>
          </p:grpSpPr>
          <p:sp>
            <p:nvSpPr>
              <p:cNvPr id="884" name=""/>
              <p:cNvSpPr/>
              <p:nvPr/>
            </p:nvSpPr>
            <p:spPr>
              <a:xfrm>
                <a:off x="8147160" y="1814400"/>
                <a:ext cx="1247760" cy="342900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147160" y="2195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47160" y="2576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147160" y="2957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47160" y="3338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147160" y="3719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47160" y="4100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147160" y="4481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147160" y="4862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6093000" y="204300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8205840" y="185256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8205840" y="22334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8205840" y="490068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078600" y="208116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8604360" y="264168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3000" y="265284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078600" y="269064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3000" y="4786200"/>
              <a:ext cx="1114560" cy="503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6078600" y="482436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7120080" y="2043000"/>
              <a:ext cx="102708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120080" y="2347920"/>
              <a:ext cx="102708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973920" y="4329000"/>
              <a:ext cx="117324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445080" y="325296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26000" y="1817640"/>
              <a:ext cx="1248120" cy="1370520"/>
            </a:xfrm>
            <a:custGeom>
              <a:avLst/>
              <a:gdLst/>
              <a:ahLst/>
              <a:rect l="0" t="0" r="r" b="b"/>
              <a:pathLst>
                <a:path w="3467" h="3807">
                  <a:moveTo>
                    <a:pt x="0" y="1268"/>
                  </a:moveTo>
                  <a:lnTo>
                    <a:pt x="0" y="2535"/>
                  </a:lnTo>
                  <a:lnTo>
                    <a:pt x="2427" y="2535"/>
                  </a:lnTo>
                  <a:lnTo>
                    <a:pt x="2427" y="3807"/>
                  </a:lnTo>
                  <a:lnTo>
                    <a:pt x="3467" y="1903"/>
                  </a:lnTo>
                  <a:lnTo>
                    <a:pt x="2427" y="0"/>
                  </a:lnTo>
                  <a:lnTo>
                    <a:pt x="2427" y="1268"/>
                  </a:lnTo>
                  <a:lnTo>
                    <a:pt x="0" y="1268"/>
                  </a:lnTo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957240" y="5624640"/>
              <a:ext cx="3741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¿¡ ¿©·¯ »ç¿ëÀÚ°¡  µ¿ÀÏ ROW¿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´ëÇØ¼­  LOCKÀ»  ¿ä±¸Ç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6093000" y="5624640"/>
              <a:ext cx="3228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»ç¿ëÀÚ°¡  ¾Æ¹«¸®  ¸¹¾Æµ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K ÁýÁßÀÌ ¾øÀ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4478400" y="3186000"/>
              <a:ext cx="1762200" cy="990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UENCE ¿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NUMÀ» ÀÌ¿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64000" y="3405240"/>
              <a:ext cx="46980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60280" y="1955880"/>
            <a:ext cx="8829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854360" y="2089080"/>
            <a:ext cx="736128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CALL_DATE, A.SERIAL_NO, A.CUST_ID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ERVICE_CALL A, CUSTOM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CALL_DATE = TO_CHAR(SYSDATE, 'YY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CUST_ID = B.CUST_ID  AND  A.STATUS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ROWNU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 UP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14440" y="4438800"/>
            <a:ext cx="89694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LL        COUNT     CPU      ELAPSED     DISK     QUERY   CURRENT   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 --------  ---------- --------- -------- --------- 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1     0.01       0.02         0         0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5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323.04     650.34     23456    34578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5     8.82      15.74         0      7242         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238560" y="4395960"/>
            <a:ext cx="2019240" cy="19051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93840" y="13273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SEQUENCE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1104840" y="1979640"/>
            <a:ext cx="6229440" cy="206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 SEQUENCE  SEQ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 20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µ¿½Ã »ç¿ëÀÚ ¼ö¿¡ µû¶ó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ACHE  19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"MAXVALUE - 1" ·Î Á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8400" y="183024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53000" y="4853160"/>
            <a:ext cx="1028880" cy="9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67080" y="4414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533840" y="4510080"/>
            <a:ext cx="13356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686480" y="4719600"/>
            <a:ext cx="32364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781520" y="5081760"/>
            <a:ext cx="43812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781520" y="5462640"/>
            <a:ext cx="476280" cy="5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86200" y="4471920"/>
            <a:ext cx="17136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232160" y="4467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594320" y="46195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765680" y="48481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861080" y="5133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9440" y="44863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67120" y="5595840"/>
            <a:ext cx="476640" cy="914760"/>
          </a:xfrm>
          <a:custGeom>
            <a:avLst/>
            <a:gdLst/>
            <a:ahLst/>
            <a:rect l="0" t="0" r="r" b="b"/>
            <a:pathLst>
              <a:path w="1324" h="2541">
                <a:moveTo>
                  <a:pt x="0" y="845"/>
                </a:moveTo>
                <a:lnTo>
                  <a:pt x="0" y="1692"/>
                </a:lnTo>
                <a:lnTo>
                  <a:pt x="927" y="1692"/>
                </a:lnTo>
                <a:lnTo>
                  <a:pt x="927" y="2541"/>
                </a:lnTo>
                <a:lnTo>
                  <a:pt x="1324" y="1271"/>
                </a:lnTo>
                <a:lnTo>
                  <a:pt x="927" y="0"/>
                </a:lnTo>
                <a:lnTo>
                  <a:pt x="927" y="845"/>
                </a:lnTo>
                <a:lnTo>
                  <a:pt x="0" y="845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3867120" y="6033960"/>
            <a:ext cx="22860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867120" y="559584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514440" y="1666800"/>
            <a:ext cx="9175680" cy="4705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AME.NEXTVA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INTO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:ROW_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A.CALL_DATE, A.SERIAL_NO, A.CUST_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CALLREC INDICATOR :CALLREC_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ERVICE_CALL A, CUSTOMER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 AS 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ID  AS 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ERVICE_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ALL_DATE = TO_CHAR 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TATUS IS NULL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RNUM   =  :ROW_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CUST_ID = B.CUS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ROWID  =  V.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XXXXXX"/>
                <a:ea typeface="XXXXXX"/>
              </a:rPr>
              <a:t>&lt;-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¹Ýµå½Ã ÀÌ Á¶°ÇÀÌ µé¾î°¡¾ß 1 °Ç ÀÌ»ó Ã£´Â °ÍÀ» ÁßÁö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UP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5487840" y="4024440"/>
            <a:ext cx="592200" cy="57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45240" y="3941640"/>
            <a:ext cx="167040" cy="146520"/>
          </a:xfrm>
          <a:custGeom>
            <a:avLst/>
            <a:gdLst/>
            <a:ahLst/>
            <a:rect l="0" t="0" r="r" b="b"/>
            <a:pathLst>
              <a:path fill="none" w="464" h="407">
                <a:moveTo>
                  <a:pt x="127" y="0"/>
                </a:moveTo>
                <a:lnTo>
                  <a:pt x="464" y="319"/>
                </a:lnTo>
                <a:lnTo>
                  <a:pt x="0" y="4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481720" y="4325040"/>
            <a:ext cx="276480" cy="243360"/>
          </a:xfrm>
          <a:custGeom>
            <a:avLst/>
            <a:gdLst/>
            <a:ahLst/>
            <a:rect l="0" t="0" r="r" b="b"/>
            <a:pathLst>
              <a:path w="768" h="676">
                <a:moveTo>
                  <a:pt x="768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ubicBezTo>
                  <a:pt x="0" y="129"/>
                  <a:pt x="35" y="255"/>
                  <a:pt x="103" y="366"/>
                </a:cubicBezTo>
                <a:cubicBezTo>
                  <a:pt x="170" y="477"/>
                  <a:pt x="267" y="569"/>
                  <a:pt x="384" y="633"/>
                </a:cubicBezTo>
                <a:cubicBezTo>
                  <a:pt x="414" y="649"/>
                  <a:pt x="444" y="664"/>
                  <a:pt x="476" y="676"/>
                </a:cubicBezTo>
                <a:lnTo>
                  <a:pt x="76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79360" y="1117440"/>
            <a:ext cx="878688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OM ÇüÅÂÀÇ °èÃþ±¸Á¶¸¦ °¡Áø °èÁ¤ Á¤º¸·ÎºÎÅÍ µ¥ÀÌÅ¸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(SUMMARY) Å×ÀÌºíÀ» º°µµ·Î À¯ÁöÇÏ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±âÀûÀ¸·Î ÀÏº°, ¿ùº°, ºÐ±âº° BATCH ÀÛ¾÷ÀÌ ¹ß»ýÇÏ¿© °ü¸® ¾î·Á¿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LTP »ó¿¡¼­ ¿Â¶óÀÎ Æ®·£Àè¼Ç¿¡ ¸¹Àº ºÎÇÏ°¡ ÃÊ·¡µÊ.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692520" y="2960640"/>
            <a:ext cx="2097000" cy="1447920"/>
            <a:chOff x="3692520" y="2960640"/>
            <a:chExt cx="2097000" cy="1447920"/>
          </a:xfrm>
        </p:grpSpPr>
        <p:grpSp>
          <p:nvGrpSpPr>
            <p:cNvPr id="947" name=""/>
            <p:cNvGrpSpPr/>
            <p:nvPr/>
          </p:nvGrpSpPr>
          <p:grpSpPr>
            <a:xfrm>
              <a:off x="3692520" y="2960640"/>
              <a:ext cx="2090880" cy="1447920"/>
              <a:chOff x="3692520" y="2960640"/>
              <a:chExt cx="2090880" cy="1447920"/>
            </a:xfrm>
          </p:grpSpPr>
          <p:sp>
            <p:nvSpPr>
              <p:cNvPr id="948" name=""/>
              <p:cNvSpPr/>
              <p:nvPr/>
            </p:nvSpPr>
            <p:spPr>
              <a:xfrm>
                <a:off x="3692520" y="2960640"/>
                <a:ext cx="2090880" cy="1447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4057560" y="3016080"/>
                <a:ext cx="8967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285840" indent="-285840">
                  <a:lnSpc>
                    <a:spcPct val="12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èÁ¤Á¤º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92520" y="3341520"/>
                <a:ext cx="207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749760" y="3403440"/>
              <a:ext cx="20397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°èÁ¤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èÁ¤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»óÀ§°èÁ¤¹øÈ£ 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82560" y="2960640"/>
            <a:ext cx="1917720" cy="25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988920" y="304632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31880" y="3419640"/>
            <a:ext cx="185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°èÁ¤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ÁöÁ¡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È¸°è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82560" y="3357720"/>
            <a:ext cx="190332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692520" y="4700520"/>
            <a:ext cx="2103480" cy="1133640"/>
            <a:chOff x="3692520" y="4700520"/>
            <a:chExt cx="2103480" cy="1133640"/>
          </a:xfrm>
        </p:grpSpPr>
        <p:sp>
          <p:nvSpPr>
            <p:cNvPr id="957" name=""/>
            <p:cNvSpPr/>
            <p:nvPr/>
          </p:nvSpPr>
          <p:spPr>
            <a:xfrm>
              <a:off x="3692520" y="4700520"/>
              <a:ext cx="2100240" cy="1133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065480" y="4767120"/>
              <a:ext cx="89676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Á¤º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3763800" y="5149800"/>
              <a:ext cx="191628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ÁöÁ¡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92520" y="5091120"/>
              <a:ext cx="21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598840" y="3408480"/>
            <a:ext cx="1060200" cy="326880"/>
            <a:chOff x="2598840" y="3408480"/>
            <a:chExt cx="1060200" cy="326880"/>
          </a:xfrm>
        </p:grpSpPr>
        <p:sp>
          <p:nvSpPr>
            <p:cNvPr id="962" name=""/>
            <p:cNvSpPr/>
            <p:nvPr/>
          </p:nvSpPr>
          <p:spPr>
            <a:xfrm flipH="1">
              <a:off x="2612880" y="35607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2880" y="3408480"/>
              <a:ext cx="1540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2598840" y="3560760"/>
              <a:ext cx="168120" cy="174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97160" y="356076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351480" y="4060800"/>
            <a:ext cx="3059280" cy="2397240"/>
            <a:chOff x="6351480" y="4060800"/>
            <a:chExt cx="3059280" cy="2397240"/>
          </a:xfrm>
        </p:grpSpPr>
        <p:sp>
          <p:nvSpPr>
            <p:cNvPr id="967" name=""/>
            <p:cNvSpPr/>
            <p:nvPr/>
          </p:nvSpPr>
          <p:spPr>
            <a:xfrm>
              <a:off x="6351480" y="4060800"/>
              <a:ext cx="3059280" cy="2397240"/>
            </a:xfrm>
            <a:prstGeom prst="round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520040" y="448164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57880" y="496728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15160" y="541512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 txBox="1"/>
          <p:nvPr/>
        </p:nvSpPr>
        <p:spPr>
          <a:xfrm>
            <a:off x="6386400" y="4194000"/>
            <a:ext cx="30114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000 (ÃÖ»óÀ§°èÁ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1200  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1120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1112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04080" y="3830760"/>
            <a:ext cx="1471320" cy="354600"/>
          </a:xfrm>
          <a:custGeom>
            <a:avLst/>
            <a:gdLst/>
            <a:ahLst/>
            <a:rect l="0" t="0" r="r" b="b"/>
            <a:pathLst>
              <a:path fill="none" w="4087" h="985">
                <a:moveTo>
                  <a:pt x="4076" y="985"/>
                </a:moveTo>
                <a:lnTo>
                  <a:pt x="4076" y="985"/>
                </a:lnTo>
                <a:cubicBezTo>
                  <a:pt x="4083" y="955"/>
                  <a:pt x="4087" y="924"/>
                  <a:pt x="4087" y="894"/>
                </a:cubicBezTo>
                <a:cubicBezTo>
                  <a:pt x="4087" y="737"/>
                  <a:pt x="3992" y="583"/>
                  <a:pt x="3812" y="447"/>
                </a:cubicBezTo>
                <a:cubicBezTo>
                  <a:pt x="3631" y="311"/>
                  <a:pt x="3372" y="198"/>
                  <a:pt x="3060" y="120"/>
                </a:cubicBezTo>
                <a:cubicBezTo>
                  <a:pt x="2748" y="41"/>
                  <a:pt x="2394" y="0"/>
                  <a:pt x="2034" y="0"/>
                </a:cubicBezTo>
                <a:cubicBezTo>
                  <a:pt x="1673" y="0"/>
                  <a:pt x="1319" y="41"/>
                  <a:pt x="1007" y="120"/>
                </a:cubicBezTo>
                <a:cubicBezTo>
                  <a:pt x="695" y="198"/>
                  <a:pt x="436" y="311"/>
                  <a:pt x="256" y="447"/>
                </a:cubicBezTo>
                <a:cubicBezTo>
                  <a:pt x="123" y="547"/>
                  <a:pt x="36" y="657"/>
                  <a:pt x="0" y="772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598840" y="4927680"/>
            <a:ext cx="1073160" cy="333360"/>
            <a:chOff x="2598840" y="4927680"/>
            <a:chExt cx="1073160" cy="333360"/>
          </a:xfrm>
        </p:grpSpPr>
        <p:sp>
          <p:nvSpPr>
            <p:cNvPr id="974" name=""/>
            <p:cNvSpPr/>
            <p:nvPr/>
          </p:nvSpPr>
          <p:spPr>
            <a:xfrm flipH="1">
              <a:off x="2625840" y="50943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604960" y="509436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209760" y="509436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8840" y="492768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77720" y="1917720"/>
            <a:ext cx="3625920" cy="36000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   °èÁ¤¸í         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°èÁ¤°ú¸ñ-1000    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    °èÁ¤°ú¸ñ-11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  °èÁ¤°ú¸ñ-11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  °èÁ¤°ú¸ñ-11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    °èÁ¤°ú¸ñ-12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  °èÁ¤°ú¸ñ-12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  °èÁ¤°ú¸ñ-12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832360" y="1174680"/>
            <a:ext cx="3639960" cy="556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°èÁ¤¸í    »óÀ§°èÁ¤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i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°èÁ¤°ú¸ñ-1000     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°èÁ¤°ú¸ñ-11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°èÁ¤°ú¸ñ-12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°èÁ¤°ú¸ñ-1110      1100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°èÁ¤°ú¸ñ-1120      11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°èÁ¤°ú¸ñ-121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°èÁ¤°ú¸ñ-124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         .........    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72280" y="1523880"/>
            <a:ext cx="687240" cy="20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4880" y="1711440"/>
            <a:ext cx="191916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68920" y="2028960"/>
            <a:ext cx="1919520" cy="490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50200" y="2921040"/>
            <a:ext cx="1923840" cy="1417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68920" y="2346480"/>
            <a:ext cx="1905120" cy="80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50200" y="2620800"/>
            <a:ext cx="1923840" cy="111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589720" y="1531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6635880" y="16272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278920" y="19890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635880" y="229392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635880" y="294948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635880" y="1936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8273880" y="31622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302680" y="25718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635880" y="261144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273880" y="385776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290080" y="443880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691160" y="5938920"/>
            <a:ext cx="4762440" cy="87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è,¨ê,¨ì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CONNECT BY PRIOR °èÁ¤¹øÈ£ = »óÀ§°èÁ¤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é,¨ë,¨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»óÀ§°èÁ¤¹øÈ£ = »ó¼ö°ª (INDEX ÇÊ¿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603520" y="1046160"/>
            <a:ext cx="2784600" cy="696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TART WITH °èÁ¤¹øÈ£ =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 INDEX ÇÊ¿ä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34160" y="1582560"/>
            <a:ext cx="363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477280" y="1963800"/>
            <a:ext cx="1440" cy="407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477280" y="2535120"/>
            <a:ext cx="1440" cy="417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8477280" y="3164040"/>
            <a:ext cx="1440" cy="45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8477280" y="3720960"/>
            <a:ext cx="1440" cy="441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8477280" y="4319640"/>
            <a:ext cx="144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3040" y="2311560"/>
            <a:ext cx="361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555920" y="1560600"/>
            <a:ext cx="116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Ãâ·Â 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23080" y="839880"/>
            <a:ext cx="185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¤Á¤º¸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1 (¹üÀ§ Á¼À» °æ¿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52320" y="1886040"/>
            <a:ext cx="8832960" cy="2581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°èÁ¤±Ý¾×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CONNECT BY  PRIOR  D.°èÁ¤¹øÈ£ = D.»óÀ§°èÁ¤¹øÈ£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B.È¸°èÀÏÀÚ = '1996101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652920" y="3968640"/>
            <a:ext cx="3206880" cy="127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‘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99610%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³·³ ¹üÀ§°¡ ³ÐÀ» °æ¿ì Ã³¸®¿¡ ºÎ´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98680" y="228600"/>
            <a:ext cx="8280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79320" y="1434960"/>
            <a:ext cx="8712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2 (¹üÀ§ ³ÐÀ» °æ¿ì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58800" y="1889280"/>
            <a:ext cx="87026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 SELECT  °èÁ¤¹øÈ£, SUM(°èÁ¤±Ý¾×) AS °èÁ¤±Ý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FROM  °èÁ¤±Ý¾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WHERE  È¸°èÀÏÀÚ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'199610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GROUP BY  °èÁ¤¹øÈ£ ) B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D.°èÁ¤¹øÈ£ = D.»óÀ§°èÁ¤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475240" y="1601640"/>
            <a:ext cx="3402000" cy="9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º°·Î ÇÑ´Þ ¹üÀ§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ªÀ» ¹Ì¸® ÇÕ°èÇÏ¿©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853920" y="4309920"/>
            <a:ext cx="7446960" cy="223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36600" y="1015920"/>
            <a:ext cx="62816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 »ç°í ³»¿ªÀ» °ü¸®Ç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¹ß»ý½Ã - µîÀç±¸ºÐ = '1'·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ÇØ°á½Ã - µîÀç±¸ºÐ = '9'·Î UPD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º°·Î µîÀç»çÇ×, ÇØÁ¦»çÇ×À» ÇÑ ÁÙ¿¡ ´ÙÀ½°ú °°ÀÌ Ç¥½ÃÇÏ¶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922320" y="3992400"/>
            <a:ext cx="759636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: 4599-5040-5845-37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³»¿ë                    µîÀç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À¯Çü¸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½Ã°£  ´ã´çÀÚ  ÇØÁ¦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½Ã°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´ã´ç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4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5:30    03459   199504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347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607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7:30    0343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8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0:30    07155   199509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66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122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2:30    04457   199601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42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930400" y="4303800"/>
            <a:ext cx="2513160" cy="2243160"/>
            <a:chOff x="2930400" y="4303800"/>
            <a:chExt cx="2513160" cy="2243160"/>
          </a:xfrm>
        </p:grpSpPr>
        <p:sp>
          <p:nvSpPr>
            <p:cNvPr id="1026" name=""/>
            <p:cNvSpPr/>
            <p:nvPr/>
          </p:nvSpPr>
          <p:spPr>
            <a:xfrm>
              <a:off x="2930400" y="4325760"/>
              <a:ext cx="0" cy="220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37080" y="4303800"/>
              <a:ext cx="6480" cy="224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68320" y="4700520"/>
            <a:ext cx="7418520" cy="455760"/>
            <a:chOff x="868320" y="4700520"/>
            <a:chExt cx="7418520" cy="455760"/>
          </a:xfrm>
        </p:grpSpPr>
        <p:sp>
          <p:nvSpPr>
            <p:cNvPr id="1029" name=""/>
            <p:cNvSpPr/>
            <p:nvPr/>
          </p:nvSpPr>
          <p:spPr>
            <a:xfrm>
              <a:off x="868320" y="470052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8320" y="515628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790640" y="470052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32200" y="47070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07000" y="470376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77040" y="4719600"/>
            <a:ext cx="0" cy="18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337520" y="47196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6991200" y="1357200"/>
            <a:ext cx="1908360" cy="2214360"/>
            <a:chOff x="6991200" y="1357200"/>
            <a:chExt cx="1908360" cy="2214360"/>
          </a:xfrm>
        </p:grpSpPr>
        <p:sp>
          <p:nvSpPr>
            <p:cNvPr id="1037" name=""/>
            <p:cNvSpPr txBox="1"/>
            <p:nvPr/>
          </p:nvSpPr>
          <p:spPr>
            <a:xfrm>
              <a:off x="6991200" y="1357200"/>
              <a:ext cx="1905120" cy="221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»ç°í³»¿ª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Ï·Ã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»ç°íÀ¯ÇüÄÚµ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±¸º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ÀÏÀ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½Ã°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ã´çÀÚ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93000" y="1711440"/>
              <a:ext cx="1906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91960" y="1117440"/>
            <a:ext cx="146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630440" y="960480"/>
            <a:ext cx="8169120" cy="654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ÀÏÀÚ)  AS ÇØÁ¦ÀÏÀÚ,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 ¨ç »ç°íÇØÁ¦ À¯¹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½Ã°£)  AS ÇØÁ¦½Ã°£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´ã´çÀÚID)  AS 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A,  Ä«µå»ç°í³»¿ª  B,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»ç°íÀ¯Çü  C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è A´Â µîÀç,B´Â ÇØÁ¦ °ü·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 C.»ç°íÀ¯ÇüÄÚµ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 =  '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Ä«µå¹øÈ£  =  B.Ä«µå¹øÈ£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B.»ç°íÀ¯ÇüÄÚµå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'9' = B.µîÀç±¸ºÐ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|| B.µîÀç½Ã°£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MIN(D.µîÀçÀÏÀÚ || D.µîÀç½Ã°£)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 ¨é ÃÖ¼Ò°ªÀÌ ÇØ´çµîÀçÀÇ ÇØÁ¦ÀÏ½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  NOT EXISTS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'X'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ê µîÀç ÈÄ ¾ÆÁ÷ ÇØÁ¦µÇÁö ¾ÊÀº µ¥ÀÌÅ¸ Ã£±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 A.µîÀçÀÏÀÚ,  A.µîÀç½Ã°£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20760" y="1117440"/>
            <a:ext cx="950904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6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°í¸®¸¦ °í·ÁÇÏÁö ¾ÊÀº ¸ðµ¨¸µÀÇ Àß¸øÀ¸·Î ÀÎÇÑ ÄÚµùÀÇ °úºÎ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3543120" y="5415120"/>
            <a:ext cx="754560" cy="754200"/>
            <a:chOff x="3543120" y="5415120"/>
            <a:chExt cx="754560" cy="754200"/>
          </a:xfrm>
        </p:grpSpPr>
        <p:sp>
          <p:nvSpPr>
            <p:cNvPr id="1047" name=""/>
            <p:cNvSpPr/>
            <p:nvPr/>
          </p:nvSpPr>
          <p:spPr>
            <a:xfrm>
              <a:off x="3543120" y="5415120"/>
              <a:ext cx="754200" cy="75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2320" y="5423040"/>
              <a:ext cx="495360" cy="439200"/>
            </a:xfrm>
            <a:custGeom>
              <a:avLst/>
              <a:gdLst/>
              <a:ahLst/>
              <a:rect l="0" t="0" r="r" b="b"/>
              <a:pathLst>
                <a:path fill="none" w="1376" h="1220">
                  <a:moveTo>
                    <a:pt x="1361" y="1220"/>
                  </a:moveTo>
                  <a:lnTo>
                    <a:pt x="1361" y="1220"/>
                  </a:lnTo>
                  <a:cubicBezTo>
                    <a:pt x="1371" y="1163"/>
                    <a:pt x="1376" y="1106"/>
                    <a:pt x="1376" y="1049"/>
                  </a:cubicBezTo>
                  <a:cubicBezTo>
                    <a:pt x="1376" y="865"/>
                    <a:pt x="1325" y="684"/>
                    <a:pt x="1229" y="524"/>
                  </a:cubicBezTo>
                  <a:cubicBezTo>
                    <a:pt x="1134" y="365"/>
                    <a:pt x="996" y="233"/>
                    <a:pt x="830" y="140"/>
                  </a:cubicBezTo>
                  <a:cubicBezTo>
                    <a:pt x="664" y="48"/>
                    <a:pt x="476" y="0"/>
                    <a:pt x="284" y="0"/>
                  </a:cubicBezTo>
                  <a:cubicBezTo>
                    <a:pt x="188" y="0"/>
                    <a:pt x="93" y="12"/>
                    <a:pt x="0" y="3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 txBox="1"/>
          <p:nvPr/>
        </p:nvSpPr>
        <p:spPr>
          <a:xfrm>
            <a:off x="6172200" y="3048120"/>
            <a:ext cx="2298600" cy="323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µîÀçÀÏ·Ã¹øÈ£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45120" y="3382920"/>
            <a:ext cx="1608120" cy="1260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¹°¸®¼³°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130480" y="3062160"/>
            <a:ext cx="1763640" cy="290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129200" y="525636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µÇ¾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122640" y="616104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ÇÏ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33720" y="3622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84800" y="35751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739800" y="1692360"/>
            <a:ext cx="8861400" cy="2830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AS ÇØÁ¦ÀÏÀÚ, B.µîÀçÀÏ½Ã AS ÇØÁ¦½Ã°£, B.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A,  Ä«µå»ç°í³»¿ª  B,  »ç°íÀ¯Çü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C.»ç°íÀ¯ÇüÄÚµå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= '1'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Ï·Ã¹øÈ£ = B.µîÀçÀÏ·Ã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A.µîÀçÀÏÀÚ, A.µîÀç½Ã°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3797280" y="1851120"/>
            <a:ext cx="1487520" cy="216360"/>
            <a:chOff x="3797280" y="1851120"/>
            <a:chExt cx="1487520" cy="216360"/>
          </a:xfrm>
        </p:grpSpPr>
        <p:sp>
          <p:nvSpPr>
            <p:cNvPr id="1060" name=""/>
            <p:cNvSpPr/>
            <p:nvPr/>
          </p:nvSpPr>
          <p:spPr>
            <a:xfrm>
              <a:off x="37972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97280" y="1851120"/>
              <a:ext cx="182880" cy="216360"/>
            </a:xfrm>
            <a:custGeom>
              <a:avLst/>
              <a:gdLst/>
              <a:ahLst/>
              <a:rect l="0" t="0" r="r" b="b"/>
              <a:pathLst>
                <a:path fill="none" w="508" h="601">
                  <a:moveTo>
                    <a:pt x="0" y="0"/>
                  </a:moveTo>
                  <a:lnTo>
                    <a:pt x="508" y="305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496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22200" y="1117440"/>
            <a:ext cx="1297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346560" y="2635200"/>
            <a:ext cx="928800" cy="750960"/>
            <a:chOff x="3346560" y="2635200"/>
            <a:chExt cx="928800" cy="750960"/>
          </a:xfrm>
        </p:grpSpPr>
        <p:sp>
          <p:nvSpPr>
            <p:cNvPr id="1066" name=""/>
            <p:cNvSpPr/>
            <p:nvPr/>
          </p:nvSpPr>
          <p:spPr>
            <a:xfrm>
              <a:off x="3489480" y="2673360"/>
              <a:ext cx="785880" cy="712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43360" y="2635200"/>
              <a:ext cx="160560" cy="109800"/>
            </a:xfrm>
            <a:custGeom>
              <a:avLst/>
              <a:gdLst/>
              <a:ahLst/>
              <a:rect l="0" t="0" r="r" b="b"/>
              <a:pathLst>
                <a:path fill="none" w="446" h="305">
                  <a:moveTo>
                    <a:pt x="0" y="0"/>
                  </a:moveTo>
                  <a:lnTo>
                    <a:pt x="446" y="150"/>
                  </a:lnTo>
                  <a:lnTo>
                    <a:pt x="0" y="30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89480" y="3038760"/>
              <a:ext cx="433080" cy="283680"/>
            </a:xfrm>
            <a:custGeom>
              <a:avLst/>
              <a:gdLst/>
              <a:ahLst/>
              <a:rect l="0" t="0" r="r" b="b"/>
              <a:pathLst>
                <a:path w="1203" h="788">
                  <a:moveTo>
                    <a:pt x="1203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2"/>
                    <a:pt x="0" y="3"/>
                  </a:cubicBezTo>
                  <a:cubicBezTo>
                    <a:pt x="0" y="176"/>
                    <a:pt x="56" y="346"/>
                    <a:pt x="161" y="496"/>
                  </a:cubicBezTo>
                  <a:cubicBezTo>
                    <a:pt x="241" y="609"/>
                    <a:pt x="348" y="709"/>
                    <a:pt x="476" y="788"/>
                  </a:cubicBezTo>
                  <a:lnTo>
                    <a:pt x="120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8948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9092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0"/>
                  </a:moveTo>
                  <a:lnTo>
                    <a:pt x="0" y="0"/>
                  </a:lnTo>
                  <a:lnTo>
                    <a:pt x="15" y="72"/>
                  </a:lnTo>
                  <a:lnTo>
                    <a:pt x="72" y="7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9740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5"/>
                  </a:lnTo>
                  <a:lnTo>
                    <a:pt x="14" y="72"/>
                  </a:lnTo>
                  <a:lnTo>
                    <a:pt x="72" y="4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6760" y="3143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4"/>
                  </a:lnTo>
                  <a:lnTo>
                    <a:pt x="14" y="72"/>
                  </a:lnTo>
                  <a:lnTo>
                    <a:pt x="72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36"/>
                  </a:lnTo>
                  <a:lnTo>
                    <a:pt x="17" y="72"/>
                  </a:lnTo>
                  <a:lnTo>
                    <a:pt x="72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24400" y="3173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0" y="0"/>
                  </a:moveTo>
                  <a:lnTo>
                    <a:pt x="0" y="24"/>
                  </a:lnTo>
                  <a:lnTo>
                    <a:pt x="7" y="72"/>
                  </a:lnTo>
                  <a:lnTo>
                    <a:pt x="72" y="4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0240" y="320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0"/>
                  </a:moveTo>
                  <a:lnTo>
                    <a:pt x="0" y="29"/>
                  </a:lnTo>
                  <a:lnTo>
                    <a:pt x="29" y="72"/>
                  </a:lnTo>
                  <a:lnTo>
                    <a:pt x="72" y="4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62200" y="323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0" y="29"/>
                  </a:lnTo>
                  <a:lnTo>
                    <a:pt x="36" y="72"/>
                  </a:lnTo>
                  <a:lnTo>
                    <a:pt x="72" y="4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87760" y="3257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3" y="0"/>
                  </a:moveTo>
                  <a:lnTo>
                    <a:pt x="0" y="29"/>
                  </a:lnTo>
                  <a:lnTo>
                    <a:pt x="33" y="72"/>
                  </a:lnTo>
                  <a:lnTo>
                    <a:pt x="72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72" y="1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58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43"/>
                  </a:lnTo>
                  <a:lnTo>
                    <a:pt x="32" y="72"/>
                  </a:lnTo>
                  <a:lnTo>
                    <a:pt x="72" y="2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43200" y="3301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33"/>
                  </a:lnTo>
                  <a:lnTo>
                    <a:pt x="48" y="72"/>
                  </a:lnTo>
                  <a:lnTo>
                    <a:pt x="72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6560" y="2725560"/>
              <a:ext cx="17136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"/>
          <p:cNvSpPr txBox="1"/>
          <p:nvPr/>
        </p:nvSpPr>
        <p:spPr>
          <a:xfrm>
            <a:off x="1494000" y="22860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 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924200" y="3648240"/>
            <a:ext cx="7648560" cy="318924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 txBox="1"/>
          <p:nvPr/>
        </p:nvSpPr>
        <p:spPr>
          <a:xfrm>
            <a:off x="1682640" y="1154160"/>
            <a:ext cx="2170080" cy="223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üÇ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ÄÚµå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°ú¸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ëÃ¼ÀüÇ¥¹øÈ£ (F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5238720" y="1252440"/>
            <a:ext cx="1635120" cy="1345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°Å·¡¼±ÄÚµ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¸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22200" y="3517920"/>
            <a:ext cx="1442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¾÷¹«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676520" y="1523880"/>
            <a:ext cx="216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241960" y="1654200"/>
            <a:ext cx="161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290840" y="2909880"/>
            <a:ext cx="1124280" cy="706680"/>
          </a:xfrm>
          <a:custGeom>
            <a:avLst/>
            <a:gdLst/>
            <a:ahLst/>
            <a:rect l="0" t="0" r="r" b="b"/>
            <a:pathLst>
              <a:path fill="none" w="3123" h="1963">
                <a:moveTo>
                  <a:pt x="3123" y="1963"/>
                </a:moveTo>
                <a:lnTo>
                  <a:pt x="3123" y="1963"/>
                </a:lnTo>
                <a:lnTo>
                  <a:pt x="3123" y="1963"/>
                </a:lnTo>
                <a:cubicBezTo>
                  <a:pt x="3123" y="1618"/>
                  <a:pt x="2979" y="1280"/>
                  <a:pt x="2705" y="981"/>
                </a:cubicBezTo>
                <a:cubicBezTo>
                  <a:pt x="2430" y="683"/>
                  <a:pt x="2036" y="435"/>
                  <a:pt x="1561" y="263"/>
                </a:cubicBezTo>
                <a:cubicBezTo>
                  <a:pt x="1087" y="91"/>
                  <a:pt x="548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1517760" y="254160"/>
            <a:ext cx="8645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28680" y="1095480"/>
            <a:ext cx="1549440" cy="39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  º¸°í¼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º¸°í¼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2081160" y="1434960"/>
            <a:ext cx="7432560" cy="2809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  ÀüÇ¥¹øÈ£  ´ëÃ¼¹ß»ýÀÏ  ´ëÃ¼ÀüÇ¥¹øÈ£  ÀüÇ¥ÀÜ¾×    ´ëÃ¼¾×     ´ëÃ¼ÈÄÀÜ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1       001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000,000    150,000    85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9       00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850,000     50,000    8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2       004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800,000  1,200,000    6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7       004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600,000    6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500,000          0    5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27       005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3,000,000  3,0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  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....       ....       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094200" y="1432080"/>
            <a:ext cx="5209920" cy="2269800"/>
            <a:chOff x="3094200" y="1432080"/>
            <a:chExt cx="5209920" cy="2269800"/>
          </a:xfrm>
        </p:grpSpPr>
        <p:sp>
          <p:nvSpPr>
            <p:cNvPr id="1097" name=""/>
            <p:cNvSpPr/>
            <p:nvPr/>
          </p:nvSpPr>
          <p:spPr>
            <a:xfrm>
              <a:off x="30942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4668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02776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658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8964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0412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 txBox="1"/>
          <p:nvPr/>
        </p:nvSpPr>
        <p:spPr>
          <a:xfrm>
            <a:off x="4886280" y="106380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147760" y="114300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7728120" y="117324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422600" y="4056120"/>
            <a:ext cx="21906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ÀÜ¾× ¸®½ºÆ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898640" y="413532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7107120" y="417996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76480" y="181440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054160" y="4498920"/>
            <a:ext cx="6699240" cy="271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¹øÈ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±Ý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ÃÖÁ¾´ëÃ¼ÀÏ    ´ëÃ¼ÀÜ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´ëÃ¼»óÅÂ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000,000    96.07.29      8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800,000    96.08.17        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  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500,000                  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¹Ì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3,000,000    96.08.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8,500,000    96.08.30    5,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54160" y="4840200"/>
            <a:ext cx="668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3102120" y="4502160"/>
            <a:ext cx="4260600" cy="2214720"/>
            <a:chOff x="3102120" y="4502160"/>
            <a:chExt cx="4260600" cy="2214720"/>
          </a:xfrm>
        </p:grpSpPr>
        <p:sp>
          <p:nvSpPr>
            <p:cNvPr id="1113" name=""/>
            <p:cNvSpPr/>
            <p:nvPr/>
          </p:nvSpPr>
          <p:spPr>
            <a:xfrm>
              <a:off x="3102120" y="450216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62240" y="451008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10200" y="45036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86680" y="4511520"/>
              <a:ext cx="0" cy="220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62720" y="45054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1527120" y="228600"/>
            <a:ext cx="8213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22200" y="988920"/>
            <a:ext cx="910440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·Î Ç®¸®±â ¶§¹®¿¡ ½Ã°£ÀÌ ¸¹ÀÌ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017800" y="1407960"/>
            <a:ext cx="7705800" cy="33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V.´ëÃ¼¹ß»ýÀÏ, V.ÀüÇ¥¹øÈ£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 - NVL(V.´©°è´ëÃ¼¾×,0) + NVL(V.´ëÃ¼¾×,0) AS ÀüÇ¥ÀÜ¾×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V.´ëÃ¼¾×,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A.ÀüÇ¥±Ý¾× - NVL(V.´©°è´ëÃ¼¾×,0) AS ´ëÃ¼ÈÄ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B.´ëÃ¼ÀüÇ¥¹øÈ£, B.ÀüÇ¥¹øÈ£, B.ÀüÇ¥ÀÏÀÚ AS ´ëÃ¼¹ß»ýÀÏ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B.ÀüÇ¥±Ý¾× AS ´ëÃ¼¾×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(C.ÀüÇ¥±Ý¾×) AS ´©°è´ëÃ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B, ÀüÇ¥Á¤º¸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B.´ëÃ¼ÀüÇ¥¹øÈ£ = C. ´ëÃ¼ÀüÇ¥¹øÈ£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B.ÀüÇ¥ÀÏÀÚ &gt;= C.ÀüÇ¥ÀÏÀ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B.°Å·¡¼±ÄÚµå = '120000'  AND  B.°èÁ¤°ú¸ñ = '¹ÞÀ»¾îÀ½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BY  B.´ëÃ¼ÀüÇ¥¹øÈ£, B.ÀüÇ¥¹øÈ£, B.ÀüÇ¥ÀÏÀÚ, B.ÀüÇ¥±Ý¾×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V.´ëÃ¼ÀüÇ¥¹øÈ£(+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AND   A.°Å·¡¼±ÄÚµå = '120000'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AND A.´ëÃ¼ÀüÇ¥¹øÈ£ IS NULL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2009880" y="4821120"/>
            <a:ext cx="732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1515960" y="27144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30120" y="1143000"/>
            <a:ext cx="1909800" cy="8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227320" y="1042920"/>
            <a:ext cx="716904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 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A.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Å·¡¼±ÄÚµå = '120000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2247840" y="3882960"/>
            <a:ext cx="7184880" cy="315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-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Ç¥ÀÏÀÚ, ÀüÇ¥¹øÈ£, 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¼±ÄÚµå = '120000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èÁ¤°ú¸ñ = '¹ÞÀ»¾îÀ½' )  A,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92040" y="4962600"/>
            <a:ext cx="183204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-LINE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99960" y="2282760"/>
            <a:ext cx="173340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UTER 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4805280" y="2670120"/>
            <a:ext cx="4564080" cy="384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º»ÀÎÄ«µå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ÃÖÁ¾Ä«µå  </a:t>
            </a:r>
            <a:r>
              <a:rPr b="1" lang="en-US" sz="1800" spc="-1" strike="noStrike">
                <a:solidFill>
                  <a:srgbClr val="9900cc"/>
                </a:solidFill>
                <a:latin typeface="XXXXXX"/>
                <a:ea typeface="XXXXXX"/>
              </a:rPr>
              <a:t>ÀÌÀüÄ«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     </a:t>
            </a:r>
            <a:r>
              <a:rPr b="1" lang="en-US" sz="1800" spc="-1" strike="noStrike">
                <a:solidFill>
                  <a:srgbClr val="dddddd"/>
                </a:solidFill>
                <a:latin typeface="XXXXXX"/>
                <a:ea typeface="XXXXXX"/>
              </a:rPr>
              <a:t>NULL      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1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28560" y="5062680"/>
            <a:ext cx="639720" cy="6904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09640" y="4964040"/>
            <a:ext cx="181440" cy="176400"/>
          </a:xfrm>
          <a:custGeom>
            <a:avLst/>
            <a:gdLst/>
            <a:ahLst/>
            <a:rect l="0" t="0" r="r" b="b"/>
            <a:pathLst>
              <a:path fill="none" w="504" h="490">
                <a:moveTo>
                  <a:pt x="365" y="0"/>
                </a:moveTo>
                <a:lnTo>
                  <a:pt x="0" y="387"/>
                </a:lnTo>
                <a:lnTo>
                  <a:pt x="504" y="49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7760" y="5423040"/>
            <a:ext cx="298800" cy="291240"/>
          </a:xfrm>
          <a:custGeom>
            <a:avLst/>
            <a:gdLst/>
            <a:ahLst/>
            <a:rect l="0" t="0" r="r" b="b"/>
            <a:pathLst>
              <a:path w="830" h="809">
                <a:moveTo>
                  <a:pt x="0" y="0"/>
                </a:moveTo>
                <a:lnTo>
                  <a:pt x="314" y="809"/>
                </a:lnTo>
                <a:lnTo>
                  <a:pt x="314" y="809"/>
                </a:lnTo>
                <a:cubicBezTo>
                  <a:pt x="349" y="794"/>
                  <a:pt x="383" y="777"/>
                  <a:pt x="415" y="757"/>
                </a:cubicBezTo>
                <a:cubicBezTo>
                  <a:pt x="541" y="680"/>
                  <a:pt x="646" y="570"/>
                  <a:pt x="719" y="437"/>
                </a:cubicBezTo>
                <a:cubicBezTo>
                  <a:pt x="791" y="304"/>
                  <a:pt x="830" y="153"/>
                  <a:pt x="83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335320" y="5065560"/>
            <a:ext cx="677880" cy="7160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628720" y="4964040"/>
            <a:ext cx="192600" cy="182880"/>
          </a:xfrm>
          <a:custGeom>
            <a:avLst/>
            <a:gdLst/>
            <a:ahLst/>
            <a:rect l="0" t="0" r="r" b="b"/>
            <a:pathLst>
              <a:path fill="none" w="535" h="508">
                <a:moveTo>
                  <a:pt x="147" y="0"/>
                </a:moveTo>
                <a:lnTo>
                  <a:pt x="535" y="401"/>
                </a:lnTo>
                <a:lnTo>
                  <a:pt x="0" y="5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27400" y="5439600"/>
            <a:ext cx="317160" cy="302040"/>
          </a:xfrm>
          <a:custGeom>
            <a:avLst/>
            <a:gdLst/>
            <a:ahLst/>
            <a:rect l="0" t="0" r="r" b="b"/>
            <a:pathLst>
              <a:path w="881" h="839">
                <a:moveTo>
                  <a:pt x="881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159"/>
                  <a:pt x="41" y="316"/>
                  <a:pt x="118" y="453"/>
                </a:cubicBezTo>
                <a:cubicBezTo>
                  <a:pt x="195" y="591"/>
                  <a:pt x="307" y="706"/>
                  <a:pt x="440" y="786"/>
                </a:cubicBezTo>
                <a:cubicBezTo>
                  <a:pt x="475" y="806"/>
                  <a:pt x="510" y="824"/>
                  <a:pt x="546" y="839"/>
                </a:cubicBezTo>
                <a:lnTo>
                  <a:pt x="88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87520" y="23004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923760" y="2522520"/>
            <a:ext cx="1770120" cy="2968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í°´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áÁ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ç¿ë°³½Ã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ÖÁ¾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ÌÀü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930240" y="3054240"/>
            <a:ext cx="174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82760" y="5753160"/>
            <a:ext cx="1074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ç¹ß±ÞµÇ¾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089080" y="578160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¡Á·Ä«µå·Î½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53080" y="5538960"/>
            <a:ext cx="598320" cy="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5559480" y="3371760"/>
            <a:ext cx="695160" cy="216540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48320" y="3355920"/>
            <a:ext cx="3056040" cy="130032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5621400" y="4665600"/>
            <a:ext cx="29113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16720" y="4670280"/>
            <a:ext cx="2930400" cy="44640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649840" y="5110200"/>
            <a:ext cx="29005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07000" y="5538960"/>
            <a:ext cx="542880" cy="0"/>
          </a:xfrm>
          <a:prstGeom prst="line">
            <a:avLst/>
          </a:prstGeom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4683240" y="5095800"/>
            <a:ext cx="54288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692520" y="4994280"/>
            <a:ext cx="1170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673440" y="5389560"/>
            <a:ext cx="1170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£±â½ÃÀ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24360" y="311796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84320" y="1114560"/>
            <a:ext cx="9634680" cy="11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Ñ Å×ÀÌºíÀÌ µÎ °³ÀÇ RECURSIVE °ü°è¸¦ °¡Áø °æ¿ì CONNECT BY¸¦ È°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SQL·Î ÇØ°áÇÏ±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¾îÁø¼ö</dc:creator>
  <dc:description/>
  <dc:language>en-US</dc:language>
  <cp:lastModifiedBy>¾îÁø¼ö</cp:lastModifiedBy>
  <cp:revision>0</cp:revision>
  <dc:subject/>
  <dc:title>½½¶óÀÌµå Á¦¸ñ ¾øÀ½</dc:title>
</cp:coreProperties>
</file>