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_rels/notesSlide5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notesSlide52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5.png" ContentType="image/png"/>
  <Override PartName="/ppt/media/image28.png" ContentType="image/png"/>
  <Override PartName="/ppt/media/image9.png" ContentType="image/png"/>
  <Override PartName="/ppt/media/image17.wmf" ContentType="image/x-wmf"/>
  <Override PartName="/ppt/media/image12.wmf" ContentType="image/x-wmf"/>
  <Override PartName="/ppt/media/image4.png" ContentType="image/png"/>
  <Override PartName="/ppt/media/image27.png" ContentType="image/png"/>
  <Override PartName="/ppt/media/image8.png" ContentType="image/png"/>
  <Override PartName="/ppt/media/image16.wmf" ContentType="image/x-wmf"/>
  <Override PartName="/ppt/media/image11.wmf" ContentType="image/x-wmf"/>
  <Override PartName="/ppt/media/image3.png" ContentType="image/png"/>
  <Override PartName="/ppt/media/image7.png" ContentType="image/png"/>
  <Override PartName="/ppt/media/image15.wmf" ContentType="image/x-wmf"/>
  <Override PartName="/ppt/media/image26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14.wmf" ContentType="image/x-wmf"/>
  <Override PartName="/ppt/media/image6.png" ContentType="image/png"/>
  <Override PartName="/ppt/media/image21.wmf" ContentType="image/x-wmf"/>
  <Override PartName="/ppt/media/image19.wmf" ContentType="image/x-wmf"/>
  <Override PartName="/ppt/media/image10.wmf" ContentType="image/x-wmf"/>
  <Override PartName="/ppt/media/image25.png" ContentType="image/png"/>
  <Override PartName="/ppt/media/image2.png" ContentType="image/png"/>
  <Override PartName="/ppt/media/image20.wmf" ContentType="image/x-wmf"/>
  <Override PartName="/ppt/media/image18.wmf" ContentType="image/x-wmf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</p:sldIdLst>
  <p:sldSz cx="9144000" cy="6858000"/>
  <p:notesSz cx="70231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0"/>
            <a:ext cx="7023600" cy="91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430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dt" idx="1"/>
          </p:nvPr>
        </p:nvSpPr>
        <p:spPr>
          <a:xfrm>
            <a:off x="3979800" y="0"/>
            <a:ext cx="304344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Img"/>
          </p:nvPr>
        </p:nvSpPr>
        <p:spPr>
          <a:xfrm>
            <a:off x="1231560" y="684360"/>
            <a:ext cx="4559400" cy="3419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a304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fca304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body"/>
          </p:nvPr>
        </p:nvSpPr>
        <p:spPr>
          <a:xfrm>
            <a:off x="228240" y="4330440"/>
            <a:ext cx="655308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-360" y="8662680"/>
            <a:ext cx="30430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3979800" y="8662680"/>
            <a:ext cx="30434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82BF7-A246-421A-8B65-1DB1DE99C79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sldImg"/>
          </p:nvPr>
        </p:nvSpPr>
        <p:spPr>
          <a:xfrm>
            <a:off x="1231920" y="684360"/>
            <a:ext cx="4559400" cy="3419280"/>
          </a:xfrm>
          <a:prstGeom prst="rect">
            <a:avLst/>
          </a:prstGeom>
          <a:ln w="0">
            <a:noFill/>
          </a:ln>
        </p:spPr>
      </p:sp>
      <p:sp>
        <p:nvSpPr>
          <p:cNvPr id="988" name="PlaceHolder 2"/>
          <p:cNvSpPr>
            <a:spLocks noGrp="1"/>
          </p:cNvSpPr>
          <p:nvPr>
            <p:ph type="body"/>
          </p:nvPr>
        </p:nvSpPr>
        <p:spPr>
          <a:xfrm>
            <a:off x="228240" y="4330440"/>
            <a:ext cx="655308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Welcome to the first session in the Windows 2000 DNA track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In this session we will discuss building applications that “Do More” in the business tier by leveraging COM+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We encourage attendees to follow a track through the full track, as each session builds upon the next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"/>
          <p:cNvSpPr txBox="1"/>
          <p:nvPr/>
        </p:nvSpPr>
        <p:spPr>
          <a:xfrm>
            <a:off x="3979800" y="8662680"/>
            <a:ext cx="30434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C982E-83D5-443F-97C2-25EC0920160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 txBox="1"/>
          <p:nvPr/>
        </p:nvSpPr>
        <p:spPr>
          <a:xfrm>
            <a:off x="-360" y="8662680"/>
            <a:ext cx="30430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 txBox="1"/>
          <p:nvPr/>
        </p:nvSpPr>
        <p:spPr>
          <a:xfrm>
            <a:off x="-360" y="0"/>
            <a:ext cx="30430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 txBox="1"/>
          <p:nvPr/>
        </p:nvSpPr>
        <p:spPr>
          <a:xfrm>
            <a:off x="3979800" y="0"/>
            <a:ext cx="304344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0480" y="682560"/>
            <a:ext cx="4563720" cy="342288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21960" y="4330440"/>
            <a:ext cx="5178600" cy="413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2000" spc="-1" strike="noStrike">
              <a:solidFill>
                <a:srgbClr val="000000"/>
              </a:solidFill>
              <a:latin typeface="Arial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sldImg"/>
          </p:nvPr>
        </p:nvSpPr>
        <p:spPr>
          <a:xfrm>
            <a:off x="1231920" y="684360"/>
            <a:ext cx="4559400" cy="3419280"/>
          </a:xfrm>
          <a:prstGeom prst="rect">
            <a:avLst/>
          </a:prstGeom>
          <a:ln w="0">
            <a:noFill/>
          </a:ln>
        </p:spPr>
      </p:sp>
      <p:sp>
        <p:nvSpPr>
          <p:cNvPr id="990" name="PlaceHolder 2"/>
          <p:cNvSpPr>
            <a:spLocks noGrp="1"/>
          </p:cNvSpPr>
          <p:nvPr>
            <p:ph type="body"/>
          </p:nvPr>
        </p:nvSpPr>
        <p:spPr>
          <a:xfrm>
            <a:off x="229680" y="4330440"/>
            <a:ext cx="6588360" cy="410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This session will focus on using MDX to solve complex business problems using MDX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84360"/>
            <a:ext cx="4559400" cy="341928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228240" y="4330440"/>
            <a:ext cx="655308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Question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Should leave 10-15 minutes for questions or accept questions during the session.  Encourage the audience to stick with the remainder of this trac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sldImg"/>
          </p:nvPr>
        </p:nvSpPr>
        <p:spPr>
          <a:xfrm>
            <a:off x="1231920" y="684360"/>
            <a:ext cx="4559400" cy="3419280"/>
          </a:xfrm>
          <a:prstGeom prst="rect">
            <a:avLst/>
          </a:prstGeom>
          <a:ln w="0">
            <a:noFill/>
          </a:ln>
        </p:spPr>
      </p:sp>
      <p:sp>
        <p:nvSpPr>
          <p:cNvPr id="992" name="PlaceHolder 2"/>
          <p:cNvSpPr>
            <a:spLocks noGrp="1"/>
          </p:cNvSpPr>
          <p:nvPr>
            <p:ph type="body"/>
          </p:nvPr>
        </p:nvSpPr>
        <p:spPr>
          <a:xfrm>
            <a:off x="229680" y="4330440"/>
            <a:ext cx="6588360" cy="410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Key po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:  Windows DNA is Microsoft’s strategic initiative to enable 3-tier computing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Although we believe in distributed database, we don’t feel that distributed databas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by itself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will be sufficient to power the new generation of Web-enabled, highly distributed systems. There is a growing industry consensus that components provide the necessary means to both scale and package and distributed necessary functionality in distributed environments and on the Internet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ldImg"/>
          </p:nvPr>
        </p:nvSpPr>
        <p:spPr>
          <a:xfrm>
            <a:off x="1231920" y="684360"/>
            <a:ext cx="4559400" cy="3419280"/>
          </a:xfrm>
          <a:prstGeom prst="rect">
            <a:avLst/>
          </a:prstGeom>
          <a:ln w="0">
            <a:noFill/>
          </a:ln>
        </p:spPr>
      </p:sp>
      <p:sp>
        <p:nvSpPr>
          <p:cNvPr id="994" name="PlaceHolder 2"/>
          <p:cNvSpPr>
            <a:spLocks noGrp="1"/>
          </p:cNvSpPr>
          <p:nvPr>
            <p:ph type="body"/>
          </p:nvPr>
        </p:nvSpPr>
        <p:spPr>
          <a:xfrm>
            <a:off x="229680" y="4330440"/>
            <a:ext cx="6588360" cy="410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Windows DNA tene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Logically partition your application into 3 t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Business Log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Integrated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Build components using COM as the programming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Leverage Windows Services to deliver, connect and support the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Design for the disconnected c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Design for flexible access to data - structured &amp; unstructu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7360" y="228600"/>
            <a:ext cx="756288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ca304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7360" y="1676520"/>
            <a:ext cx="77724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87360" y="3806280"/>
            <a:ext cx="77724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7360" y="228600"/>
            <a:ext cx="756288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ca304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7360" y="1676520"/>
            <a:ext cx="37926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370040" y="1676520"/>
            <a:ext cx="37926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7360" y="3806280"/>
            <a:ext cx="37926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370040" y="3806280"/>
            <a:ext cx="37926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7360" y="228600"/>
            <a:ext cx="756288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ca304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7360" y="1676520"/>
            <a:ext cx="250236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15360" y="1676520"/>
            <a:ext cx="250236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43000" y="1676520"/>
            <a:ext cx="250236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387360" y="3806280"/>
            <a:ext cx="250236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15360" y="3806280"/>
            <a:ext cx="250236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643000" y="3806280"/>
            <a:ext cx="250236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7360" y="228600"/>
            <a:ext cx="756288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ca304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87360" y="1676520"/>
            <a:ext cx="7772400" cy="40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7360" y="228600"/>
            <a:ext cx="756288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ca304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87360" y="1676520"/>
            <a:ext cx="7772400" cy="40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7360" y="228600"/>
            <a:ext cx="756288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ca304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7360" y="1676520"/>
            <a:ext cx="3792600" cy="40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370040" y="1676520"/>
            <a:ext cx="3792600" cy="40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7360" y="228600"/>
            <a:ext cx="756288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ca304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387360" y="228600"/>
            <a:ext cx="7562880" cy="653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7360" y="228600"/>
            <a:ext cx="756288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ca304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7360" y="1676520"/>
            <a:ext cx="37926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370040" y="1676520"/>
            <a:ext cx="3792600" cy="40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387360" y="3806280"/>
            <a:ext cx="37926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7360" y="228600"/>
            <a:ext cx="756288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ca30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387360" y="1676520"/>
            <a:ext cx="7772400" cy="40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7360" y="228600"/>
            <a:ext cx="756288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ca304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7360" y="1676520"/>
            <a:ext cx="3792600" cy="40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370040" y="1676520"/>
            <a:ext cx="37926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370040" y="3806280"/>
            <a:ext cx="37926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7360" y="228600"/>
            <a:ext cx="756288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ca304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7360" y="1676520"/>
            <a:ext cx="37926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370040" y="1676520"/>
            <a:ext cx="37926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87360" y="3806280"/>
            <a:ext cx="77724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7360" y="228600"/>
            <a:ext cx="756288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ca304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7360" y="1676520"/>
            <a:ext cx="77724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87360" y="3806280"/>
            <a:ext cx="77724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7360" y="228600"/>
            <a:ext cx="756288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ca304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7360" y="1676520"/>
            <a:ext cx="37926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370040" y="1676520"/>
            <a:ext cx="37926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87360" y="3806280"/>
            <a:ext cx="37926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370040" y="3806280"/>
            <a:ext cx="37926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7360" y="228600"/>
            <a:ext cx="756288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ca304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7360" y="1676520"/>
            <a:ext cx="250236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5360" y="1676520"/>
            <a:ext cx="250236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643000" y="1676520"/>
            <a:ext cx="250236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387360" y="3806280"/>
            <a:ext cx="250236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015360" y="3806280"/>
            <a:ext cx="250236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5643000" y="3806280"/>
            <a:ext cx="250236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87360" y="228600"/>
            <a:ext cx="756288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ca304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387360" y="1676520"/>
            <a:ext cx="7772400" cy="40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7360" y="228600"/>
            <a:ext cx="756288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ca304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87360" y="1676520"/>
            <a:ext cx="3792600" cy="40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370040" y="1676520"/>
            <a:ext cx="3792600" cy="40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7360" y="228600"/>
            <a:ext cx="756288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ca304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387360" y="228600"/>
            <a:ext cx="7562880" cy="653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7360" y="228600"/>
            <a:ext cx="756288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ca304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7360" y="1676520"/>
            <a:ext cx="37926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70040" y="1676520"/>
            <a:ext cx="3792600" cy="40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387360" y="3806280"/>
            <a:ext cx="37926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7360" y="228600"/>
            <a:ext cx="756288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ca304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7360" y="1676520"/>
            <a:ext cx="3792600" cy="40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370040" y="1676520"/>
            <a:ext cx="37926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370040" y="3806280"/>
            <a:ext cx="37926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7360" y="228600"/>
            <a:ext cx="756288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ca304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7360" y="1676520"/>
            <a:ext cx="37926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370040" y="1676520"/>
            <a:ext cx="37926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87360" y="3806280"/>
            <a:ext cx="77724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7360" y="228600"/>
            <a:ext cx="7562880" cy="1409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a304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fca304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7360" y="1676520"/>
            <a:ext cx="7772400" cy="40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76360" indent="-576360">
              <a:lnSpc>
                <a:spcPct val="90000"/>
              </a:lnSpc>
              <a:spcBef>
                <a:spcPts val="119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1040" indent="-452520">
              <a:lnSpc>
                <a:spcPct val="90000"/>
              </a:lnSpc>
              <a:spcBef>
                <a:spcPts val="119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449000" indent="-416520">
              <a:lnSpc>
                <a:spcPct val="90000"/>
              </a:lnSpc>
              <a:spcBef>
                <a:spcPts val="119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868400" indent="-417960">
              <a:lnSpc>
                <a:spcPct val="90000"/>
              </a:lnSpc>
              <a:spcBef>
                <a:spcPts val="119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57280" indent="-487080">
              <a:lnSpc>
                <a:spcPct val="90000"/>
              </a:lnSpc>
              <a:spcBef>
                <a:spcPts val="119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57280" indent="-4870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57280" indent="-4870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newblueblank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87360" y="743040"/>
            <a:ext cx="777240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a804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fca804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685800" indent="357120" algn="ctr">
              <a:lnSpc>
                <a:spcPct val="90000"/>
              </a:lnSpc>
              <a:spcBef>
                <a:spcPts val="901"/>
              </a:spcBef>
              <a:buClr>
                <a:srgbClr val="fca804"/>
              </a:buClr>
              <a:buSzPct val="7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028880" indent="436320" algn="ctr">
              <a:lnSpc>
                <a:spcPct val="90000"/>
              </a:lnSpc>
              <a:spcBef>
                <a:spcPts val="901"/>
              </a:spcBef>
              <a:buClr>
                <a:srgbClr val="fca804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371600" indent="517680" algn="ctr">
              <a:lnSpc>
                <a:spcPct val="90000"/>
              </a:lnSpc>
              <a:spcBef>
                <a:spcPts val="901"/>
              </a:spcBef>
              <a:buClr>
                <a:srgbClr val="fca804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371600" indent="51768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371600" indent="51768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10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11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12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13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package" Target="../embeddings/oleObject1.docx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15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3.wmf"/><Relationship Id="rId4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24.wmf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26.wmf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8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newblutitle" descr=""/>
          <p:cNvPicPr/>
          <p:nvPr/>
        </p:nvPicPr>
        <p:blipFill>
          <a:blip r:embed="rId2"/>
          <a:srcRect l="985" t="4868" r="4528" b="299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019240" y="1600200"/>
            <a:ext cx="6953400" cy="1434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089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ca304"/>
                </a:solidFill>
                <a:latin typeface="굴림"/>
                <a:ea typeface="굴림"/>
              </a:rPr>
              <a:t>DevDays </a:t>
            </a:r>
            <a:r>
              <a:rPr b="0" lang="en-US" sz="8800" spc="-1" strike="noStrike">
                <a:solidFill>
                  <a:srgbClr val="ffffff"/>
                </a:solidFill>
                <a:latin typeface="굴림"/>
                <a:ea typeface="굴림"/>
              </a:rPr>
              <a:t>’99</a:t>
            </a:r>
            <a:endParaRPr b="0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632880" y="876240"/>
            <a:ext cx="40770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38280" y="4224240"/>
            <a:ext cx="79531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ddlogo" descr=""/>
          <p:cNvPicPr/>
          <p:nvPr/>
        </p:nvPicPr>
        <p:blipFill>
          <a:blip r:embed="rId3"/>
          <a:stretch/>
        </p:blipFill>
        <p:spPr>
          <a:xfrm>
            <a:off x="5810400" y="5448240"/>
            <a:ext cx="2419200" cy="9097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576360" y="3429000"/>
            <a:ext cx="784368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089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ranklin Gothic Demi"/>
                <a:ea typeface="굴림"/>
              </a:rPr>
              <a:t>The aim of this mission is knowledge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044880" y="1432080"/>
            <a:ext cx="0" cy="4216320"/>
          </a:xfrm>
          <a:prstGeom prst="line">
            <a:avLst/>
          </a:prstGeom>
          <a:ln w="38160">
            <a:solidFill>
              <a:srgbClr val="ffffff"/>
            </a:solidFill>
            <a:miter/>
            <a:head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027240" y="5630760"/>
            <a:ext cx="55213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184640" y="5713560"/>
            <a:ext cx="314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굴림"/>
              </a:rPr>
              <a:t>Functionality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81960" y="2773440"/>
            <a:ext cx="2617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굴림"/>
              </a:rPr>
              <a:t>Knowledg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굴림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굴림"/>
              </a:rPr>
              <a:t>Require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3076560" y="5427360"/>
            <a:ext cx="1357200" cy="214200"/>
          </a:xfrm>
          <a:prstGeom prst="line">
            <a:avLst/>
          </a:prstGeom>
          <a:ln w="38160">
            <a:solidFill>
              <a:srgbClr val="fca3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4429080" y="1922400"/>
            <a:ext cx="857160" cy="3500640"/>
          </a:xfrm>
          <a:prstGeom prst="line">
            <a:avLst/>
          </a:prstGeom>
          <a:ln w="38160">
            <a:solidFill>
              <a:srgbClr val="fca3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5281560" y="1731600"/>
            <a:ext cx="2971800" cy="214200"/>
          </a:xfrm>
          <a:prstGeom prst="line">
            <a:avLst/>
          </a:prstGeom>
          <a:ln w="38160">
            <a:solidFill>
              <a:srgbClr val="fca3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7360" y="228600"/>
            <a:ext cx="7562880" cy="751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a304"/>
                </a:solidFill>
                <a:latin typeface="Arial"/>
                <a:ea typeface="굴림"/>
              </a:rPr>
              <a:t>Knowing MDX</a:t>
            </a:r>
            <a:endParaRPr b="1" lang="en-US" sz="4800" spc="-1" strike="noStrike">
              <a:solidFill>
                <a:srgbClr val="fca304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87360" y="228600"/>
            <a:ext cx="7562880" cy="751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a304"/>
                </a:solidFill>
                <a:latin typeface="Arial"/>
                <a:ea typeface="굴림"/>
              </a:rPr>
              <a:t>What Is MDX</a:t>
            </a:r>
            <a:endParaRPr b="1" lang="en-US" sz="4800" spc="-1" strike="noStrike">
              <a:solidFill>
                <a:srgbClr val="fca304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80880" y="1251000"/>
            <a:ext cx="8415360" cy="46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76360" indent="-576360">
              <a:lnSpc>
                <a:spcPct val="90000"/>
              </a:lnSpc>
              <a:spcBef>
                <a:spcPts val="119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MDX = Multi Dimensional Express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6360" indent="-576360">
              <a:lnSpc>
                <a:spcPct val="90000"/>
              </a:lnSpc>
              <a:spcBef>
                <a:spcPts val="119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OLAP Database</a:t>
            </a:r>
            <a:r>
              <a:rPr b="1" lang="ko-KR" sz="3200" spc="-1" strike="noStrike">
                <a:solidFill>
                  <a:srgbClr val="ffffff"/>
                </a:solidFill>
                <a:latin typeface="Arial"/>
                <a:ea typeface="굴림"/>
              </a:rPr>
              <a:t>에 대해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modeling</a:t>
            </a:r>
            <a:r>
              <a:rPr b="1" lang="ko-KR" sz="3200" spc="-1" strike="noStrike">
                <a:solidFill>
                  <a:srgbClr val="ffffff"/>
                </a:solidFill>
                <a:latin typeface="Arial"/>
                <a:ea typeface="굴림"/>
              </a:rPr>
              <a:t>과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querying</a:t>
            </a:r>
            <a:r>
              <a:rPr b="1" lang="ko-KR" sz="3200" spc="-1" strike="noStrike">
                <a:solidFill>
                  <a:srgbClr val="ffffff"/>
                </a:solidFill>
                <a:latin typeface="Arial"/>
                <a:ea typeface="굴림"/>
              </a:rPr>
              <a:t>을 위한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Syntax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6360" indent="-576360">
              <a:lnSpc>
                <a:spcPct val="90000"/>
              </a:lnSpc>
              <a:spcBef>
                <a:spcPts val="119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OLAP Spec</a:t>
            </a:r>
            <a:r>
              <a:rPr b="1" lang="ko-KR" sz="3200" spc="-1" strike="noStrike">
                <a:solidFill>
                  <a:srgbClr val="ffffff"/>
                </a:solidFill>
                <a:latin typeface="Arial"/>
                <a:ea typeface="굴림"/>
              </a:rPr>
              <a:t>을 위한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OLE DB </a:t>
            </a:r>
            <a:r>
              <a:rPr b="1" lang="ko-KR" sz="3200" spc="-1" strike="noStrike">
                <a:solidFill>
                  <a:srgbClr val="ffffff"/>
                </a:solidFill>
                <a:latin typeface="Arial"/>
                <a:ea typeface="굴림"/>
              </a:rPr>
              <a:t>지원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6360" indent="-576360">
              <a:lnSpc>
                <a:spcPct val="90000"/>
              </a:lnSpc>
              <a:spcBef>
                <a:spcPts val="119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Multiple providers</a:t>
            </a:r>
            <a:r>
              <a:rPr b="1" lang="ko-KR" sz="3200" spc="-1" strike="noStrike">
                <a:solidFill>
                  <a:srgbClr val="ffffff"/>
                </a:solidFill>
                <a:latin typeface="Arial"/>
                <a:ea typeface="굴림"/>
              </a:rPr>
              <a:t>에서도 사용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(OLAP Services, TM1, SAS, WhiteLight, SAP…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6360" indent="-576360">
              <a:lnSpc>
                <a:spcPct val="90000"/>
              </a:lnSpc>
              <a:spcBef>
                <a:spcPts val="119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OLAP Service</a:t>
            </a:r>
            <a:r>
              <a:rPr b="1" lang="ko-KR" sz="3200" spc="-1" strike="noStrike">
                <a:solidFill>
                  <a:srgbClr val="ffffff"/>
                </a:solidFill>
                <a:latin typeface="Arial"/>
                <a:ea typeface="굴림"/>
              </a:rPr>
              <a:t>의 분석 기능을 향상시킬 수 있는 중요한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Key</a:t>
            </a:r>
            <a:r>
              <a:rPr b="1" lang="ko-KR" sz="3200" spc="-1" strike="noStrike">
                <a:solidFill>
                  <a:srgbClr val="ffffff"/>
                </a:solidFill>
                <a:latin typeface="Arial"/>
                <a:ea typeface="굴림"/>
              </a:rPr>
              <a:t>이다</a:t>
            </a:r>
            <a:r>
              <a:rPr b="1" lang="ko-KR" sz="3200" spc="-1" strike="noStrike">
                <a:solidFill>
                  <a:srgbClr val="ffffff"/>
                </a:solidFill>
                <a:latin typeface="Arial"/>
                <a:ea typeface="굴림"/>
              </a:rPr>
              <a:t>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87360" y="228600"/>
            <a:ext cx="7562880" cy="751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a304"/>
                </a:solidFill>
                <a:latin typeface="Arial"/>
                <a:ea typeface="굴림"/>
              </a:rPr>
              <a:t>MDX Basics</a:t>
            </a:r>
            <a:endParaRPr b="1" lang="en-US" sz="4800" spc="-1" strike="noStrike">
              <a:solidFill>
                <a:srgbClr val="fca304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80880" y="1250640"/>
            <a:ext cx="8415360" cy="48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82480" indent="-582480">
              <a:lnSpc>
                <a:spcPct val="90000"/>
              </a:lnSpc>
              <a:spcBef>
                <a:spcPts val="119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Multi dimensional space</a:t>
            </a:r>
            <a:r>
              <a:rPr b="1" lang="ko-KR" sz="3200" spc="-1" strike="noStrike">
                <a:solidFill>
                  <a:srgbClr val="ffffff"/>
                </a:solidFill>
                <a:latin typeface="Arial"/>
                <a:ea typeface="굴림"/>
              </a:rPr>
              <a:t>에서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MDX</a:t>
            </a:r>
            <a:r>
              <a:rPr b="1" lang="ko-KR" sz="3200" spc="-1" strike="noStrike">
                <a:solidFill>
                  <a:srgbClr val="ffffff"/>
                </a:solidFill>
                <a:latin typeface="Arial"/>
                <a:ea typeface="굴림"/>
              </a:rPr>
              <a:t>는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  </a:t>
            </a:r>
            <a:r>
              <a:rPr b="1" lang="ko-KR" sz="3200" spc="-1" strike="noStrike">
                <a:solidFill>
                  <a:srgbClr val="ffffff"/>
                </a:solidFill>
                <a:latin typeface="Arial"/>
                <a:ea typeface="굴림"/>
              </a:rPr>
              <a:t>계층간 이동을 쉽게할 수 있으며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82480" indent="-582480">
              <a:lnSpc>
                <a:spcPct val="90000"/>
              </a:lnSpc>
              <a:spcBef>
                <a:spcPts val="119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MD concepts of cube, dimension, level, member and cell </a:t>
            </a:r>
            <a:r>
              <a:rPr b="1" lang="ko-KR" sz="3200" spc="-1" strike="noStrike">
                <a:solidFill>
                  <a:srgbClr val="ffffff"/>
                </a:solidFill>
                <a:latin typeface="Arial"/>
                <a:ea typeface="굴림"/>
              </a:rPr>
              <a:t>에 대한 기본 이해가 있어야 하며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82480" indent="-582480">
              <a:lnSpc>
                <a:spcPct val="90000"/>
              </a:lnSpc>
              <a:spcBef>
                <a:spcPts val="119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It is used for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41480" indent="-457200">
              <a:lnSpc>
                <a:spcPct val="90000"/>
              </a:lnSpc>
              <a:spcBef>
                <a:spcPts val="104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굴림"/>
              </a:rPr>
              <a:t>Queries – full statements (SELECT…FROM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41480" indent="-457200">
              <a:lnSpc>
                <a:spcPct val="90000"/>
              </a:lnSpc>
              <a:spcBef>
                <a:spcPts val="104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굴림"/>
              </a:rPr>
              <a:t>Business modeling – definin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굴림"/>
              </a:rPr>
              <a:t>calculated memb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87360" y="228600"/>
            <a:ext cx="7562880" cy="751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a304"/>
                </a:solidFill>
                <a:latin typeface="Arial"/>
                <a:ea typeface="굴림"/>
              </a:rPr>
              <a:t>MDX Constructs</a:t>
            </a:r>
            <a:endParaRPr b="1" lang="en-US" sz="4800" spc="-1" strike="noStrike">
              <a:solidFill>
                <a:srgbClr val="fca304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80880" y="1250640"/>
            <a:ext cx="8415360" cy="519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82480" indent="-582480">
              <a:lnSpc>
                <a:spcPct val="90000"/>
              </a:lnSpc>
              <a:spcBef>
                <a:spcPts val="119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Member :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41480" indent="-457200">
              <a:lnSpc>
                <a:spcPct val="90000"/>
              </a:lnSpc>
              <a:spcBef>
                <a:spcPts val="104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굴림"/>
              </a:rPr>
              <a:t>Nelson, [1996].[Q1].[Jan]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82480" indent="-582480">
              <a:lnSpc>
                <a:spcPct val="90000"/>
              </a:lnSpc>
              <a:spcBef>
                <a:spcPts val="119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Tuple :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41480" indent="-457200">
              <a:lnSpc>
                <a:spcPct val="90000"/>
              </a:lnSpc>
              <a:spcBef>
                <a:spcPts val="104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굴림"/>
              </a:rPr>
              <a:t>(Nelson, USA), (Computers, [1996]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82480" indent="-582480">
              <a:lnSpc>
                <a:spcPct val="90000"/>
              </a:lnSpc>
              <a:spcBef>
                <a:spcPts val="119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Sets :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41480" indent="-457200">
              <a:lnSpc>
                <a:spcPct val="90000"/>
              </a:lnSpc>
              <a:spcBef>
                <a:spcPts val="104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굴림"/>
              </a:rPr>
              <a:t>{Nelson, White}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41480" indent="-457200">
              <a:lnSpc>
                <a:spcPct val="90000"/>
              </a:lnSpc>
              <a:spcBef>
                <a:spcPts val="104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굴림"/>
              </a:rPr>
              <a:t>{ (Computers, USA), (Printers, Japan) }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41480" indent="-457200">
              <a:lnSpc>
                <a:spcPct val="90000"/>
              </a:lnSpc>
              <a:spcBef>
                <a:spcPts val="104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굴림"/>
              </a:rPr>
              <a:t>[1996].Childre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41480" indent="-457200">
              <a:lnSpc>
                <a:spcPct val="90000"/>
              </a:lnSpc>
              <a:spcBef>
                <a:spcPts val="104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굴림"/>
              </a:rPr>
              <a:t>TopCount(SalesReps.Members,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굴림"/>
              </a:rPr>
              <a:t>10, Sales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87360" y="228600"/>
            <a:ext cx="7562880" cy="751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a304"/>
                </a:solidFill>
                <a:latin typeface="Arial"/>
                <a:ea typeface="굴림"/>
              </a:rPr>
              <a:t>MDX Queries</a:t>
            </a:r>
            <a:endParaRPr b="1" lang="en-US" sz="4800" spc="-1" strike="noStrike">
              <a:solidFill>
                <a:srgbClr val="fca304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80880" y="1251000"/>
            <a:ext cx="841536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82480" indent="-582480">
              <a:lnSpc>
                <a:spcPct val="90000"/>
              </a:lnSpc>
              <a:spcBef>
                <a:spcPts val="119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SELECT sets on axes (N axes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82480" indent="-582480">
              <a:lnSpc>
                <a:spcPct val="90000"/>
              </a:lnSpc>
              <a:spcBef>
                <a:spcPts val="119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FROM a source cub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82480" indent="-582480">
              <a:lnSpc>
                <a:spcPct val="90000"/>
              </a:lnSpc>
              <a:spcBef>
                <a:spcPts val="119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WHERE the data is sliced by some coordinat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824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7360" y="228600"/>
            <a:ext cx="7562880" cy="751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a304"/>
                </a:solidFill>
                <a:latin typeface="Arial"/>
                <a:ea typeface="굴림"/>
              </a:rPr>
              <a:t>Sample Cube</a:t>
            </a:r>
            <a:endParaRPr b="1" lang="en-US" sz="4800" spc="-1" strike="noStrike">
              <a:solidFill>
                <a:srgbClr val="fca304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250640"/>
            <a:ext cx="8415360" cy="491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82480" indent="-582480">
              <a:lnSpc>
                <a:spcPct val="90000"/>
              </a:lnSpc>
              <a:spcBef>
                <a:spcPts val="119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Dimensions: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41480" indent="-457200">
              <a:lnSpc>
                <a:spcPct val="90000"/>
              </a:lnSpc>
              <a:spcBef>
                <a:spcPts val="104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a304"/>
                </a:solidFill>
                <a:latin typeface="Arial"/>
                <a:ea typeface="굴림"/>
              </a:rPr>
              <a:t>Measures: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굴림"/>
              </a:rPr>
              <a:t> Sales, Cost, Unit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41480" indent="-457200">
              <a:lnSpc>
                <a:spcPct val="90000"/>
              </a:lnSpc>
              <a:spcBef>
                <a:spcPts val="104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a304"/>
                </a:solidFill>
                <a:latin typeface="Arial"/>
                <a:ea typeface="굴림"/>
              </a:rPr>
              <a:t>Time: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굴림"/>
              </a:rPr>
              <a:t> Year, Quarter, Month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41480" indent="-457200">
              <a:lnSpc>
                <a:spcPct val="90000"/>
              </a:lnSpc>
              <a:spcBef>
                <a:spcPts val="104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a304"/>
                </a:solidFill>
                <a:latin typeface="Arial"/>
                <a:ea typeface="굴림"/>
              </a:rPr>
              <a:t>Geography: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굴림"/>
              </a:rPr>
              <a:t> All, Region, Countr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41480" indent="-457200">
              <a:lnSpc>
                <a:spcPct val="90000"/>
              </a:lnSpc>
              <a:spcBef>
                <a:spcPts val="104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a304"/>
                </a:solidFill>
                <a:latin typeface="Arial"/>
                <a:ea typeface="굴림"/>
              </a:rPr>
              <a:t>Products: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굴림"/>
              </a:rPr>
              <a:t> All, Product Group, Product Nam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41480" indent="-457200">
              <a:lnSpc>
                <a:spcPct val="90000"/>
              </a:lnSpc>
              <a:spcBef>
                <a:spcPts val="104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a304"/>
                </a:solidFill>
                <a:latin typeface="Arial"/>
                <a:ea typeface="굴림"/>
              </a:rPr>
              <a:t>Customers: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굴림"/>
              </a:rPr>
              <a:t> All, Customer Group, Customer Nam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414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414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2535120" y="577800"/>
            <a:ext cx="1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36680" y="1251000"/>
            <a:ext cx="84103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"/>
                <a:ea typeface="굴림"/>
              </a:rPr>
              <a:t>Selec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Time.year.members on </a:t>
            </a:r>
            <a:r>
              <a:rPr b="0" lang="en-US" sz="3200" spc="-1" strike="noStrike">
                <a:solidFill>
                  <a:srgbClr val="ffcc99"/>
                </a:solidFill>
                <a:latin typeface="Arial"/>
                <a:ea typeface="굴림"/>
              </a:rPr>
              <a:t>Row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Measures.members on </a:t>
            </a:r>
            <a:r>
              <a:rPr b="0" lang="en-US" sz="3200" spc="-1" strike="noStrike">
                <a:solidFill>
                  <a:srgbClr val="ffcc99"/>
                </a:solidFill>
                <a:latin typeface="Arial"/>
                <a:ea typeface="굴림"/>
              </a:rPr>
              <a:t>Column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Product.[Product Department].member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on </a:t>
            </a:r>
            <a:r>
              <a:rPr b="0" lang="en-US" sz="3200" spc="-1" strike="noStrike">
                <a:solidFill>
                  <a:srgbClr val="ffcc99"/>
                </a:solidFill>
                <a:latin typeface="Arial"/>
                <a:ea typeface="굴림"/>
              </a:rPr>
              <a:t>Pag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"/>
                <a:ea typeface="굴림"/>
              </a:rPr>
              <a:t>Fro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 Sa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5920" y="228600"/>
            <a:ext cx="7449840" cy="751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a304"/>
                </a:solidFill>
                <a:latin typeface="Arial"/>
                <a:ea typeface="굴림"/>
              </a:rPr>
              <a:t>Sample MDX</a:t>
            </a:r>
            <a:endParaRPr b="1" lang="en-US" sz="4800" spc="-1" strike="noStrike">
              <a:solidFill>
                <a:srgbClr val="fca304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408320" y="1184400"/>
            <a:ext cx="488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굴림"/>
              </a:rPr>
              <a:t>Stage 1: Creating Ax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407960" y="1925640"/>
            <a:ext cx="625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굴림"/>
              </a:rPr>
              <a:t>Stage 2: Getting Cells’ Valu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2668680" y="3105000"/>
            <a:ext cx="3017880" cy="502920"/>
            <a:chOff x="2668680" y="3105000"/>
            <a:chExt cx="3017880" cy="502920"/>
          </a:xfrm>
        </p:grpSpPr>
        <p:sp>
          <p:nvSpPr>
            <p:cNvPr id="159" name=""/>
            <p:cNvSpPr/>
            <p:nvPr/>
          </p:nvSpPr>
          <p:spPr>
            <a:xfrm>
              <a:off x="2975040" y="3294000"/>
              <a:ext cx="2533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V="1">
              <a:off x="2668680" y="3117600"/>
              <a:ext cx="455400" cy="477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127320" y="3129120"/>
              <a:ext cx="2559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822400" y="3433680"/>
              <a:ext cx="2546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flipV="1">
              <a:off x="5221440" y="3130200"/>
              <a:ext cx="455400" cy="477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flipV="1">
              <a:off x="4205160" y="3105000"/>
              <a:ext cx="455760" cy="47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V="1">
              <a:off x="3710160" y="3105000"/>
              <a:ext cx="455400" cy="47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3189240" y="3117600"/>
              <a:ext cx="455760" cy="477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>
              <a:off x="4726080" y="3105000"/>
              <a:ext cx="455400" cy="47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5221440" y="3129120"/>
            <a:ext cx="480960" cy="2828880"/>
            <a:chOff x="5221440" y="3129120"/>
            <a:chExt cx="480960" cy="2828880"/>
          </a:xfrm>
        </p:grpSpPr>
        <p:sp>
          <p:nvSpPr>
            <p:cNvPr id="169" name=""/>
            <p:cNvSpPr/>
            <p:nvPr/>
          </p:nvSpPr>
          <p:spPr>
            <a:xfrm>
              <a:off x="5380200" y="3446640"/>
              <a:ext cx="0" cy="235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506920" y="3294000"/>
              <a:ext cx="0" cy="235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672160" y="3129120"/>
              <a:ext cx="0" cy="235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V="1">
              <a:off x="5221440" y="5479920"/>
              <a:ext cx="455400" cy="47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5234040" y="4044600"/>
              <a:ext cx="455400" cy="477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V="1">
              <a:off x="5234040" y="4539960"/>
              <a:ext cx="455400" cy="477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V="1">
              <a:off x="5246640" y="4971960"/>
              <a:ext cx="455760" cy="47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V="1">
              <a:off x="5246640" y="3574800"/>
              <a:ext cx="455760" cy="477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2655720" y="3597120"/>
            <a:ext cx="2606760" cy="2411640"/>
            <a:chOff x="2655720" y="3597120"/>
            <a:chExt cx="2606760" cy="2411640"/>
          </a:xfrm>
        </p:grpSpPr>
        <p:sp>
          <p:nvSpPr>
            <p:cNvPr id="178" name=""/>
            <p:cNvSpPr/>
            <p:nvPr/>
          </p:nvSpPr>
          <p:spPr>
            <a:xfrm>
              <a:off x="4710240" y="3597120"/>
              <a:ext cx="0" cy="2381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657520" y="3597120"/>
              <a:ext cx="2557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214960" y="3598920"/>
              <a:ext cx="0" cy="235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692520" y="3597120"/>
              <a:ext cx="0" cy="2381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181320" y="3627360"/>
              <a:ext cx="0" cy="2381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670120" y="3605040"/>
              <a:ext cx="0" cy="2381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668680" y="4067280"/>
              <a:ext cx="2557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705040" y="5019840"/>
              <a:ext cx="2557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698920" y="5489640"/>
              <a:ext cx="2557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655720" y="5959440"/>
              <a:ext cx="2557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2664000" y="4537080"/>
              <a:ext cx="2557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187880" y="3597120"/>
              <a:ext cx="0" cy="2381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1157040" y="2813040"/>
            <a:ext cx="1967040" cy="924480"/>
            <a:chOff x="1157040" y="2813040"/>
            <a:chExt cx="1967040" cy="924480"/>
          </a:xfrm>
        </p:grpSpPr>
        <p:sp>
          <p:nvSpPr>
            <p:cNvPr id="191" name=""/>
            <p:cNvSpPr/>
            <p:nvPr/>
          </p:nvSpPr>
          <p:spPr>
            <a:xfrm>
              <a:off x="1837080" y="2813040"/>
              <a:ext cx="1287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굴림"/>
                </a:rPr>
                <a:t>Groceri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157040" y="3338640"/>
              <a:ext cx="111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굴림"/>
                </a:rPr>
                <a:t>Clothing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431000" y="3076560"/>
              <a:ext cx="1427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굴림"/>
                </a:rPr>
                <a:t>Applianc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4" name=""/>
          <p:cNvGrpSpPr/>
          <p:nvPr/>
        </p:nvGrpSpPr>
        <p:grpSpPr>
          <a:xfrm>
            <a:off x="2469600" y="6157800"/>
            <a:ext cx="1819080" cy="368280"/>
            <a:chOff x="2469600" y="6157800"/>
            <a:chExt cx="1819080" cy="368280"/>
          </a:xfrm>
        </p:grpSpPr>
        <p:sp>
          <p:nvSpPr>
            <p:cNvPr id="195" name=""/>
            <p:cNvSpPr/>
            <p:nvPr/>
          </p:nvSpPr>
          <p:spPr>
            <a:xfrm>
              <a:off x="2469600" y="6157800"/>
              <a:ext cx="750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굴림"/>
                </a:rPr>
                <a:t>Sal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057840" y="61578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굴림"/>
                </a:rPr>
                <a:t>Co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588120" y="6157800"/>
              <a:ext cx="700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굴림"/>
                </a:rPr>
                <a:t>Uni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8" name=""/>
          <p:cNvGrpSpPr/>
          <p:nvPr/>
        </p:nvGrpSpPr>
        <p:grpSpPr>
          <a:xfrm>
            <a:off x="1936440" y="3639960"/>
            <a:ext cx="464040" cy="2305800"/>
            <a:chOff x="1936440" y="3639960"/>
            <a:chExt cx="464040" cy="2305800"/>
          </a:xfrm>
        </p:grpSpPr>
        <p:sp>
          <p:nvSpPr>
            <p:cNvPr id="199" name=""/>
            <p:cNvSpPr/>
            <p:nvPr/>
          </p:nvSpPr>
          <p:spPr>
            <a:xfrm>
              <a:off x="1936440" y="460836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ffffff"/>
                  </a:solidFill>
                  <a:latin typeface="Arial"/>
                  <a:ea typeface="굴림"/>
                </a:rPr>
                <a:t>97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936440" y="511020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ffffff"/>
                  </a:solidFill>
                  <a:latin typeface="Arial"/>
                  <a:ea typeface="굴림"/>
                </a:rPr>
                <a:t>98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936440" y="554688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ffffff"/>
                  </a:solidFill>
                  <a:latin typeface="Arial"/>
                  <a:ea typeface="굴림"/>
                </a:rPr>
                <a:t>99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936440" y="411624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ffffff"/>
                  </a:solidFill>
                  <a:latin typeface="Arial"/>
                  <a:ea typeface="굴림"/>
                </a:rPr>
                <a:t>96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936440" y="363996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ffffff"/>
                  </a:solidFill>
                  <a:latin typeface="Arial"/>
                  <a:ea typeface="굴림"/>
                </a:rPr>
                <a:t>95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2733480" y="3633840"/>
            <a:ext cx="1324440" cy="2300760"/>
            <a:chOff x="2733480" y="3633840"/>
            <a:chExt cx="1324440" cy="2300760"/>
          </a:xfrm>
        </p:grpSpPr>
        <p:sp>
          <p:nvSpPr>
            <p:cNvPr id="205" name=""/>
            <p:cNvSpPr/>
            <p:nvPr/>
          </p:nvSpPr>
          <p:spPr>
            <a:xfrm>
              <a:off x="2733480" y="363996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ffcc99"/>
                  </a:solidFill>
                  <a:latin typeface="Arial"/>
                  <a:ea typeface="굴림"/>
                </a:rPr>
                <a:t>15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247560" y="363384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ffcc99"/>
                  </a:solidFill>
                  <a:latin typeface="Arial"/>
                  <a:ea typeface="굴림"/>
                </a:rPr>
                <a:t>13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735360" y="366228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ffcc99"/>
                  </a:solidFill>
                  <a:latin typeface="Arial"/>
                  <a:ea typeface="굴림"/>
                </a:rPr>
                <a:t>5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734920" y="409248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ffcc99"/>
                  </a:solidFill>
                  <a:latin typeface="Arial"/>
                  <a:ea typeface="굴림"/>
                </a:rPr>
                <a:t>17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247560" y="408636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ffcc99"/>
                  </a:solidFill>
                  <a:latin typeface="Arial"/>
                  <a:ea typeface="굴림"/>
                </a:rPr>
                <a:t>13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735360" y="411480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ffcc99"/>
                  </a:solidFill>
                  <a:latin typeface="Arial"/>
                  <a:ea typeface="굴림"/>
                </a:rPr>
                <a:t>6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733480" y="458460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ffcc99"/>
                  </a:solidFill>
                  <a:latin typeface="Arial"/>
                  <a:ea typeface="굴림"/>
                </a:rPr>
                <a:t>22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247560" y="457848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ffcc99"/>
                  </a:solidFill>
                  <a:latin typeface="Arial"/>
                  <a:ea typeface="굴림"/>
                </a:rPr>
                <a:t>11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735360" y="462600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ffcc99"/>
                  </a:solidFill>
                  <a:latin typeface="Arial"/>
                  <a:ea typeface="굴림"/>
                </a:rPr>
                <a:t>7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734920" y="503712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ffcc99"/>
                  </a:solidFill>
                  <a:latin typeface="Arial"/>
                  <a:ea typeface="굴림"/>
                </a:rPr>
                <a:t>29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389040" y="503064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ffcc99"/>
                  </a:solidFill>
                  <a:latin typeface="Arial"/>
                  <a:ea typeface="굴림"/>
                </a:rPr>
                <a:t>9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735360" y="505944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ffcc99"/>
                  </a:solidFill>
                  <a:latin typeface="Arial"/>
                  <a:ea typeface="굴림"/>
                </a:rPr>
                <a:t>9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733480" y="551340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ffcc99"/>
                  </a:solidFill>
                  <a:latin typeface="Arial"/>
                  <a:ea typeface="굴림"/>
                </a:rPr>
                <a:t>3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247560" y="550692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ffcc99"/>
                  </a:solidFill>
                  <a:latin typeface="Arial"/>
                  <a:ea typeface="굴림"/>
                </a:rPr>
                <a:t>1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735360" y="553572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ffcc99"/>
                  </a:solidFill>
                  <a:latin typeface="Arial"/>
                  <a:ea typeface="굴림"/>
                </a:rPr>
                <a:t>8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87360" y="228600"/>
            <a:ext cx="7562880" cy="751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a304"/>
                </a:solidFill>
                <a:latin typeface="Arial"/>
                <a:ea typeface="굴림"/>
              </a:rPr>
              <a:t>Query Execution</a:t>
            </a:r>
            <a:endParaRPr b="1" lang="en-US" sz="4800" spc="-1" strike="noStrike">
              <a:solidFill>
                <a:srgbClr val="fca304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1" name=""/>
          <p:cNvGrpSpPr/>
          <p:nvPr/>
        </p:nvGrpSpPr>
        <p:grpSpPr>
          <a:xfrm>
            <a:off x="3160800" y="2914560"/>
            <a:ext cx="3017880" cy="502920"/>
            <a:chOff x="3160800" y="2914560"/>
            <a:chExt cx="3017880" cy="502920"/>
          </a:xfrm>
        </p:grpSpPr>
        <p:sp>
          <p:nvSpPr>
            <p:cNvPr id="222" name=""/>
            <p:cNvSpPr/>
            <p:nvPr/>
          </p:nvSpPr>
          <p:spPr>
            <a:xfrm>
              <a:off x="3467160" y="3103560"/>
              <a:ext cx="2533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V="1">
              <a:off x="3160800" y="2927160"/>
              <a:ext cx="455400" cy="477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619440" y="2938680"/>
              <a:ext cx="2559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314520" y="3243240"/>
              <a:ext cx="2546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 flipV="1">
              <a:off x="5713560" y="2939760"/>
              <a:ext cx="455400" cy="477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flipV="1">
              <a:off x="4697280" y="2914560"/>
              <a:ext cx="455760" cy="47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flipV="1">
              <a:off x="4202280" y="2914560"/>
              <a:ext cx="455400" cy="47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 flipV="1">
              <a:off x="3681360" y="2927160"/>
              <a:ext cx="455760" cy="477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flipV="1">
              <a:off x="5218200" y="2914560"/>
              <a:ext cx="455400" cy="47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5713560" y="2938320"/>
            <a:ext cx="480960" cy="2828880"/>
            <a:chOff x="5713560" y="2938320"/>
            <a:chExt cx="480960" cy="2828880"/>
          </a:xfrm>
        </p:grpSpPr>
        <p:sp>
          <p:nvSpPr>
            <p:cNvPr id="232" name=""/>
            <p:cNvSpPr/>
            <p:nvPr/>
          </p:nvSpPr>
          <p:spPr>
            <a:xfrm>
              <a:off x="5872320" y="3255840"/>
              <a:ext cx="0" cy="235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999040" y="3103200"/>
              <a:ext cx="0" cy="235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164280" y="2938320"/>
              <a:ext cx="0" cy="235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V="1">
              <a:off x="5713560" y="5289120"/>
              <a:ext cx="455400" cy="47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 flipV="1">
              <a:off x="5726160" y="3853800"/>
              <a:ext cx="455400" cy="477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flipV="1">
              <a:off x="5726160" y="4349160"/>
              <a:ext cx="455400" cy="477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flipV="1">
              <a:off x="5738760" y="4781160"/>
              <a:ext cx="455760" cy="47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 flipV="1">
              <a:off x="5738760" y="3384000"/>
              <a:ext cx="455760" cy="477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3147840" y="3406680"/>
            <a:ext cx="2606760" cy="2411640"/>
            <a:chOff x="3147840" y="3406680"/>
            <a:chExt cx="2606760" cy="2411640"/>
          </a:xfrm>
        </p:grpSpPr>
        <p:sp>
          <p:nvSpPr>
            <p:cNvPr id="241" name=""/>
            <p:cNvSpPr/>
            <p:nvPr/>
          </p:nvSpPr>
          <p:spPr>
            <a:xfrm>
              <a:off x="5202360" y="3406680"/>
              <a:ext cx="0" cy="2381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149640" y="3406680"/>
              <a:ext cx="2557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707080" y="3408480"/>
              <a:ext cx="0" cy="235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184640" y="3406680"/>
              <a:ext cx="0" cy="2381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673440" y="3436920"/>
              <a:ext cx="0" cy="2381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162240" y="3414600"/>
              <a:ext cx="0" cy="2381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160800" y="3876840"/>
              <a:ext cx="2557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197160" y="4829400"/>
              <a:ext cx="2557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191040" y="5299200"/>
              <a:ext cx="2557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147840" y="5769000"/>
              <a:ext cx="2557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156120" y="4346640"/>
              <a:ext cx="2557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680000" y="3406680"/>
              <a:ext cx="0" cy="2381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3" name=""/>
          <p:cNvSpPr/>
          <p:nvPr/>
        </p:nvSpPr>
        <p:spPr>
          <a:xfrm>
            <a:off x="2646000" y="44467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Arial"/>
                <a:ea typeface="굴림"/>
              </a:rPr>
              <a:t>97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646000" y="494820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Arial"/>
                <a:ea typeface="굴림"/>
              </a:rPr>
              <a:t>98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46000" y="53848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Arial"/>
                <a:ea typeface="굴림"/>
              </a:rPr>
              <a:t>99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329200" y="2514600"/>
            <a:ext cx="128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Groceri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8480" y="3106800"/>
            <a:ext cx="111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Cloth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058120" y="2816280"/>
            <a:ext cx="142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Applian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961720" y="596736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Sa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549960" y="596736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Cos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080240" y="596736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Uni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187880" y="4838760"/>
            <a:ext cx="495360" cy="457200"/>
          </a:xfrm>
          <a:prstGeom prst="rect">
            <a:avLst/>
          </a:prstGeom>
          <a:solidFill>
            <a:srgbClr val="fb796b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82680" y="977760"/>
            <a:ext cx="844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Arial"/>
                <a:ea typeface="굴림"/>
              </a:rPr>
              <a:t>(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Products.Clothing , Measures.Units ,Time. 98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157560" y="4338720"/>
            <a:ext cx="514440" cy="492120"/>
          </a:xfrm>
          <a:prstGeom prst="rect">
            <a:avLst/>
          </a:prstGeom>
          <a:solidFill>
            <a:srgbClr val="fb796b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82680" y="1343160"/>
            <a:ext cx="844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Arial"/>
                <a:ea typeface="굴림"/>
              </a:rPr>
              <a:t>(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Products.Clothing , Measures.Sales ,Time. 97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959280" y="2933640"/>
            <a:ext cx="685800" cy="171360"/>
          </a:xfrm>
          <a:custGeom>
            <a:avLst/>
            <a:gdLst/>
            <a:ahLst/>
            <a:rect l="l" t="t" r="r" b="b"/>
            <a:pathLst>
              <a:path w="432" h="108">
                <a:moveTo>
                  <a:pt x="0" y="108"/>
                </a:moveTo>
                <a:lnTo>
                  <a:pt x="108" y="0"/>
                </a:lnTo>
                <a:lnTo>
                  <a:pt x="432" y="0"/>
                </a:lnTo>
                <a:lnTo>
                  <a:pt x="328" y="108"/>
                </a:lnTo>
                <a:lnTo>
                  <a:pt x="0" y="108"/>
                </a:lnTo>
                <a:close/>
              </a:path>
            </a:pathLst>
          </a:custGeom>
          <a:solidFill>
            <a:srgbClr val="fb796b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82680" y="1708200"/>
            <a:ext cx="833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Arial"/>
                <a:ea typeface="굴림"/>
              </a:rPr>
              <a:t>(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Products.Groceries , Measures.Cost ,Time.Year. 95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646000" y="395460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Arial"/>
                <a:ea typeface="굴림"/>
              </a:rPr>
              <a:t>9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646000" y="34783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Arial"/>
                <a:ea typeface="굴림"/>
              </a:rPr>
              <a:t>9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387000" y="226800"/>
            <a:ext cx="6869160" cy="696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ca304"/>
                </a:solidFill>
                <a:latin typeface="Arial"/>
                <a:ea typeface="굴림"/>
              </a:rPr>
              <a:t>Every Cell Has A Name...</a:t>
            </a:r>
            <a:endParaRPr b="1" lang="en-US" sz="4400" spc="-1" strike="noStrike">
              <a:solidFill>
                <a:srgbClr val="fca304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1" name=""/>
          <p:cNvGrpSpPr/>
          <p:nvPr/>
        </p:nvGrpSpPr>
        <p:grpSpPr>
          <a:xfrm>
            <a:off x="3173400" y="3051000"/>
            <a:ext cx="3017880" cy="502920"/>
            <a:chOff x="3173400" y="3051000"/>
            <a:chExt cx="3017880" cy="502920"/>
          </a:xfrm>
        </p:grpSpPr>
        <p:sp>
          <p:nvSpPr>
            <p:cNvPr id="272" name=""/>
            <p:cNvSpPr/>
            <p:nvPr/>
          </p:nvSpPr>
          <p:spPr>
            <a:xfrm>
              <a:off x="3479760" y="3240000"/>
              <a:ext cx="2533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173400" y="3063600"/>
              <a:ext cx="455400" cy="477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632040" y="3075120"/>
              <a:ext cx="2559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327120" y="3379680"/>
              <a:ext cx="2546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5726160" y="3076200"/>
              <a:ext cx="455400" cy="477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flipV="1">
              <a:off x="4709880" y="3051000"/>
              <a:ext cx="455760" cy="47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flipV="1">
              <a:off x="4214880" y="3051000"/>
              <a:ext cx="455400" cy="47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flipV="1">
              <a:off x="3693960" y="3063600"/>
              <a:ext cx="455760" cy="477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>
              <a:off x="5230800" y="3051000"/>
              <a:ext cx="455400" cy="47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1" name=""/>
          <p:cNvGrpSpPr/>
          <p:nvPr/>
        </p:nvGrpSpPr>
        <p:grpSpPr>
          <a:xfrm>
            <a:off x="5726160" y="3075120"/>
            <a:ext cx="480960" cy="2828880"/>
            <a:chOff x="5726160" y="3075120"/>
            <a:chExt cx="480960" cy="2828880"/>
          </a:xfrm>
        </p:grpSpPr>
        <p:sp>
          <p:nvSpPr>
            <p:cNvPr id="282" name=""/>
            <p:cNvSpPr/>
            <p:nvPr/>
          </p:nvSpPr>
          <p:spPr>
            <a:xfrm>
              <a:off x="5884920" y="3392640"/>
              <a:ext cx="0" cy="235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011640" y="3240000"/>
              <a:ext cx="0" cy="235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176880" y="3075120"/>
              <a:ext cx="0" cy="235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>
              <a:off x="5726160" y="5425920"/>
              <a:ext cx="455400" cy="47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>
              <a:off x="5738760" y="3990600"/>
              <a:ext cx="455400" cy="477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>
              <a:off x="5738760" y="4485960"/>
              <a:ext cx="455400" cy="477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>
              <a:off x="5751360" y="4917960"/>
              <a:ext cx="455760" cy="47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>
              <a:off x="5751360" y="3520800"/>
              <a:ext cx="455760" cy="477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3160800" y="3543480"/>
            <a:ext cx="2606760" cy="2410920"/>
            <a:chOff x="3160800" y="3543480"/>
            <a:chExt cx="2606760" cy="2410920"/>
          </a:xfrm>
        </p:grpSpPr>
        <p:sp>
          <p:nvSpPr>
            <p:cNvPr id="291" name=""/>
            <p:cNvSpPr/>
            <p:nvPr/>
          </p:nvSpPr>
          <p:spPr>
            <a:xfrm>
              <a:off x="5215320" y="3543480"/>
              <a:ext cx="0" cy="2381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162600" y="3543480"/>
              <a:ext cx="2557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720040" y="3544920"/>
              <a:ext cx="0" cy="2355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197600" y="3543480"/>
              <a:ext cx="0" cy="2381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686400" y="3573360"/>
              <a:ext cx="0" cy="2381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175200" y="3551040"/>
              <a:ext cx="0" cy="2381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173760" y="4013280"/>
              <a:ext cx="2557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3210120" y="4965840"/>
              <a:ext cx="2557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204000" y="5435640"/>
              <a:ext cx="2557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160800" y="5905440"/>
              <a:ext cx="2557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169080" y="4483080"/>
              <a:ext cx="2557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692960" y="3543480"/>
              <a:ext cx="0" cy="2381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03" name=""/>
          <p:cNvSpPr/>
          <p:nvPr/>
        </p:nvSpPr>
        <p:spPr>
          <a:xfrm>
            <a:off x="2687400" y="498780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Arial"/>
                <a:ea typeface="굴림"/>
              </a:rPr>
              <a:t>98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990440" y="3189240"/>
            <a:ext cx="111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Cloth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052520" y="5942160"/>
            <a:ext cx="76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Uni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200480" y="4975200"/>
            <a:ext cx="495360" cy="457200"/>
          </a:xfrm>
          <a:prstGeom prst="rect">
            <a:avLst/>
          </a:prstGeom>
          <a:solidFill>
            <a:srgbClr val="fb796b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194000" y="4492800"/>
            <a:ext cx="495360" cy="457200"/>
          </a:xfrm>
          <a:prstGeom prst="rect">
            <a:avLst/>
          </a:prstGeom>
          <a:solidFill>
            <a:srgbClr val="ffcc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243320" y="43974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0000"/>
                </a:solidFill>
                <a:latin typeface="Times New Roman"/>
                <a:ea typeface="굴림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187880" y="5438880"/>
            <a:ext cx="495360" cy="457200"/>
          </a:xfrm>
          <a:prstGeom prst="rect">
            <a:avLst/>
          </a:prstGeom>
          <a:solidFill>
            <a:srgbClr val="ffcc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237200" y="534348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0000"/>
                </a:solidFill>
                <a:latin typeface="Times New Roman"/>
                <a:ea typeface="굴림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82680" y="1739880"/>
            <a:ext cx="876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Arial"/>
                <a:ea typeface="굴림"/>
              </a:rPr>
              <a:t>(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Products.Clothing , Measures.Units ,Time. 98.PrevMember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82680" y="2104920"/>
            <a:ext cx="818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Arial"/>
                <a:ea typeface="굴림"/>
              </a:rPr>
              <a:t>(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Products.Clothing , Measures.Units ,Time. 98.NextMember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85560" y="226800"/>
            <a:ext cx="7381800" cy="1299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ca304"/>
                </a:solidFill>
                <a:latin typeface="Arial"/>
                <a:ea typeface="굴림"/>
              </a:rPr>
              <a:t>Every Cell Still Has A Name...</a:t>
            </a:r>
            <a:endParaRPr b="1" lang="en-US" sz="4400" spc="-1" strike="noStrike">
              <a:solidFill>
                <a:srgbClr val="fca304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7360" y="1047600"/>
            <a:ext cx="8470800" cy="253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cc99"/>
                </a:solidFill>
                <a:latin typeface="Arial"/>
                <a:ea typeface="굴림"/>
              </a:rPr>
              <a:t>Advanced Data</a:t>
            </a:r>
            <a:br>
              <a:rPr sz="3600"/>
            </a:br>
            <a:r>
              <a:rPr b="1" i="1" lang="en-US" sz="3600" spc="-1" strike="noStrike">
                <a:solidFill>
                  <a:srgbClr val="ffcc99"/>
                </a:solidFill>
                <a:latin typeface="Arial"/>
                <a:ea typeface="굴림"/>
              </a:rPr>
              <a:t>Warehousing Concepts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fca804"/>
                </a:solidFill>
                <a:latin typeface="Arial"/>
                <a:ea typeface="굴림"/>
              </a:rPr>
              <a:t>Session 1:</a:t>
            </a:r>
            <a:br>
              <a:rPr sz="3600"/>
            </a:br>
            <a:r>
              <a:rPr b="1" lang="en-US" sz="3400" spc="-1" strike="noStrike">
                <a:solidFill>
                  <a:srgbClr val="fca804"/>
                </a:solidFill>
                <a:latin typeface="Arial"/>
                <a:ea typeface="굴림"/>
              </a:rPr>
              <a:t>Basics Multi Dimensional eXpressions</a:t>
            </a:r>
            <a:endParaRPr b="1" lang="en-US" sz="3400" spc="-1" strike="noStrike">
              <a:solidFill>
                <a:srgbClr val="fca804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387000" y="4038120"/>
            <a:ext cx="7156440" cy="171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Arial"/>
                <a:ea typeface="굴림"/>
              </a:rPr>
              <a:t>우 철웅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Arial"/>
                <a:ea typeface="굴림"/>
              </a:rPr>
              <a:t>컨설팅 사업부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㈜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VBSQ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ddlogo" descr=""/>
          <p:cNvPicPr/>
          <p:nvPr/>
        </p:nvPicPr>
        <p:blipFill>
          <a:blip r:embed="rId2"/>
          <a:stretch/>
        </p:blipFill>
        <p:spPr>
          <a:xfrm>
            <a:off x="6438960" y="5657760"/>
            <a:ext cx="2419200" cy="90972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4" name=""/>
          <p:cNvGrpSpPr/>
          <p:nvPr/>
        </p:nvGrpSpPr>
        <p:grpSpPr>
          <a:xfrm>
            <a:off x="3173400" y="3078000"/>
            <a:ext cx="3017880" cy="502920"/>
            <a:chOff x="3173400" y="3078000"/>
            <a:chExt cx="3017880" cy="502920"/>
          </a:xfrm>
        </p:grpSpPr>
        <p:sp>
          <p:nvSpPr>
            <p:cNvPr id="315" name=""/>
            <p:cNvSpPr/>
            <p:nvPr/>
          </p:nvSpPr>
          <p:spPr>
            <a:xfrm>
              <a:off x="3479760" y="3267000"/>
              <a:ext cx="2533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flipV="1">
              <a:off x="3173400" y="3090600"/>
              <a:ext cx="455400" cy="477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632040" y="3102120"/>
              <a:ext cx="2559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327120" y="3406680"/>
              <a:ext cx="2546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V="1">
              <a:off x="5726160" y="3103200"/>
              <a:ext cx="455400" cy="477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4709880" y="3078000"/>
              <a:ext cx="455760" cy="47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4214880" y="3078000"/>
              <a:ext cx="455400" cy="47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 flipV="1">
              <a:off x="3693960" y="3090600"/>
              <a:ext cx="455760" cy="477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5230800" y="3078000"/>
              <a:ext cx="455400" cy="47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24" name=""/>
          <p:cNvGrpSpPr/>
          <p:nvPr/>
        </p:nvGrpSpPr>
        <p:grpSpPr>
          <a:xfrm>
            <a:off x="5726160" y="3102120"/>
            <a:ext cx="480960" cy="2828880"/>
            <a:chOff x="5726160" y="3102120"/>
            <a:chExt cx="480960" cy="2828880"/>
          </a:xfrm>
        </p:grpSpPr>
        <p:sp>
          <p:nvSpPr>
            <p:cNvPr id="325" name=""/>
            <p:cNvSpPr/>
            <p:nvPr/>
          </p:nvSpPr>
          <p:spPr>
            <a:xfrm>
              <a:off x="5884920" y="3419640"/>
              <a:ext cx="0" cy="235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011640" y="3267000"/>
              <a:ext cx="0" cy="235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6176880" y="3102120"/>
              <a:ext cx="0" cy="235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 flipV="1">
              <a:off x="5726160" y="5452920"/>
              <a:ext cx="455400" cy="47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V="1">
              <a:off x="5738760" y="4017600"/>
              <a:ext cx="455400" cy="477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flipV="1">
              <a:off x="5738760" y="4512960"/>
              <a:ext cx="455400" cy="477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 flipV="1">
              <a:off x="5751360" y="4944960"/>
              <a:ext cx="455760" cy="47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 flipV="1">
              <a:off x="5751360" y="3547800"/>
              <a:ext cx="455760" cy="477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3160800" y="3570120"/>
            <a:ext cx="2606760" cy="2411640"/>
            <a:chOff x="3160800" y="3570120"/>
            <a:chExt cx="2606760" cy="2411640"/>
          </a:xfrm>
        </p:grpSpPr>
        <p:sp>
          <p:nvSpPr>
            <p:cNvPr id="334" name=""/>
            <p:cNvSpPr/>
            <p:nvPr/>
          </p:nvSpPr>
          <p:spPr>
            <a:xfrm>
              <a:off x="5215320" y="3570120"/>
              <a:ext cx="0" cy="2381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162600" y="3570120"/>
              <a:ext cx="2557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720040" y="3571920"/>
              <a:ext cx="0" cy="235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4197600" y="3570120"/>
              <a:ext cx="0" cy="2381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686400" y="3600360"/>
              <a:ext cx="0" cy="2381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175200" y="3578040"/>
              <a:ext cx="0" cy="2381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173760" y="4040280"/>
              <a:ext cx="2557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3210120" y="4992840"/>
              <a:ext cx="2557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204000" y="5462640"/>
              <a:ext cx="2557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160800" y="5932440"/>
              <a:ext cx="2557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169080" y="4510080"/>
              <a:ext cx="2557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4692960" y="3570120"/>
              <a:ext cx="0" cy="2381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46" name=""/>
          <p:cNvSpPr/>
          <p:nvPr/>
        </p:nvSpPr>
        <p:spPr>
          <a:xfrm>
            <a:off x="2604600" y="502920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Arial"/>
                <a:ea typeface="굴림"/>
              </a:rPr>
              <a:t>98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057040" y="3228840"/>
            <a:ext cx="111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Cloth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4036680" y="5942160"/>
            <a:ext cx="76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Uni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4200480" y="5002200"/>
            <a:ext cx="495360" cy="457200"/>
          </a:xfrm>
          <a:prstGeom prst="rect">
            <a:avLst/>
          </a:prstGeom>
          <a:solidFill>
            <a:srgbClr val="fb796b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194000" y="4519440"/>
            <a:ext cx="495360" cy="457200"/>
          </a:xfrm>
          <a:prstGeom prst="rect">
            <a:avLst/>
          </a:prstGeom>
          <a:solidFill>
            <a:srgbClr val="ffcc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243320" y="44244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0000"/>
                </a:solidFill>
                <a:latin typeface="Times New Roman"/>
                <a:ea typeface="굴림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82680" y="977760"/>
            <a:ext cx="844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Arial"/>
                <a:ea typeface="굴림"/>
              </a:rPr>
              <a:t>(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Products.Clothing , Measures.Units ,Time. 98.PrevMember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187880" y="5465880"/>
            <a:ext cx="495360" cy="457200"/>
          </a:xfrm>
          <a:prstGeom prst="rect">
            <a:avLst/>
          </a:prstGeom>
          <a:solidFill>
            <a:srgbClr val="ffcc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237200" y="537048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0000"/>
                </a:solidFill>
                <a:latin typeface="Times New Roman"/>
                <a:ea typeface="굴림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82680" y="1343160"/>
            <a:ext cx="818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Arial"/>
                <a:ea typeface="굴림"/>
              </a:rPr>
              <a:t>(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Products.Clothing , Measures.Units ,Time. 98.NextMember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687840" y="3571920"/>
            <a:ext cx="495360" cy="457200"/>
          </a:xfrm>
          <a:prstGeom prst="rect">
            <a:avLst/>
          </a:prstGeom>
          <a:solidFill>
            <a:srgbClr val="ffcc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708360" y="34830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0000"/>
                </a:solidFill>
                <a:latin typeface="Times New Roman"/>
                <a:ea typeface="굴림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82680" y="1708200"/>
            <a:ext cx="841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Arial"/>
                <a:ea typeface="굴림"/>
              </a:rPr>
              <a:t>(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Products.Clothing , Measures.Units.PrevMember ,Time. 98.Lag(3)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692520" y="3402000"/>
            <a:ext cx="685800" cy="165240"/>
          </a:xfrm>
          <a:custGeom>
            <a:avLst/>
            <a:gdLst/>
            <a:ahLst/>
            <a:rect l="l" t="t" r="r" b="b"/>
            <a:pathLst>
              <a:path w="432" h="104">
                <a:moveTo>
                  <a:pt x="0" y="104"/>
                </a:moveTo>
                <a:lnTo>
                  <a:pt x="104" y="0"/>
                </a:lnTo>
                <a:lnTo>
                  <a:pt x="432" y="0"/>
                </a:lnTo>
                <a:lnTo>
                  <a:pt x="320" y="96"/>
                </a:lnTo>
                <a:lnTo>
                  <a:pt x="0" y="104"/>
                </a:lnTo>
                <a:close/>
              </a:path>
            </a:pathLst>
          </a:custGeom>
          <a:solidFill>
            <a:srgbClr val="ffcc99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382680" y="2440080"/>
            <a:ext cx="852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Arial"/>
                <a:ea typeface="굴림"/>
              </a:rPr>
              <a:t>(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Products.Clothing , Measures.Units.PrevMember ,Time. 98.Lead(-3)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879720" y="207504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99"/>
                </a:solidFill>
                <a:latin typeface="Arial"/>
                <a:ea typeface="굴림"/>
              </a:rPr>
              <a:t>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82680" y="226800"/>
            <a:ext cx="8942400" cy="696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ca304"/>
                </a:solidFill>
                <a:latin typeface="Arial"/>
                <a:ea typeface="굴림"/>
              </a:rPr>
              <a:t>Every Cell Still Has A Name...</a:t>
            </a:r>
            <a:endParaRPr b="1" lang="en-US" sz="4400" spc="-1" strike="noStrike">
              <a:solidFill>
                <a:srgbClr val="fca304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87360" y="228600"/>
            <a:ext cx="7562880" cy="751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a304"/>
                </a:solidFill>
                <a:latin typeface="Arial"/>
                <a:ea typeface="굴림"/>
              </a:rPr>
              <a:t>Calculated Members</a:t>
            </a:r>
            <a:endParaRPr b="1" lang="en-US" sz="4800" spc="-1" strike="noStrike">
              <a:solidFill>
                <a:srgbClr val="fca304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380880" y="1251000"/>
            <a:ext cx="841536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76360" indent="-576360">
              <a:lnSpc>
                <a:spcPct val="90000"/>
              </a:lnSpc>
              <a:spcBef>
                <a:spcPts val="119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Calculated members</a:t>
            </a:r>
            <a:r>
              <a:rPr b="1" lang="ko-KR" sz="3200" spc="-1" strike="noStrike">
                <a:solidFill>
                  <a:srgbClr val="ffffff"/>
                </a:solidFill>
                <a:latin typeface="Arial"/>
                <a:ea typeface="굴림"/>
              </a:rPr>
              <a:t>는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OLAP</a:t>
            </a:r>
            <a:r>
              <a:rPr b="1" lang="ko-KR" sz="3200" spc="-1" strike="noStrike">
                <a:solidFill>
                  <a:srgbClr val="ffffff"/>
                </a:solidFill>
                <a:latin typeface="Arial"/>
                <a:ea typeface="굴림"/>
              </a:rPr>
              <a:t>에서 중요한 기능으로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6360" indent="-576360">
              <a:lnSpc>
                <a:spcPct val="90000"/>
              </a:lnSpc>
              <a:spcBef>
                <a:spcPts val="119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Arial"/>
                <a:ea typeface="굴림"/>
              </a:rPr>
              <a:t>복잡한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business logic</a:t>
            </a:r>
            <a:r>
              <a:rPr b="1" lang="ko-KR" sz="3200" spc="-1" strike="noStrike">
                <a:solidFill>
                  <a:srgbClr val="ffffff"/>
                </a:solidFill>
                <a:latin typeface="Arial"/>
                <a:ea typeface="굴림"/>
              </a:rPr>
              <a:t>을 해결할 수 있다</a:t>
            </a:r>
            <a:r>
              <a:rPr b="1" lang="ko-KR" sz="3200" spc="-1" strike="noStrike">
                <a:solidFill>
                  <a:srgbClr val="ffffff"/>
                </a:solidFill>
                <a:latin typeface="Arial"/>
                <a:ea typeface="굴림"/>
              </a:rPr>
              <a:t>.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636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6360" indent="-576360">
              <a:lnSpc>
                <a:spcPct val="90000"/>
              </a:lnSpc>
              <a:spcBef>
                <a:spcPts val="119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MDX is the syntax for calculated memb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1040" indent="-452520">
              <a:lnSpc>
                <a:spcPct val="90000"/>
              </a:lnSpc>
              <a:spcBef>
                <a:spcPts val="104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굴림"/>
              </a:rPr>
              <a:t>Statements – tools, query generators, develop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1040" indent="-452520">
              <a:lnSpc>
                <a:spcPct val="90000"/>
              </a:lnSpc>
              <a:spcBef>
                <a:spcPts val="104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굴림"/>
              </a:rPr>
              <a:t>Calculated members – DBAs and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굴림"/>
              </a:rPr>
              <a:t>power us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5" name=""/>
          <p:cNvGrpSpPr/>
          <p:nvPr/>
        </p:nvGrpSpPr>
        <p:grpSpPr>
          <a:xfrm>
            <a:off x="1770120" y="3097080"/>
            <a:ext cx="3017880" cy="502920"/>
            <a:chOff x="1770120" y="3097080"/>
            <a:chExt cx="3017880" cy="502920"/>
          </a:xfrm>
        </p:grpSpPr>
        <p:sp>
          <p:nvSpPr>
            <p:cNvPr id="366" name=""/>
            <p:cNvSpPr/>
            <p:nvPr/>
          </p:nvSpPr>
          <p:spPr>
            <a:xfrm>
              <a:off x="2076480" y="3286080"/>
              <a:ext cx="2533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 flipV="1">
              <a:off x="1770120" y="3109680"/>
              <a:ext cx="455400" cy="477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2228760" y="3121200"/>
              <a:ext cx="2559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923840" y="3425760"/>
              <a:ext cx="2546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 flipV="1">
              <a:off x="4322880" y="3122280"/>
              <a:ext cx="455400" cy="477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V="1">
              <a:off x="3306600" y="3097080"/>
              <a:ext cx="455760" cy="47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V="1">
              <a:off x="2811600" y="3097080"/>
              <a:ext cx="455400" cy="47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 flipV="1">
              <a:off x="2290680" y="3109680"/>
              <a:ext cx="455760" cy="477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 flipV="1">
              <a:off x="3827520" y="3097080"/>
              <a:ext cx="455400" cy="47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75" name=""/>
          <p:cNvGrpSpPr/>
          <p:nvPr/>
        </p:nvGrpSpPr>
        <p:grpSpPr>
          <a:xfrm>
            <a:off x="4322880" y="3121200"/>
            <a:ext cx="480960" cy="2828880"/>
            <a:chOff x="4322880" y="3121200"/>
            <a:chExt cx="480960" cy="2828880"/>
          </a:xfrm>
        </p:grpSpPr>
        <p:sp>
          <p:nvSpPr>
            <p:cNvPr id="376" name=""/>
            <p:cNvSpPr/>
            <p:nvPr/>
          </p:nvSpPr>
          <p:spPr>
            <a:xfrm>
              <a:off x="4481640" y="3438720"/>
              <a:ext cx="0" cy="235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608360" y="3286080"/>
              <a:ext cx="0" cy="235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773600" y="3121200"/>
              <a:ext cx="0" cy="235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 flipV="1">
              <a:off x="4322880" y="5472000"/>
              <a:ext cx="455400" cy="47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 flipV="1">
              <a:off x="4335480" y="4036680"/>
              <a:ext cx="455400" cy="477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 flipV="1">
              <a:off x="4335480" y="4532040"/>
              <a:ext cx="455400" cy="477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 flipV="1">
              <a:off x="4348080" y="4964040"/>
              <a:ext cx="455760" cy="47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 flipV="1">
              <a:off x="4348080" y="3566880"/>
              <a:ext cx="455760" cy="477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84" name=""/>
          <p:cNvGrpSpPr/>
          <p:nvPr/>
        </p:nvGrpSpPr>
        <p:grpSpPr>
          <a:xfrm>
            <a:off x="1757520" y="3589200"/>
            <a:ext cx="2606040" cy="2411640"/>
            <a:chOff x="1757520" y="3589200"/>
            <a:chExt cx="2606040" cy="2411640"/>
          </a:xfrm>
        </p:grpSpPr>
        <p:sp>
          <p:nvSpPr>
            <p:cNvPr id="385" name=""/>
            <p:cNvSpPr/>
            <p:nvPr/>
          </p:nvSpPr>
          <p:spPr>
            <a:xfrm>
              <a:off x="3811680" y="3589200"/>
              <a:ext cx="0" cy="2381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58960" y="3589200"/>
              <a:ext cx="25570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316400" y="3591000"/>
              <a:ext cx="0" cy="235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793960" y="3589200"/>
              <a:ext cx="0" cy="2381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2282760" y="3619440"/>
              <a:ext cx="0" cy="2381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771560" y="3597120"/>
              <a:ext cx="0" cy="2381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0120" y="4059360"/>
              <a:ext cx="25570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806480" y="5011920"/>
              <a:ext cx="25570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800360" y="5481720"/>
              <a:ext cx="25570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757520" y="5951520"/>
              <a:ext cx="2557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765440" y="4529160"/>
              <a:ext cx="25570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289320" y="3589200"/>
              <a:ext cx="0" cy="2381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/>
          <p:nvPr/>
        </p:nvSpPr>
        <p:spPr>
          <a:xfrm>
            <a:off x="1037880" y="460044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Arial"/>
                <a:ea typeface="굴림"/>
              </a:rPr>
              <a:t>97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1037880" y="51022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Arial"/>
                <a:ea typeface="굴림"/>
              </a:rPr>
              <a:t>98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1037880" y="553896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Arial"/>
                <a:ea typeface="굴림"/>
              </a:rPr>
              <a:t>99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938520" y="2805120"/>
            <a:ext cx="128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Groceri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58480" y="3330720"/>
            <a:ext cx="111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Cloth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32440" y="3068640"/>
            <a:ext cx="142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Applian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571040" y="614988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Sa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159280" y="61498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Cos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2689920" y="614988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Uni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1037880" y="41083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Arial"/>
                <a:ea typeface="굴림"/>
              </a:rPr>
              <a:t>9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1037880" y="363204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Arial"/>
                <a:ea typeface="굴림"/>
              </a:rPr>
              <a:t>9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382680" y="227160"/>
            <a:ext cx="7124760" cy="238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99"/>
                </a:solidFill>
                <a:latin typeface="Arial"/>
                <a:ea typeface="굴림"/>
              </a:rPr>
              <a:t>With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member Measures.Growth</a:t>
            </a:r>
            <a:r>
              <a:rPr b="0" lang="en-US" sz="2000" spc="-1" strike="noStrike">
                <a:solidFill>
                  <a:srgbClr val="ffcc99"/>
                </a:solidFill>
                <a:latin typeface="Arial"/>
                <a:ea typeface="굴림"/>
              </a:rPr>
              <a:t> as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‘(</a:t>
            </a:r>
            <a:r>
              <a:rPr b="0" lang="en-US" sz="2000" spc="-1" strike="noStrike">
                <a:solidFill>
                  <a:srgbClr val="f66a24"/>
                </a:solidFill>
                <a:latin typeface="Arial"/>
                <a:ea typeface="굴림"/>
              </a:rPr>
              <a:t>Time.currentmembe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,Measures.Sales)- (</a:t>
            </a:r>
            <a:r>
              <a:rPr b="0" lang="en-US" sz="2000" spc="-1" strike="noStrike">
                <a:solidFill>
                  <a:srgbClr val="22d62f"/>
                </a:solidFill>
                <a:latin typeface="Arial"/>
                <a:ea typeface="굴림"/>
              </a:rPr>
              <a:t>Time.currentmember.prevmembe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,Measures.Sales)’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99"/>
                </a:solidFill>
                <a:latin typeface="Arial"/>
                <a:ea typeface="굴림"/>
              </a:rPr>
              <a:t>	</a:t>
            </a:r>
            <a:r>
              <a:rPr b="0" lang="en-US" sz="1800" spc="-1" strike="noStrike">
                <a:solidFill>
                  <a:srgbClr val="ffcc99"/>
                </a:solidFill>
                <a:latin typeface="Arial"/>
                <a:ea typeface="굴림"/>
              </a:rPr>
              <a:t>Selec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Time.year.members on </a:t>
            </a:r>
            <a:r>
              <a:rPr b="0" lang="en-US" sz="1800" spc="-1" strike="noStrike">
                <a:solidFill>
                  <a:srgbClr val="ffcc99"/>
                </a:solidFill>
                <a:latin typeface="Arial"/>
                <a:ea typeface="굴림"/>
              </a:rPr>
              <a:t>Row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AddCalculatedMembers(Measures.members) on </a:t>
            </a:r>
            <a:r>
              <a:rPr b="0" lang="en-US" sz="1800" spc="-1" strike="noStrike">
                <a:solidFill>
                  <a:srgbClr val="ffcc99"/>
                </a:solidFill>
                <a:latin typeface="Arial"/>
                <a:ea typeface="굴림"/>
              </a:rPr>
              <a:t>Column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Product.[Product Department].members on Pag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99"/>
                </a:solidFill>
                <a:latin typeface="Arial"/>
                <a:ea typeface="굴림"/>
              </a:rPr>
              <a:t>	</a:t>
            </a:r>
            <a:r>
              <a:rPr b="0" lang="en-US" sz="1800" spc="-1" strike="noStrike">
                <a:solidFill>
                  <a:srgbClr val="ffcc99"/>
                </a:solidFill>
                <a:latin typeface="Arial"/>
                <a:ea typeface="굴림"/>
              </a:rPr>
              <a:t>Fro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 Sa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09" name=""/>
          <p:cNvGrpSpPr/>
          <p:nvPr/>
        </p:nvGrpSpPr>
        <p:grpSpPr>
          <a:xfrm>
            <a:off x="1834560" y="3625920"/>
            <a:ext cx="1324440" cy="2300760"/>
            <a:chOff x="1834560" y="3625920"/>
            <a:chExt cx="1324440" cy="2300760"/>
          </a:xfrm>
        </p:grpSpPr>
        <p:sp>
          <p:nvSpPr>
            <p:cNvPr id="410" name=""/>
            <p:cNvSpPr/>
            <p:nvPr/>
          </p:nvSpPr>
          <p:spPr>
            <a:xfrm>
              <a:off x="1834560" y="363240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cc99"/>
                  </a:solidFill>
                  <a:latin typeface="Arial"/>
                  <a:ea typeface="굴림"/>
                </a:rPr>
                <a:t>15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2349000" y="362592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5da1b9"/>
                  </a:solidFill>
                  <a:latin typeface="Arial"/>
                  <a:ea typeface="굴림"/>
                </a:rPr>
                <a:t>13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836440" y="365436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5da1b9"/>
                  </a:solidFill>
                  <a:latin typeface="Arial"/>
                  <a:ea typeface="굴림"/>
                </a:rPr>
                <a:t>5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836360" y="408456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cc99"/>
                  </a:solidFill>
                  <a:latin typeface="Arial"/>
                  <a:ea typeface="굴림"/>
                </a:rPr>
                <a:t>17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2349000" y="407844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5da1b9"/>
                  </a:solidFill>
                  <a:latin typeface="Arial"/>
                  <a:ea typeface="굴림"/>
                </a:rPr>
                <a:t>13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2836440" y="410688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5da1b9"/>
                  </a:solidFill>
                  <a:latin typeface="Arial"/>
                  <a:ea typeface="굴림"/>
                </a:rPr>
                <a:t>6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34560" y="457668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cc99"/>
                  </a:solidFill>
                  <a:latin typeface="Arial"/>
                  <a:ea typeface="굴림"/>
                </a:rPr>
                <a:t>22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2349000" y="457056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5da1b9"/>
                  </a:solidFill>
                  <a:latin typeface="Arial"/>
                  <a:ea typeface="굴림"/>
                </a:rPr>
                <a:t>11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836440" y="461808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5da1b9"/>
                  </a:solidFill>
                  <a:latin typeface="Arial"/>
                  <a:ea typeface="굴림"/>
                </a:rPr>
                <a:t>7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836360" y="502920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cc99"/>
                  </a:solidFill>
                  <a:latin typeface="Arial"/>
                  <a:ea typeface="굴림"/>
                </a:rPr>
                <a:t>29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490480" y="502272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5da1b9"/>
                  </a:solidFill>
                  <a:latin typeface="Arial"/>
                  <a:ea typeface="굴림"/>
                </a:rPr>
                <a:t>9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2836440" y="505152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5da1b9"/>
                  </a:solidFill>
                  <a:latin typeface="Arial"/>
                  <a:ea typeface="굴림"/>
                </a:rPr>
                <a:t>9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834560" y="550548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cc99"/>
                  </a:solidFill>
                  <a:latin typeface="Arial"/>
                  <a:ea typeface="굴림"/>
                </a:rPr>
                <a:t>3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349000" y="549900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5da1b9"/>
                  </a:solidFill>
                  <a:latin typeface="Arial"/>
                  <a:ea typeface="굴림"/>
                </a:rPr>
                <a:t>1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2836440" y="552780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5da1b9"/>
                  </a:solidFill>
                  <a:latin typeface="Arial"/>
                  <a:ea typeface="굴림"/>
                </a:rPr>
                <a:t>8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25" name=""/>
          <p:cNvSpPr/>
          <p:nvPr/>
        </p:nvSpPr>
        <p:spPr>
          <a:xfrm>
            <a:off x="3246480" y="612792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Growth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303720" y="3592440"/>
            <a:ext cx="495000" cy="457200"/>
          </a:xfrm>
          <a:prstGeom prst="rect">
            <a:avLst/>
          </a:prstGeom>
          <a:solidFill>
            <a:srgbClr val="fb796b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3884760" y="3171960"/>
            <a:ext cx="3107880" cy="1867680"/>
            <a:chOff x="3884760" y="3171960"/>
            <a:chExt cx="3107880" cy="1867680"/>
          </a:xfrm>
        </p:grpSpPr>
        <p:sp>
          <p:nvSpPr>
            <p:cNvPr id="428" name=""/>
            <p:cNvSpPr/>
            <p:nvPr/>
          </p:nvSpPr>
          <p:spPr>
            <a:xfrm>
              <a:off x="3884760" y="3879720"/>
              <a:ext cx="91728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head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5676480" y="3171960"/>
              <a:ext cx="1316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굴림"/>
                </a:rPr>
                <a:t>Time.95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5797440" y="4579920"/>
              <a:ext cx="1112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굴림"/>
                </a:rPr>
                <a:t>Empty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31" name=""/>
          <p:cNvSpPr/>
          <p:nvPr/>
        </p:nvSpPr>
        <p:spPr>
          <a:xfrm>
            <a:off x="3323880" y="363384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cc99"/>
                </a:solidFill>
                <a:latin typeface="Arial"/>
                <a:ea typeface="굴림"/>
              </a:rPr>
              <a:t>1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151960" y="2787480"/>
            <a:ext cx="26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66a24"/>
                </a:solidFill>
                <a:uFillTx/>
                <a:latin typeface="Arial"/>
                <a:ea typeface="굴림"/>
              </a:rPr>
              <a:t>Time.CurrentMemb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847400" y="4222800"/>
            <a:ext cx="412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22d62f"/>
                </a:solidFill>
                <a:uFillTx/>
                <a:latin typeface="Arial"/>
                <a:ea typeface="굴림"/>
              </a:rPr>
              <a:t>Time.CurrentMember.PrevMemb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100560" y="226800"/>
            <a:ext cx="2873160" cy="1409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a304"/>
                </a:solidFill>
                <a:latin typeface="Arial"/>
                <a:ea typeface="굴림"/>
              </a:rPr>
              <a:t>Sales Growth</a:t>
            </a:r>
            <a:endParaRPr b="1" lang="en-US" sz="4800" spc="-1" strike="noStrike">
              <a:solidFill>
                <a:srgbClr val="fca304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3294000" y="4078440"/>
            <a:ext cx="495360" cy="457200"/>
          </a:xfrm>
          <a:prstGeom prst="rect">
            <a:avLst/>
          </a:prstGeom>
          <a:solidFill>
            <a:srgbClr val="fb796b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36" name=""/>
          <p:cNvGrpSpPr/>
          <p:nvPr/>
        </p:nvGrpSpPr>
        <p:grpSpPr>
          <a:xfrm>
            <a:off x="1762200" y="3097080"/>
            <a:ext cx="3017880" cy="502920"/>
            <a:chOff x="1762200" y="3097080"/>
            <a:chExt cx="3017880" cy="502920"/>
          </a:xfrm>
        </p:grpSpPr>
        <p:sp>
          <p:nvSpPr>
            <p:cNvPr id="437" name=""/>
            <p:cNvSpPr/>
            <p:nvPr/>
          </p:nvSpPr>
          <p:spPr>
            <a:xfrm>
              <a:off x="2068560" y="3286080"/>
              <a:ext cx="2533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 flipV="1">
              <a:off x="1762200" y="3109680"/>
              <a:ext cx="455400" cy="477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220840" y="3121200"/>
              <a:ext cx="2559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915920" y="3425760"/>
              <a:ext cx="2546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 flipV="1">
              <a:off x="4314960" y="3122280"/>
              <a:ext cx="455400" cy="477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 flipV="1">
              <a:off x="3298680" y="3097080"/>
              <a:ext cx="455760" cy="47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 flipV="1">
              <a:off x="2803680" y="3097080"/>
              <a:ext cx="455400" cy="47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 flipV="1">
              <a:off x="2282760" y="3109680"/>
              <a:ext cx="455760" cy="477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 flipV="1">
              <a:off x="3819600" y="3097080"/>
              <a:ext cx="455400" cy="47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46" name=""/>
          <p:cNvGrpSpPr/>
          <p:nvPr/>
        </p:nvGrpSpPr>
        <p:grpSpPr>
          <a:xfrm>
            <a:off x="4314960" y="3121200"/>
            <a:ext cx="480960" cy="2828880"/>
            <a:chOff x="4314960" y="3121200"/>
            <a:chExt cx="480960" cy="2828880"/>
          </a:xfrm>
        </p:grpSpPr>
        <p:sp>
          <p:nvSpPr>
            <p:cNvPr id="447" name=""/>
            <p:cNvSpPr/>
            <p:nvPr/>
          </p:nvSpPr>
          <p:spPr>
            <a:xfrm>
              <a:off x="4473720" y="3438720"/>
              <a:ext cx="0" cy="235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600440" y="3286080"/>
              <a:ext cx="0" cy="235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765680" y="3121200"/>
              <a:ext cx="0" cy="235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 flipV="1">
              <a:off x="4314960" y="5472000"/>
              <a:ext cx="455400" cy="47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V="1">
              <a:off x="4327560" y="4036680"/>
              <a:ext cx="455400" cy="477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V="1">
              <a:off x="4327560" y="4532040"/>
              <a:ext cx="455400" cy="477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V="1">
              <a:off x="4340160" y="4964040"/>
              <a:ext cx="455760" cy="47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 flipV="1">
              <a:off x="4340160" y="3566880"/>
              <a:ext cx="455760" cy="477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55" name=""/>
          <p:cNvGrpSpPr/>
          <p:nvPr/>
        </p:nvGrpSpPr>
        <p:grpSpPr>
          <a:xfrm>
            <a:off x="1749600" y="3589200"/>
            <a:ext cx="2606040" cy="2411640"/>
            <a:chOff x="1749600" y="3589200"/>
            <a:chExt cx="2606040" cy="2411640"/>
          </a:xfrm>
        </p:grpSpPr>
        <p:sp>
          <p:nvSpPr>
            <p:cNvPr id="456" name=""/>
            <p:cNvSpPr/>
            <p:nvPr/>
          </p:nvSpPr>
          <p:spPr>
            <a:xfrm>
              <a:off x="3803760" y="3589200"/>
              <a:ext cx="0" cy="2381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1751040" y="3589200"/>
              <a:ext cx="25570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308480" y="3591000"/>
              <a:ext cx="0" cy="235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2786040" y="3589200"/>
              <a:ext cx="0" cy="2381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2274840" y="3619440"/>
              <a:ext cx="0" cy="2381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763640" y="3597120"/>
              <a:ext cx="0" cy="2381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762200" y="4059360"/>
              <a:ext cx="25570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1798560" y="5011920"/>
              <a:ext cx="25570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792440" y="5481720"/>
              <a:ext cx="25570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1749600" y="5951520"/>
              <a:ext cx="2557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757520" y="4529160"/>
              <a:ext cx="25570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281400" y="3589200"/>
              <a:ext cx="0" cy="2381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68" name=""/>
          <p:cNvSpPr/>
          <p:nvPr/>
        </p:nvSpPr>
        <p:spPr>
          <a:xfrm>
            <a:off x="1029960" y="460044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Arial"/>
                <a:ea typeface="굴림"/>
              </a:rPr>
              <a:t>97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1029960" y="51022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Arial"/>
                <a:ea typeface="굴림"/>
              </a:rPr>
              <a:t>98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1029960" y="553896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Arial"/>
                <a:ea typeface="굴림"/>
              </a:rPr>
              <a:t>99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930600" y="2805120"/>
            <a:ext cx="128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Groceri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250560" y="3330720"/>
            <a:ext cx="111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Cloth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24520" y="3068640"/>
            <a:ext cx="142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Applian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563120" y="614988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Sa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2151360" y="61498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Cos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682000" y="614988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Uni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1029960" y="41083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Arial"/>
                <a:ea typeface="굴림"/>
              </a:rPr>
              <a:t>9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029960" y="363204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Arial"/>
                <a:ea typeface="굴림"/>
              </a:rPr>
              <a:t>9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382680" y="227160"/>
            <a:ext cx="7178760" cy="238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99"/>
                </a:solidFill>
                <a:latin typeface="Arial"/>
                <a:ea typeface="굴림"/>
              </a:rPr>
              <a:t>With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member Measures.Growth</a:t>
            </a:r>
            <a:r>
              <a:rPr b="0" lang="en-US" sz="2000" spc="-1" strike="noStrike">
                <a:solidFill>
                  <a:srgbClr val="ffcc99"/>
                </a:solidFill>
                <a:latin typeface="Arial"/>
                <a:ea typeface="굴림"/>
              </a:rPr>
              <a:t> as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‘(</a:t>
            </a:r>
            <a:r>
              <a:rPr b="0" lang="en-US" sz="2000" spc="-1" strike="noStrike">
                <a:solidFill>
                  <a:srgbClr val="f66a24"/>
                </a:solidFill>
                <a:latin typeface="Arial"/>
                <a:ea typeface="굴림"/>
              </a:rPr>
              <a:t>Time.currentmembe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,Measures.Sales)- (</a:t>
            </a:r>
            <a:r>
              <a:rPr b="0" lang="en-US" sz="2000" spc="-1" strike="noStrike">
                <a:solidFill>
                  <a:srgbClr val="22d62f"/>
                </a:solidFill>
                <a:latin typeface="Arial"/>
                <a:ea typeface="굴림"/>
              </a:rPr>
              <a:t>Time.currentmember.prevmembe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,Measures.Sales)’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99"/>
                </a:solidFill>
                <a:latin typeface="Arial"/>
                <a:ea typeface="굴림"/>
              </a:rPr>
              <a:t>	</a:t>
            </a:r>
            <a:r>
              <a:rPr b="0" lang="en-US" sz="1800" spc="-1" strike="noStrike">
                <a:solidFill>
                  <a:srgbClr val="ffcc99"/>
                </a:solidFill>
                <a:latin typeface="Arial"/>
                <a:ea typeface="굴림"/>
              </a:rPr>
              <a:t>Selec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Time.year.members on </a:t>
            </a:r>
            <a:r>
              <a:rPr b="0" lang="en-US" sz="1800" spc="-1" strike="noStrike">
                <a:solidFill>
                  <a:srgbClr val="ffcc99"/>
                </a:solidFill>
                <a:latin typeface="Arial"/>
                <a:ea typeface="굴림"/>
              </a:rPr>
              <a:t>Row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AddCalculatedMembers(Measures.members) on </a:t>
            </a:r>
            <a:r>
              <a:rPr b="0" lang="en-US" sz="1800" spc="-1" strike="noStrike">
                <a:solidFill>
                  <a:srgbClr val="ffcc99"/>
                </a:solidFill>
                <a:latin typeface="Arial"/>
                <a:ea typeface="굴림"/>
              </a:rPr>
              <a:t>Column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Product.[Product Department].members on Pag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99"/>
                </a:solidFill>
                <a:latin typeface="Arial"/>
                <a:ea typeface="굴림"/>
              </a:rPr>
              <a:t>	</a:t>
            </a:r>
            <a:r>
              <a:rPr b="0" lang="en-US" sz="1800" spc="-1" strike="noStrike">
                <a:solidFill>
                  <a:srgbClr val="ffcc99"/>
                </a:solidFill>
                <a:latin typeface="Arial"/>
                <a:ea typeface="굴림"/>
              </a:rPr>
              <a:t>Fro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 Sa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3238560" y="612792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Growth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81" name=""/>
          <p:cNvGrpSpPr/>
          <p:nvPr/>
        </p:nvGrpSpPr>
        <p:grpSpPr>
          <a:xfrm>
            <a:off x="3881520" y="3171960"/>
            <a:ext cx="3168720" cy="1867680"/>
            <a:chOff x="3881520" y="3171960"/>
            <a:chExt cx="3168720" cy="1867680"/>
          </a:xfrm>
        </p:grpSpPr>
        <p:sp>
          <p:nvSpPr>
            <p:cNvPr id="482" name=""/>
            <p:cNvSpPr/>
            <p:nvPr/>
          </p:nvSpPr>
          <p:spPr>
            <a:xfrm>
              <a:off x="3881520" y="4333680"/>
              <a:ext cx="91764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head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5734080" y="3171960"/>
              <a:ext cx="1316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굴림"/>
                </a:rPr>
                <a:t>Time.96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5734080" y="4579920"/>
              <a:ext cx="1316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굴림"/>
                </a:rPr>
                <a:t>Time.95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85" name=""/>
          <p:cNvSpPr/>
          <p:nvPr/>
        </p:nvSpPr>
        <p:spPr>
          <a:xfrm>
            <a:off x="3279600" y="3651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cc99"/>
                </a:solidFill>
                <a:latin typeface="Arial"/>
                <a:ea typeface="굴림"/>
              </a:rPr>
              <a:t>1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3349440" y="41385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cc99"/>
                </a:solidFill>
                <a:latin typeface="Arial"/>
                <a:ea typeface="굴림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5151960" y="2790720"/>
            <a:ext cx="26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66a24"/>
                </a:solidFill>
                <a:uFillTx/>
                <a:latin typeface="Arial"/>
                <a:ea typeface="굴림"/>
              </a:rPr>
              <a:t>Time.CurrentMemb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4852080" y="4221000"/>
            <a:ext cx="412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22d62f"/>
                </a:solidFill>
                <a:uFillTx/>
                <a:latin typeface="Arial"/>
                <a:ea typeface="굴림"/>
              </a:rPr>
              <a:t>Time.CurrentMember.PrevMemb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89" name=""/>
          <p:cNvGrpSpPr/>
          <p:nvPr/>
        </p:nvGrpSpPr>
        <p:grpSpPr>
          <a:xfrm>
            <a:off x="1826640" y="3625920"/>
            <a:ext cx="1324440" cy="2300760"/>
            <a:chOff x="1826640" y="3625920"/>
            <a:chExt cx="1324440" cy="2300760"/>
          </a:xfrm>
        </p:grpSpPr>
        <p:sp>
          <p:nvSpPr>
            <p:cNvPr id="490" name=""/>
            <p:cNvSpPr/>
            <p:nvPr/>
          </p:nvSpPr>
          <p:spPr>
            <a:xfrm>
              <a:off x="1826640" y="363240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cc99"/>
                  </a:solidFill>
                  <a:latin typeface="Arial"/>
                  <a:ea typeface="굴림"/>
                </a:rPr>
                <a:t>15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2341080" y="362592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5da1b9"/>
                  </a:solidFill>
                  <a:latin typeface="Arial"/>
                  <a:ea typeface="굴림"/>
                </a:rPr>
                <a:t>13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2828520" y="365436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5da1b9"/>
                  </a:solidFill>
                  <a:latin typeface="Arial"/>
                  <a:ea typeface="굴림"/>
                </a:rPr>
                <a:t>5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1828440" y="408456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cc99"/>
                  </a:solidFill>
                  <a:latin typeface="Arial"/>
                  <a:ea typeface="굴림"/>
                </a:rPr>
                <a:t>17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2341080" y="407844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5da1b9"/>
                  </a:solidFill>
                  <a:latin typeface="Arial"/>
                  <a:ea typeface="굴림"/>
                </a:rPr>
                <a:t>13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2828520" y="410688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5da1b9"/>
                  </a:solidFill>
                  <a:latin typeface="Arial"/>
                  <a:ea typeface="굴림"/>
                </a:rPr>
                <a:t>6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1826640" y="457668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cc99"/>
                  </a:solidFill>
                  <a:latin typeface="Arial"/>
                  <a:ea typeface="굴림"/>
                </a:rPr>
                <a:t>22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2341080" y="457056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5da1b9"/>
                  </a:solidFill>
                  <a:latin typeface="Arial"/>
                  <a:ea typeface="굴림"/>
                </a:rPr>
                <a:t>11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2828520" y="461808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5da1b9"/>
                  </a:solidFill>
                  <a:latin typeface="Arial"/>
                  <a:ea typeface="굴림"/>
                </a:rPr>
                <a:t>7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1828440" y="502920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cc99"/>
                  </a:solidFill>
                  <a:latin typeface="Arial"/>
                  <a:ea typeface="굴림"/>
                </a:rPr>
                <a:t>29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2482560" y="502272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5da1b9"/>
                  </a:solidFill>
                  <a:latin typeface="Arial"/>
                  <a:ea typeface="굴림"/>
                </a:rPr>
                <a:t>9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2828520" y="505152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5da1b9"/>
                  </a:solidFill>
                  <a:latin typeface="Arial"/>
                  <a:ea typeface="굴림"/>
                </a:rPr>
                <a:t>9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1826640" y="550548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cc99"/>
                  </a:solidFill>
                  <a:latin typeface="Arial"/>
                  <a:ea typeface="굴림"/>
                </a:rPr>
                <a:t>3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2341080" y="549900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5da1b9"/>
                  </a:solidFill>
                  <a:latin typeface="Arial"/>
                  <a:ea typeface="굴림"/>
                </a:rPr>
                <a:t>1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2828520" y="552780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5da1b9"/>
                  </a:solidFill>
                  <a:latin typeface="Arial"/>
                  <a:ea typeface="굴림"/>
                </a:rPr>
                <a:t>8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154560" y="226800"/>
            <a:ext cx="2819520" cy="1409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a304"/>
                </a:solidFill>
                <a:latin typeface="Arial"/>
                <a:ea typeface="굴림"/>
              </a:rPr>
              <a:t>Sales Growth</a:t>
            </a:r>
            <a:endParaRPr b="1" lang="en-US" sz="4800" spc="-1" strike="noStrike">
              <a:solidFill>
                <a:srgbClr val="fca304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"/>
          <p:cNvSpPr/>
          <p:nvPr/>
        </p:nvSpPr>
        <p:spPr>
          <a:xfrm>
            <a:off x="3301920" y="4543560"/>
            <a:ext cx="495360" cy="457200"/>
          </a:xfrm>
          <a:prstGeom prst="rect">
            <a:avLst/>
          </a:prstGeom>
          <a:solidFill>
            <a:srgbClr val="fb796b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07" name=""/>
          <p:cNvGrpSpPr/>
          <p:nvPr/>
        </p:nvGrpSpPr>
        <p:grpSpPr>
          <a:xfrm>
            <a:off x="1770120" y="3095640"/>
            <a:ext cx="3017880" cy="502920"/>
            <a:chOff x="1770120" y="3095640"/>
            <a:chExt cx="3017880" cy="502920"/>
          </a:xfrm>
        </p:grpSpPr>
        <p:sp>
          <p:nvSpPr>
            <p:cNvPr id="508" name=""/>
            <p:cNvSpPr/>
            <p:nvPr/>
          </p:nvSpPr>
          <p:spPr>
            <a:xfrm>
              <a:off x="2076480" y="3284640"/>
              <a:ext cx="2533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 flipV="1">
              <a:off x="1770120" y="3108240"/>
              <a:ext cx="455400" cy="477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2228760" y="3119760"/>
              <a:ext cx="2559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1923840" y="3424320"/>
              <a:ext cx="2546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 flipV="1">
              <a:off x="4322880" y="3120840"/>
              <a:ext cx="455400" cy="477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 flipV="1">
              <a:off x="3306600" y="3095640"/>
              <a:ext cx="455760" cy="47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 flipV="1">
              <a:off x="2811600" y="3095640"/>
              <a:ext cx="455400" cy="47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 flipV="1">
              <a:off x="2290680" y="3108240"/>
              <a:ext cx="455760" cy="477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 flipV="1">
              <a:off x="3827520" y="3095640"/>
              <a:ext cx="455400" cy="47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17" name=""/>
          <p:cNvGrpSpPr/>
          <p:nvPr/>
        </p:nvGrpSpPr>
        <p:grpSpPr>
          <a:xfrm>
            <a:off x="4322880" y="3119400"/>
            <a:ext cx="480960" cy="2828880"/>
            <a:chOff x="4322880" y="3119400"/>
            <a:chExt cx="480960" cy="2828880"/>
          </a:xfrm>
        </p:grpSpPr>
        <p:sp>
          <p:nvSpPr>
            <p:cNvPr id="518" name=""/>
            <p:cNvSpPr/>
            <p:nvPr/>
          </p:nvSpPr>
          <p:spPr>
            <a:xfrm>
              <a:off x="4481640" y="3436920"/>
              <a:ext cx="0" cy="235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4608360" y="3284280"/>
              <a:ext cx="0" cy="235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4773600" y="3119400"/>
              <a:ext cx="0" cy="235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 flipV="1">
              <a:off x="4322880" y="5470200"/>
              <a:ext cx="455400" cy="47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 flipV="1">
              <a:off x="4335480" y="4034880"/>
              <a:ext cx="455400" cy="477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 flipV="1">
              <a:off x="4335480" y="4530240"/>
              <a:ext cx="455400" cy="477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 flipV="1">
              <a:off x="4348080" y="4962240"/>
              <a:ext cx="455760" cy="47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 flipV="1">
              <a:off x="4348080" y="3565080"/>
              <a:ext cx="455760" cy="477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26" name=""/>
          <p:cNvGrpSpPr/>
          <p:nvPr/>
        </p:nvGrpSpPr>
        <p:grpSpPr>
          <a:xfrm>
            <a:off x="1757520" y="3587760"/>
            <a:ext cx="2606040" cy="2410920"/>
            <a:chOff x="1757520" y="3587760"/>
            <a:chExt cx="2606040" cy="2410920"/>
          </a:xfrm>
        </p:grpSpPr>
        <p:sp>
          <p:nvSpPr>
            <p:cNvPr id="527" name=""/>
            <p:cNvSpPr/>
            <p:nvPr/>
          </p:nvSpPr>
          <p:spPr>
            <a:xfrm>
              <a:off x="3811680" y="3587760"/>
              <a:ext cx="0" cy="2381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1758960" y="3587760"/>
              <a:ext cx="25570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316400" y="3589200"/>
              <a:ext cx="0" cy="2355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2793960" y="3587760"/>
              <a:ext cx="0" cy="2381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282760" y="3617640"/>
              <a:ext cx="0" cy="2381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1771560" y="3595320"/>
              <a:ext cx="0" cy="2381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1770120" y="4057560"/>
              <a:ext cx="25570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06480" y="5010120"/>
              <a:ext cx="25570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1800360" y="5479920"/>
              <a:ext cx="25570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757520" y="5949720"/>
              <a:ext cx="2557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1765440" y="4527360"/>
              <a:ext cx="25570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3289320" y="3587760"/>
              <a:ext cx="0" cy="2381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39" name=""/>
          <p:cNvSpPr/>
          <p:nvPr/>
        </p:nvSpPr>
        <p:spPr>
          <a:xfrm>
            <a:off x="1037880" y="459900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Arial"/>
                <a:ea typeface="굴림"/>
              </a:rPr>
              <a:t>97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1037880" y="51004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Arial"/>
                <a:ea typeface="굴림"/>
              </a:rPr>
              <a:t>98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1037880" y="553716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Arial"/>
                <a:ea typeface="굴림"/>
              </a:rPr>
              <a:t>99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938520" y="2803680"/>
            <a:ext cx="128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Groceri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258480" y="3328920"/>
            <a:ext cx="111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Cloth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532440" y="3067200"/>
            <a:ext cx="142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Applian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1571040" y="614844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Sa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2159280" y="61484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Cos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2689920" y="614844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Uni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1037880" y="41068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Arial"/>
                <a:ea typeface="굴림"/>
              </a:rPr>
              <a:t>9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1037880" y="363060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Arial"/>
                <a:ea typeface="굴림"/>
              </a:rPr>
              <a:t>9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382680" y="227160"/>
            <a:ext cx="7164360" cy="238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99"/>
                </a:solidFill>
                <a:latin typeface="Arial"/>
                <a:ea typeface="굴림"/>
              </a:rPr>
              <a:t>With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member Measures.Growth</a:t>
            </a:r>
            <a:r>
              <a:rPr b="0" lang="en-US" sz="2000" spc="-1" strike="noStrike">
                <a:solidFill>
                  <a:srgbClr val="ffcc99"/>
                </a:solidFill>
                <a:latin typeface="Arial"/>
                <a:ea typeface="굴림"/>
              </a:rPr>
              <a:t> as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‘(</a:t>
            </a:r>
            <a:r>
              <a:rPr b="0" lang="en-US" sz="2000" spc="-1" strike="noStrike">
                <a:solidFill>
                  <a:srgbClr val="f66a24"/>
                </a:solidFill>
                <a:latin typeface="Arial"/>
                <a:ea typeface="굴림"/>
              </a:rPr>
              <a:t>Time.currentmembe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,Measures.Sales)- (</a:t>
            </a:r>
            <a:r>
              <a:rPr b="0" lang="en-US" sz="2000" spc="-1" strike="noStrike">
                <a:solidFill>
                  <a:srgbClr val="22d62f"/>
                </a:solidFill>
                <a:latin typeface="Arial"/>
                <a:ea typeface="굴림"/>
              </a:rPr>
              <a:t>Time.currentmember.prevmembe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,Measures.Sales)’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99"/>
                </a:solidFill>
                <a:latin typeface="Arial"/>
                <a:ea typeface="굴림"/>
              </a:rPr>
              <a:t>	</a:t>
            </a:r>
            <a:r>
              <a:rPr b="0" lang="en-US" sz="1800" spc="-1" strike="noStrike">
                <a:solidFill>
                  <a:srgbClr val="ffcc99"/>
                </a:solidFill>
                <a:latin typeface="Arial"/>
                <a:ea typeface="굴림"/>
              </a:rPr>
              <a:t>Selec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Time.year.members on </a:t>
            </a:r>
            <a:r>
              <a:rPr b="0" lang="en-US" sz="1800" spc="-1" strike="noStrike">
                <a:solidFill>
                  <a:srgbClr val="ffcc99"/>
                </a:solidFill>
                <a:latin typeface="Arial"/>
                <a:ea typeface="굴림"/>
              </a:rPr>
              <a:t>Row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AddCalculatedMembers(Measures.members) on </a:t>
            </a:r>
            <a:r>
              <a:rPr b="0" lang="en-US" sz="1800" spc="-1" strike="noStrike">
                <a:solidFill>
                  <a:srgbClr val="ffcc99"/>
                </a:solidFill>
                <a:latin typeface="Arial"/>
                <a:ea typeface="굴림"/>
              </a:rPr>
              <a:t>Column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Product.[Product Department].members on Pag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99"/>
                </a:solidFill>
                <a:latin typeface="Arial"/>
                <a:ea typeface="굴림"/>
              </a:rPr>
              <a:t>	</a:t>
            </a:r>
            <a:r>
              <a:rPr b="0" lang="en-US" sz="1800" spc="-1" strike="noStrike">
                <a:solidFill>
                  <a:srgbClr val="ffcc99"/>
                </a:solidFill>
                <a:latin typeface="Arial"/>
                <a:ea typeface="굴림"/>
              </a:rPr>
              <a:t>Fro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 Sa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3246480" y="612612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Growth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5151960" y="2787480"/>
            <a:ext cx="26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66a24"/>
                </a:solidFill>
                <a:uFillTx/>
                <a:latin typeface="Arial"/>
                <a:ea typeface="굴림"/>
              </a:rPr>
              <a:t>Time.CurrentMemb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4847400" y="4222800"/>
            <a:ext cx="412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22d62f"/>
                </a:solidFill>
                <a:uFillTx/>
                <a:latin typeface="Arial"/>
                <a:ea typeface="굴림"/>
              </a:rPr>
              <a:t>Time.CurrentMember.PrevMemb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54" name=""/>
          <p:cNvGrpSpPr/>
          <p:nvPr/>
        </p:nvGrpSpPr>
        <p:grpSpPr>
          <a:xfrm>
            <a:off x="3884760" y="3171960"/>
            <a:ext cx="3168720" cy="1867680"/>
            <a:chOff x="3884760" y="3171960"/>
            <a:chExt cx="3168720" cy="1867680"/>
          </a:xfrm>
        </p:grpSpPr>
        <p:sp>
          <p:nvSpPr>
            <p:cNvPr id="555" name=""/>
            <p:cNvSpPr/>
            <p:nvPr/>
          </p:nvSpPr>
          <p:spPr>
            <a:xfrm>
              <a:off x="3884760" y="4822560"/>
              <a:ext cx="91764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head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5737320" y="3171960"/>
              <a:ext cx="1316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굴림"/>
                </a:rPr>
                <a:t>Time.97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5737320" y="4579920"/>
              <a:ext cx="1316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굴림"/>
                </a:rPr>
                <a:t>Time.96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58" name=""/>
          <p:cNvSpPr/>
          <p:nvPr/>
        </p:nvSpPr>
        <p:spPr>
          <a:xfrm>
            <a:off x="3287520" y="3649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cc99"/>
                </a:solidFill>
                <a:latin typeface="Arial"/>
                <a:ea typeface="굴림"/>
              </a:rPr>
              <a:t>1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3335040" y="41371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cc99"/>
                </a:solidFill>
                <a:latin typeface="Arial"/>
                <a:ea typeface="굴림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3381120" y="46069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cc99"/>
                </a:solidFill>
                <a:latin typeface="Arial"/>
                <a:ea typeface="굴림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61" name=""/>
          <p:cNvGrpSpPr/>
          <p:nvPr/>
        </p:nvGrpSpPr>
        <p:grpSpPr>
          <a:xfrm>
            <a:off x="1834560" y="3624120"/>
            <a:ext cx="1324440" cy="2300760"/>
            <a:chOff x="1834560" y="3624120"/>
            <a:chExt cx="1324440" cy="2300760"/>
          </a:xfrm>
        </p:grpSpPr>
        <p:sp>
          <p:nvSpPr>
            <p:cNvPr id="562" name=""/>
            <p:cNvSpPr/>
            <p:nvPr/>
          </p:nvSpPr>
          <p:spPr>
            <a:xfrm>
              <a:off x="1834560" y="363060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cc99"/>
                  </a:solidFill>
                  <a:latin typeface="Arial"/>
                  <a:ea typeface="굴림"/>
                </a:rPr>
                <a:t>15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2349000" y="362412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5da1b9"/>
                  </a:solidFill>
                  <a:latin typeface="Arial"/>
                  <a:ea typeface="굴림"/>
                </a:rPr>
                <a:t>13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2836440" y="365256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5da1b9"/>
                  </a:solidFill>
                  <a:latin typeface="Arial"/>
                  <a:ea typeface="굴림"/>
                </a:rPr>
                <a:t>5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1836360" y="408276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cc99"/>
                  </a:solidFill>
                  <a:latin typeface="Arial"/>
                  <a:ea typeface="굴림"/>
                </a:rPr>
                <a:t>17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2349000" y="407664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5da1b9"/>
                  </a:solidFill>
                  <a:latin typeface="Arial"/>
                  <a:ea typeface="굴림"/>
                </a:rPr>
                <a:t>13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836440" y="410508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5da1b9"/>
                  </a:solidFill>
                  <a:latin typeface="Arial"/>
                  <a:ea typeface="굴림"/>
                </a:rPr>
                <a:t>6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1834560" y="457488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cc99"/>
                  </a:solidFill>
                  <a:latin typeface="Arial"/>
                  <a:ea typeface="굴림"/>
                </a:rPr>
                <a:t>22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2349000" y="456876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5da1b9"/>
                  </a:solidFill>
                  <a:latin typeface="Arial"/>
                  <a:ea typeface="굴림"/>
                </a:rPr>
                <a:t>11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836440" y="461628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5da1b9"/>
                  </a:solidFill>
                  <a:latin typeface="Arial"/>
                  <a:ea typeface="굴림"/>
                </a:rPr>
                <a:t>7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1836360" y="502740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cc99"/>
                  </a:solidFill>
                  <a:latin typeface="Arial"/>
                  <a:ea typeface="굴림"/>
                </a:rPr>
                <a:t>29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2490480" y="502092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5da1b9"/>
                  </a:solidFill>
                  <a:latin typeface="Arial"/>
                  <a:ea typeface="굴림"/>
                </a:rPr>
                <a:t>9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2836440" y="504972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5da1b9"/>
                  </a:solidFill>
                  <a:latin typeface="Arial"/>
                  <a:ea typeface="굴림"/>
                </a:rPr>
                <a:t>9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834560" y="550368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cc99"/>
                  </a:solidFill>
                  <a:latin typeface="Arial"/>
                  <a:ea typeface="굴림"/>
                </a:rPr>
                <a:t>3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2349000" y="549720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5da1b9"/>
                  </a:solidFill>
                  <a:latin typeface="Arial"/>
                  <a:ea typeface="굴림"/>
                </a:rPr>
                <a:t>1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2836440" y="552600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5da1b9"/>
                  </a:solidFill>
                  <a:latin typeface="Arial"/>
                  <a:ea typeface="굴림"/>
                </a:rPr>
                <a:t>8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456240" y="226800"/>
            <a:ext cx="2517840" cy="1409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a304"/>
                </a:solidFill>
                <a:latin typeface="Arial"/>
                <a:ea typeface="굴림"/>
              </a:rPr>
              <a:t>Sales Growth</a:t>
            </a:r>
            <a:endParaRPr b="1" lang="en-US" sz="4800" spc="-1" strike="noStrike">
              <a:solidFill>
                <a:srgbClr val="fca304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"/>
          <p:cNvSpPr/>
          <p:nvPr/>
        </p:nvSpPr>
        <p:spPr>
          <a:xfrm>
            <a:off x="3292560" y="5019840"/>
            <a:ext cx="520560" cy="457200"/>
          </a:xfrm>
          <a:prstGeom prst="rect">
            <a:avLst/>
          </a:prstGeom>
          <a:solidFill>
            <a:srgbClr val="fb796b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79" name=""/>
          <p:cNvGrpSpPr/>
          <p:nvPr/>
        </p:nvGrpSpPr>
        <p:grpSpPr>
          <a:xfrm>
            <a:off x="1773360" y="3095640"/>
            <a:ext cx="3017880" cy="502920"/>
            <a:chOff x="1773360" y="3095640"/>
            <a:chExt cx="3017880" cy="502920"/>
          </a:xfrm>
        </p:grpSpPr>
        <p:sp>
          <p:nvSpPr>
            <p:cNvPr id="580" name=""/>
            <p:cNvSpPr/>
            <p:nvPr/>
          </p:nvSpPr>
          <p:spPr>
            <a:xfrm>
              <a:off x="2079720" y="3284640"/>
              <a:ext cx="2533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 flipV="1">
              <a:off x="1773360" y="3108240"/>
              <a:ext cx="455400" cy="477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2232000" y="3119760"/>
              <a:ext cx="2559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1927080" y="3424320"/>
              <a:ext cx="2546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 flipV="1">
              <a:off x="4326120" y="3120840"/>
              <a:ext cx="455400" cy="477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 flipV="1">
              <a:off x="3309840" y="3095640"/>
              <a:ext cx="455760" cy="47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 flipV="1">
              <a:off x="2814840" y="3095640"/>
              <a:ext cx="455400" cy="47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 flipV="1">
              <a:off x="2293920" y="3108240"/>
              <a:ext cx="455760" cy="477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 flipV="1">
              <a:off x="3830760" y="3095640"/>
              <a:ext cx="455400" cy="47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89" name=""/>
          <p:cNvGrpSpPr/>
          <p:nvPr/>
        </p:nvGrpSpPr>
        <p:grpSpPr>
          <a:xfrm>
            <a:off x="4325760" y="3119400"/>
            <a:ext cx="480960" cy="2828880"/>
            <a:chOff x="4325760" y="3119400"/>
            <a:chExt cx="480960" cy="2828880"/>
          </a:xfrm>
        </p:grpSpPr>
        <p:sp>
          <p:nvSpPr>
            <p:cNvPr id="590" name=""/>
            <p:cNvSpPr/>
            <p:nvPr/>
          </p:nvSpPr>
          <p:spPr>
            <a:xfrm>
              <a:off x="4484520" y="3436920"/>
              <a:ext cx="0" cy="235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611240" y="3284280"/>
              <a:ext cx="0" cy="235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76480" y="3119400"/>
              <a:ext cx="0" cy="235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 flipV="1">
              <a:off x="4325760" y="5470200"/>
              <a:ext cx="455400" cy="47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4338360" y="4034880"/>
              <a:ext cx="455400" cy="477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 flipV="1">
              <a:off x="4338360" y="4530240"/>
              <a:ext cx="455400" cy="477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 flipV="1">
              <a:off x="4350960" y="4962240"/>
              <a:ext cx="455760" cy="47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 flipV="1">
              <a:off x="4350960" y="3565080"/>
              <a:ext cx="455760" cy="477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98" name=""/>
          <p:cNvGrpSpPr/>
          <p:nvPr/>
        </p:nvGrpSpPr>
        <p:grpSpPr>
          <a:xfrm>
            <a:off x="1760400" y="3587760"/>
            <a:ext cx="2606760" cy="2410920"/>
            <a:chOff x="1760400" y="3587760"/>
            <a:chExt cx="2606760" cy="2410920"/>
          </a:xfrm>
        </p:grpSpPr>
        <p:sp>
          <p:nvSpPr>
            <p:cNvPr id="599" name=""/>
            <p:cNvSpPr/>
            <p:nvPr/>
          </p:nvSpPr>
          <p:spPr>
            <a:xfrm>
              <a:off x="3814920" y="3587760"/>
              <a:ext cx="0" cy="2381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1762200" y="3587760"/>
              <a:ext cx="2557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4319640" y="3589200"/>
              <a:ext cx="0" cy="2355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2797200" y="3587760"/>
              <a:ext cx="0" cy="2381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2286000" y="3617640"/>
              <a:ext cx="0" cy="2381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774800" y="3595320"/>
              <a:ext cx="0" cy="2381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1773360" y="4057560"/>
              <a:ext cx="2557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1809720" y="5010120"/>
              <a:ext cx="2557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803600" y="5479920"/>
              <a:ext cx="2557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1760400" y="5949720"/>
              <a:ext cx="2557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1768680" y="4527360"/>
              <a:ext cx="2557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3292560" y="3587760"/>
              <a:ext cx="0" cy="2381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11" name=""/>
          <p:cNvSpPr/>
          <p:nvPr/>
        </p:nvSpPr>
        <p:spPr>
          <a:xfrm>
            <a:off x="1041120" y="459900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Arial"/>
                <a:ea typeface="굴림"/>
              </a:rPr>
              <a:t>97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041120" y="51004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Arial"/>
                <a:ea typeface="굴림"/>
              </a:rPr>
              <a:t>98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1041120" y="553716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Arial"/>
                <a:ea typeface="굴림"/>
              </a:rPr>
              <a:t>99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941760" y="2803680"/>
            <a:ext cx="128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Groceri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261720" y="3328920"/>
            <a:ext cx="111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Cloth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535680" y="3067200"/>
            <a:ext cx="142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Applian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574280" y="614844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Sa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2162520" y="61484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Cos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2692800" y="614844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Uni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1041120" y="41068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Arial"/>
                <a:ea typeface="굴림"/>
              </a:rPr>
              <a:t>9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1041120" y="363060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Arial"/>
                <a:ea typeface="굴림"/>
              </a:rPr>
              <a:t>9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82680" y="227160"/>
            <a:ext cx="7110360" cy="238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99"/>
                </a:solidFill>
                <a:latin typeface="Arial"/>
                <a:ea typeface="굴림"/>
              </a:rPr>
              <a:t>With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member Measures.Growth</a:t>
            </a:r>
            <a:r>
              <a:rPr b="0" lang="en-US" sz="2000" spc="-1" strike="noStrike">
                <a:solidFill>
                  <a:srgbClr val="ffcc99"/>
                </a:solidFill>
                <a:latin typeface="Arial"/>
                <a:ea typeface="굴림"/>
              </a:rPr>
              <a:t> as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‘(</a:t>
            </a:r>
            <a:r>
              <a:rPr b="0" lang="en-US" sz="2000" spc="-1" strike="noStrike">
                <a:solidFill>
                  <a:srgbClr val="f66a24"/>
                </a:solidFill>
                <a:latin typeface="Arial"/>
                <a:ea typeface="굴림"/>
              </a:rPr>
              <a:t>Time.currentmembe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,Measures.Sales)- (</a:t>
            </a:r>
            <a:r>
              <a:rPr b="0" lang="en-US" sz="2000" spc="-1" strike="noStrike">
                <a:solidFill>
                  <a:srgbClr val="22d62f"/>
                </a:solidFill>
                <a:latin typeface="Arial"/>
                <a:ea typeface="굴림"/>
              </a:rPr>
              <a:t>Time.currentmember.prevmembe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,Measures.Sales)’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99"/>
                </a:solidFill>
                <a:latin typeface="Arial"/>
                <a:ea typeface="굴림"/>
              </a:rPr>
              <a:t>	</a:t>
            </a:r>
            <a:r>
              <a:rPr b="0" lang="en-US" sz="1800" spc="-1" strike="noStrike">
                <a:solidFill>
                  <a:srgbClr val="ffcc99"/>
                </a:solidFill>
                <a:latin typeface="Arial"/>
                <a:ea typeface="굴림"/>
              </a:rPr>
              <a:t>Selec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Time.year.members on </a:t>
            </a:r>
            <a:r>
              <a:rPr b="0" lang="en-US" sz="1800" spc="-1" strike="noStrike">
                <a:solidFill>
                  <a:srgbClr val="ffcc99"/>
                </a:solidFill>
                <a:latin typeface="Arial"/>
                <a:ea typeface="굴림"/>
              </a:rPr>
              <a:t>Row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AddCalculatedMembers(Measures.members) on </a:t>
            </a:r>
            <a:r>
              <a:rPr b="0" lang="en-US" sz="1800" spc="-1" strike="noStrike">
                <a:solidFill>
                  <a:srgbClr val="ffcc99"/>
                </a:solidFill>
                <a:latin typeface="Arial"/>
                <a:ea typeface="굴림"/>
              </a:rPr>
              <a:t>Column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Product.[Product Department].members on Pag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99"/>
                </a:solidFill>
                <a:latin typeface="Arial"/>
                <a:ea typeface="굴림"/>
              </a:rPr>
              <a:t>	</a:t>
            </a:r>
            <a:r>
              <a:rPr b="0" lang="en-US" sz="1800" spc="-1" strike="noStrike">
                <a:solidFill>
                  <a:srgbClr val="ffcc99"/>
                </a:solidFill>
                <a:latin typeface="Arial"/>
                <a:ea typeface="굴림"/>
              </a:rPr>
              <a:t>Fro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 Sa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249720" y="612612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Growth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884760" y="3171960"/>
            <a:ext cx="3168720" cy="2122200"/>
            <a:chOff x="3884760" y="3171960"/>
            <a:chExt cx="3168720" cy="2122200"/>
          </a:xfrm>
        </p:grpSpPr>
        <p:sp>
          <p:nvSpPr>
            <p:cNvPr id="625" name=""/>
            <p:cNvSpPr/>
            <p:nvPr/>
          </p:nvSpPr>
          <p:spPr>
            <a:xfrm>
              <a:off x="3884760" y="5294160"/>
              <a:ext cx="91764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head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737320" y="3171960"/>
              <a:ext cx="1316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굴림"/>
                </a:rPr>
                <a:t>Time.98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5737320" y="4579920"/>
              <a:ext cx="1316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굴림"/>
                </a:rPr>
                <a:t>Time.97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28" name=""/>
          <p:cNvSpPr/>
          <p:nvPr/>
        </p:nvSpPr>
        <p:spPr>
          <a:xfrm>
            <a:off x="3290400" y="3649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cc99"/>
                </a:solidFill>
                <a:latin typeface="Arial"/>
                <a:ea typeface="굴림"/>
              </a:rPr>
              <a:t>1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3360600" y="41371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cc99"/>
                </a:solidFill>
                <a:latin typeface="Arial"/>
                <a:ea typeface="굴림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3362040" y="46069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cc99"/>
                </a:solidFill>
                <a:latin typeface="Arial"/>
                <a:ea typeface="굴림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3362040" y="50212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cc99"/>
                </a:solidFill>
                <a:latin typeface="Arial"/>
                <a:ea typeface="굴림"/>
              </a:rPr>
              <a:t>7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5151960" y="2787480"/>
            <a:ext cx="26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66a24"/>
                </a:solidFill>
                <a:uFillTx/>
                <a:latin typeface="Arial"/>
                <a:ea typeface="굴림"/>
              </a:rPr>
              <a:t>Time.CurrentMemb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4847400" y="4222800"/>
            <a:ext cx="412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22d62f"/>
                </a:solidFill>
                <a:uFillTx/>
                <a:latin typeface="Arial"/>
                <a:ea typeface="굴림"/>
              </a:rPr>
              <a:t>Time.CurrentMember.PrevMemb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34" name=""/>
          <p:cNvGrpSpPr/>
          <p:nvPr/>
        </p:nvGrpSpPr>
        <p:grpSpPr>
          <a:xfrm>
            <a:off x="1837800" y="3624120"/>
            <a:ext cx="1324440" cy="2300760"/>
            <a:chOff x="1837800" y="3624120"/>
            <a:chExt cx="1324440" cy="2300760"/>
          </a:xfrm>
        </p:grpSpPr>
        <p:sp>
          <p:nvSpPr>
            <p:cNvPr id="635" name=""/>
            <p:cNvSpPr/>
            <p:nvPr/>
          </p:nvSpPr>
          <p:spPr>
            <a:xfrm>
              <a:off x="1837800" y="363060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cc99"/>
                  </a:solidFill>
                  <a:latin typeface="Arial"/>
                  <a:ea typeface="굴림"/>
                </a:rPr>
                <a:t>15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352240" y="362412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5da1b9"/>
                  </a:solidFill>
                  <a:latin typeface="Arial"/>
                  <a:ea typeface="굴림"/>
                </a:rPr>
                <a:t>13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2839680" y="365256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5da1b9"/>
                  </a:solidFill>
                  <a:latin typeface="Arial"/>
                  <a:ea typeface="굴림"/>
                </a:rPr>
                <a:t>5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839600" y="408276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cc99"/>
                  </a:solidFill>
                  <a:latin typeface="Arial"/>
                  <a:ea typeface="굴림"/>
                </a:rPr>
                <a:t>17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2352240" y="407664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5da1b9"/>
                  </a:solidFill>
                  <a:latin typeface="Arial"/>
                  <a:ea typeface="굴림"/>
                </a:rPr>
                <a:t>13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2839680" y="410508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5da1b9"/>
                  </a:solidFill>
                  <a:latin typeface="Arial"/>
                  <a:ea typeface="굴림"/>
                </a:rPr>
                <a:t>6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837800" y="457488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cc99"/>
                  </a:solidFill>
                  <a:latin typeface="Arial"/>
                  <a:ea typeface="굴림"/>
                </a:rPr>
                <a:t>22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352240" y="456876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5da1b9"/>
                  </a:solidFill>
                  <a:latin typeface="Arial"/>
                  <a:ea typeface="굴림"/>
                </a:rPr>
                <a:t>11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2839680" y="461628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5da1b9"/>
                  </a:solidFill>
                  <a:latin typeface="Arial"/>
                  <a:ea typeface="굴림"/>
                </a:rPr>
                <a:t>7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1839600" y="502740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cc99"/>
                  </a:solidFill>
                  <a:latin typeface="Arial"/>
                  <a:ea typeface="굴림"/>
                </a:rPr>
                <a:t>29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2493720" y="502092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5da1b9"/>
                  </a:solidFill>
                  <a:latin typeface="Arial"/>
                  <a:ea typeface="굴림"/>
                </a:rPr>
                <a:t>9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2839680" y="504972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5da1b9"/>
                  </a:solidFill>
                  <a:latin typeface="Arial"/>
                  <a:ea typeface="굴림"/>
                </a:rPr>
                <a:t>9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837800" y="550368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cc99"/>
                  </a:solidFill>
                  <a:latin typeface="Arial"/>
                  <a:ea typeface="굴림"/>
                </a:rPr>
                <a:t>3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2352240" y="549720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5da1b9"/>
                  </a:solidFill>
                  <a:latin typeface="Arial"/>
                  <a:ea typeface="굴림"/>
                </a:rPr>
                <a:t>1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2839680" y="552600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5da1b9"/>
                  </a:solidFill>
                  <a:latin typeface="Arial"/>
                  <a:ea typeface="굴림"/>
                </a:rPr>
                <a:t>8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6251040" y="226800"/>
            <a:ext cx="2722680" cy="1409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a304"/>
                </a:solidFill>
                <a:latin typeface="Arial"/>
                <a:ea typeface="굴림"/>
              </a:rPr>
              <a:t>Sales Growth</a:t>
            </a:r>
            <a:endParaRPr b="1" lang="en-US" sz="4800" spc="-1" strike="noStrike">
              <a:solidFill>
                <a:srgbClr val="fca304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"/>
          <p:cNvSpPr/>
          <p:nvPr/>
        </p:nvSpPr>
        <p:spPr>
          <a:xfrm>
            <a:off x="3301920" y="5491080"/>
            <a:ext cx="507960" cy="457200"/>
          </a:xfrm>
          <a:prstGeom prst="rect">
            <a:avLst/>
          </a:prstGeom>
          <a:solidFill>
            <a:srgbClr val="fb796b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52" name=""/>
          <p:cNvGrpSpPr/>
          <p:nvPr/>
        </p:nvGrpSpPr>
        <p:grpSpPr>
          <a:xfrm>
            <a:off x="1770120" y="3095640"/>
            <a:ext cx="3017880" cy="502920"/>
            <a:chOff x="1770120" y="3095640"/>
            <a:chExt cx="3017880" cy="502920"/>
          </a:xfrm>
        </p:grpSpPr>
        <p:sp>
          <p:nvSpPr>
            <p:cNvPr id="653" name=""/>
            <p:cNvSpPr/>
            <p:nvPr/>
          </p:nvSpPr>
          <p:spPr>
            <a:xfrm>
              <a:off x="2076480" y="3284640"/>
              <a:ext cx="2533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 flipV="1">
              <a:off x="1770120" y="3108240"/>
              <a:ext cx="455400" cy="477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228760" y="3119760"/>
              <a:ext cx="2559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1923840" y="3424320"/>
              <a:ext cx="2546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 flipV="1">
              <a:off x="4322880" y="3120840"/>
              <a:ext cx="455400" cy="477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V="1">
              <a:off x="3306600" y="3095640"/>
              <a:ext cx="455760" cy="47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V="1">
              <a:off x="2811600" y="3095640"/>
              <a:ext cx="455400" cy="47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V="1">
              <a:off x="2290680" y="3108240"/>
              <a:ext cx="455760" cy="477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 flipV="1">
              <a:off x="3827520" y="3095640"/>
              <a:ext cx="455400" cy="47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62" name=""/>
          <p:cNvGrpSpPr/>
          <p:nvPr/>
        </p:nvGrpSpPr>
        <p:grpSpPr>
          <a:xfrm>
            <a:off x="4322880" y="3119400"/>
            <a:ext cx="480960" cy="2828880"/>
            <a:chOff x="4322880" y="3119400"/>
            <a:chExt cx="480960" cy="2828880"/>
          </a:xfrm>
        </p:grpSpPr>
        <p:sp>
          <p:nvSpPr>
            <p:cNvPr id="663" name=""/>
            <p:cNvSpPr/>
            <p:nvPr/>
          </p:nvSpPr>
          <p:spPr>
            <a:xfrm>
              <a:off x="4481640" y="3436920"/>
              <a:ext cx="0" cy="235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608360" y="3284280"/>
              <a:ext cx="0" cy="235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773600" y="3119400"/>
              <a:ext cx="0" cy="235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V="1">
              <a:off x="4322880" y="5470200"/>
              <a:ext cx="455400" cy="47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 flipV="1">
              <a:off x="4335480" y="4034880"/>
              <a:ext cx="455400" cy="477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 flipV="1">
              <a:off x="4335480" y="4530240"/>
              <a:ext cx="455400" cy="477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 flipV="1">
              <a:off x="4348080" y="4962240"/>
              <a:ext cx="455760" cy="47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 flipV="1">
              <a:off x="4348080" y="3565080"/>
              <a:ext cx="455760" cy="477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71" name=""/>
          <p:cNvGrpSpPr/>
          <p:nvPr/>
        </p:nvGrpSpPr>
        <p:grpSpPr>
          <a:xfrm>
            <a:off x="1757520" y="3587760"/>
            <a:ext cx="2606040" cy="2410920"/>
            <a:chOff x="1757520" y="3587760"/>
            <a:chExt cx="2606040" cy="2410920"/>
          </a:xfrm>
        </p:grpSpPr>
        <p:sp>
          <p:nvSpPr>
            <p:cNvPr id="672" name=""/>
            <p:cNvSpPr/>
            <p:nvPr/>
          </p:nvSpPr>
          <p:spPr>
            <a:xfrm>
              <a:off x="3811680" y="3587760"/>
              <a:ext cx="0" cy="2381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1758960" y="3587760"/>
              <a:ext cx="25570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4316400" y="3589200"/>
              <a:ext cx="0" cy="2355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2793960" y="3587760"/>
              <a:ext cx="0" cy="2381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2282760" y="3617640"/>
              <a:ext cx="0" cy="2381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1771560" y="3595320"/>
              <a:ext cx="0" cy="2381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1770120" y="4057560"/>
              <a:ext cx="25570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1806480" y="5010120"/>
              <a:ext cx="25570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1800360" y="5479920"/>
              <a:ext cx="25570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1757520" y="5949720"/>
              <a:ext cx="2557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765440" y="4527360"/>
              <a:ext cx="25570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3289320" y="3587760"/>
              <a:ext cx="0" cy="2381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84" name=""/>
          <p:cNvSpPr/>
          <p:nvPr/>
        </p:nvSpPr>
        <p:spPr>
          <a:xfrm>
            <a:off x="1037880" y="459900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Arial"/>
                <a:ea typeface="굴림"/>
              </a:rPr>
              <a:t>97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1037880" y="51004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Arial"/>
                <a:ea typeface="굴림"/>
              </a:rPr>
              <a:t>98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1037880" y="553716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Arial"/>
                <a:ea typeface="굴림"/>
              </a:rPr>
              <a:t>99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938520" y="2803680"/>
            <a:ext cx="128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Groceri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272880" y="3328920"/>
            <a:ext cx="111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Cloth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532440" y="3067200"/>
            <a:ext cx="142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Applian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1571040" y="614844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Sa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2159280" y="61484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Cos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2689920" y="614844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Uni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1037880" y="41068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Arial"/>
                <a:ea typeface="굴림"/>
              </a:rPr>
              <a:t>9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1037880" y="363060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Arial"/>
                <a:ea typeface="굴림"/>
              </a:rPr>
              <a:t>9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382680" y="227160"/>
            <a:ext cx="7068960" cy="238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99"/>
                </a:solidFill>
                <a:latin typeface="Arial"/>
                <a:ea typeface="굴림"/>
              </a:rPr>
              <a:t>With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member Measures.Growth</a:t>
            </a:r>
            <a:r>
              <a:rPr b="0" lang="en-US" sz="2000" spc="-1" strike="noStrike">
                <a:solidFill>
                  <a:srgbClr val="ffcc99"/>
                </a:solidFill>
                <a:latin typeface="Arial"/>
                <a:ea typeface="굴림"/>
              </a:rPr>
              <a:t> as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‘(</a:t>
            </a:r>
            <a:r>
              <a:rPr b="0" lang="en-US" sz="2000" spc="-1" strike="noStrike">
                <a:solidFill>
                  <a:srgbClr val="f66a24"/>
                </a:solidFill>
                <a:latin typeface="Arial"/>
                <a:ea typeface="굴림"/>
              </a:rPr>
              <a:t>Time.currentmembe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,Measures.Sales)- (</a:t>
            </a:r>
            <a:r>
              <a:rPr b="0" lang="en-US" sz="2000" spc="-1" strike="noStrike">
                <a:solidFill>
                  <a:srgbClr val="22d62f"/>
                </a:solidFill>
                <a:latin typeface="Arial"/>
                <a:ea typeface="굴림"/>
              </a:rPr>
              <a:t>Time.currentmember.prevmembe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,Measures.Sales)’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99"/>
                </a:solidFill>
                <a:latin typeface="Arial"/>
                <a:ea typeface="굴림"/>
              </a:rPr>
              <a:t>	</a:t>
            </a:r>
            <a:r>
              <a:rPr b="0" lang="en-US" sz="1800" spc="-1" strike="noStrike">
                <a:solidFill>
                  <a:srgbClr val="ffcc99"/>
                </a:solidFill>
                <a:latin typeface="Arial"/>
                <a:ea typeface="굴림"/>
              </a:rPr>
              <a:t>Selec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Time.year.members on </a:t>
            </a:r>
            <a:r>
              <a:rPr b="0" lang="en-US" sz="1800" spc="-1" strike="noStrike">
                <a:solidFill>
                  <a:srgbClr val="ffcc99"/>
                </a:solidFill>
                <a:latin typeface="Arial"/>
                <a:ea typeface="굴림"/>
              </a:rPr>
              <a:t>Row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AddCalculatedMembers(Measures.members) on </a:t>
            </a:r>
            <a:r>
              <a:rPr b="0" lang="en-US" sz="1800" spc="-1" strike="noStrike">
                <a:solidFill>
                  <a:srgbClr val="ffcc99"/>
                </a:solidFill>
                <a:latin typeface="Arial"/>
                <a:ea typeface="굴림"/>
              </a:rPr>
              <a:t>Column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Product.[Product Department].members on Pag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99"/>
                </a:solidFill>
                <a:latin typeface="Arial"/>
                <a:ea typeface="굴림"/>
              </a:rPr>
              <a:t>	</a:t>
            </a:r>
            <a:r>
              <a:rPr b="0" lang="en-US" sz="1800" spc="-1" strike="noStrike">
                <a:solidFill>
                  <a:srgbClr val="ffcc99"/>
                </a:solidFill>
                <a:latin typeface="Arial"/>
                <a:ea typeface="굴림"/>
              </a:rPr>
              <a:t>Fro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 Sa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3246480" y="612612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Growth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97" name=""/>
          <p:cNvGrpSpPr/>
          <p:nvPr/>
        </p:nvGrpSpPr>
        <p:grpSpPr>
          <a:xfrm>
            <a:off x="3884760" y="3171960"/>
            <a:ext cx="3168720" cy="2541600"/>
            <a:chOff x="3884760" y="3171960"/>
            <a:chExt cx="3168720" cy="2541600"/>
          </a:xfrm>
        </p:grpSpPr>
        <p:sp>
          <p:nvSpPr>
            <p:cNvPr id="698" name=""/>
            <p:cNvSpPr/>
            <p:nvPr/>
          </p:nvSpPr>
          <p:spPr>
            <a:xfrm>
              <a:off x="3884760" y="5713560"/>
              <a:ext cx="91764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head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5737320" y="3171960"/>
              <a:ext cx="1316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굴림"/>
                </a:rPr>
                <a:t>Time.99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5737320" y="4580280"/>
              <a:ext cx="1316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굴림"/>
                </a:rPr>
                <a:t>Time.98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01" name=""/>
          <p:cNvSpPr/>
          <p:nvPr/>
        </p:nvSpPr>
        <p:spPr>
          <a:xfrm>
            <a:off x="3287520" y="3649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cc99"/>
                </a:solidFill>
                <a:latin typeface="Arial"/>
                <a:ea typeface="굴림"/>
              </a:rPr>
              <a:t>1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3357360" y="41371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cc99"/>
                </a:solidFill>
                <a:latin typeface="Arial"/>
                <a:ea typeface="굴림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3359160" y="46069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cc99"/>
                </a:solidFill>
                <a:latin typeface="Arial"/>
                <a:ea typeface="굴림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3359160" y="50212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cc99"/>
                </a:solidFill>
                <a:latin typeface="Arial"/>
                <a:ea typeface="굴림"/>
              </a:rPr>
              <a:t>7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3359160" y="54878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cc99"/>
                </a:solidFill>
                <a:latin typeface="Arial"/>
                <a:ea typeface="굴림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5151960" y="2787480"/>
            <a:ext cx="26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66a24"/>
                </a:solidFill>
                <a:uFillTx/>
                <a:latin typeface="Arial"/>
                <a:ea typeface="굴림"/>
              </a:rPr>
              <a:t>Time.CurrentMemb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4847400" y="4222800"/>
            <a:ext cx="412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22d62f"/>
                </a:solidFill>
                <a:uFillTx/>
                <a:latin typeface="Arial"/>
                <a:ea typeface="굴림"/>
              </a:rPr>
              <a:t>Time.CurrentMember.PrevMemb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08" name=""/>
          <p:cNvGrpSpPr/>
          <p:nvPr/>
        </p:nvGrpSpPr>
        <p:grpSpPr>
          <a:xfrm>
            <a:off x="1834560" y="3624120"/>
            <a:ext cx="1324440" cy="2300760"/>
            <a:chOff x="1834560" y="3624120"/>
            <a:chExt cx="1324440" cy="2300760"/>
          </a:xfrm>
        </p:grpSpPr>
        <p:sp>
          <p:nvSpPr>
            <p:cNvPr id="709" name=""/>
            <p:cNvSpPr/>
            <p:nvPr/>
          </p:nvSpPr>
          <p:spPr>
            <a:xfrm>
              <a:off x="1834560" y="363060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cc99"/>
                  </a:solidFill>
                  <a:latin typeface="Arial"/>
                  <a:ea typeface="굴림"/>
                </a:rPr>
                <a:t>15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2349000" y="362412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5da1b9"/>
                  </a:solidFill>
                  <a:latin typeface="Arial"/>
                  <a:ea typeface="굴림"/>
                </a:rPr>
                <a:t>13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2836440" y="365256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5da1b9"/>
                  </a:solidFill>
                  <a:latin typeface="Arial"/>
                  <a:ea typeface="굴림"/>
                </a:rPr>
                <a:t>5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1836360" y="408276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cc99"/>
                  </a:solidFill>
                  <a:latin typeface="Arial"/>
                  <a:ea typeface="굴림"/>
                </a:rPr>
                <a:t>17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2349000" y="407664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5da1b9"/>
                  </a:solidFill>
                  <a:latin typeface="Arial"/>
                  <a:ea typeface="굴림"/>
                </a:rPr>
                <a:t>13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836440" y="410508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5da1b9"/>
                  </a:solidFill>
                  <a:latin typeface="Arial"/>
                  <a:ea typeface="굴림"/>
                </a:rPr>
                <a:t>6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1834560" y="457488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cc99"/>
                  </a:solidFill>
                  <a:latin typeface="Arial"/>
                  <a:ea typeface="굴림"/>
                </a:rPr>
                <a:t>22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2349000" y="456876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5da1b9"/>
                  </a:solidFill>
                  <a:latin typeface="Arial"/>
                  <a:ea typeface="굴림"/>
                </a:rPr>
                <a:t>11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2836440" y="461628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5da1b9"/>
                  </a:solidFill>
                  <a:latin typeface="Arial"/>
                  <a:ea typeface="굴림"/>
                </a:rPr>
                <a:t>7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1836360" y="502740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cc99"/>
                  </a:solidFill>
                  <a:latin typeface="Arial"/>
                  <a:ea typeface="굴림"/>
                </a:rPr>
                <a:t>29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2490480" y="502092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5da1b9"/>
                  </a:solidFill>
                  <a:latin typeface="Arial"/>
                  <a:ea typeface="굴림"/>
                </a:rPr>
                <a:t>9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2836440" y="504972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5da1b9"/>
                  </a:solidFill>
                  <a:latin typeface="Arial"/>
                  <a:ea typeface="굴림"/>
                </a:rPr>
                <a:t>9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1834560" y="550368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cc99"/>
                  </a:solidFill>
                  <a:latin typeface="Arial"/>
                  <a:ea typeface="굴림"/>
                </a:rPr>
                <a:t>3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2349000" y="549720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5da1b9"/>
                  </a:solidFill>
                  <a:latin typeface="Arial"/>
                  <a:ea typeface="굴림"/>
                </a:rPr>
                <a:t>1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836440" y="552600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5da1b9"/>
                  </a:solidFill>
                  <a:latin typeface="Arial"/>
                  <a:ea typeface="굴림"/>
                </a:rPr>
                <a:t>8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6319440" y="226800"/>
            <a:ext cx="2654280" cy="1409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a304"/>
                </a:solidFill>
                <a:latin typeface="Arial"/>
                <a:ea typeface="굴림"/>
              </a:rPr>
              <a:t>Sales Growth</a:t>
            </a:r>
            <a:endParaRPr b="1" lang="en-US" sz="4800" spc="-1" strike="noStrike">
              <a:solidFill>
                <a:srgbClr val="fca304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387360" y="228600"/>
            <a:ext cx="7562880" cy="1409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a304"/>
                </a:solidFill>
                <a:latin typeface="Arial"/>
                <a:ea typeface="굴림"/>
              </a:rPr>
              <a:t>GetCellValue(CurrentCell)</a:t>
            </a:r>
            <a:endParaRPr b="1" lang="en-US" sz="4800" spc="-1" strike="noStrike">
              <a:solidFill>
                <a:srgbClr val="fca304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704880" y="3414600"/>
            <a:ext cx="4664160" cy="3114720"/>
          </a:xfrm>
          <a:prstGeom prst="rect">
            <a:avLst/>
          </a:prstGeom>
          <a:solidFill>
            <a:srgbClr val="fb796b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굴림"/>
              </a:rPr>
              <a:t>Push CurrentCel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굴림"/>
              </a:rPr>
              <a:t>CurrentCell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굴림"/>
              </a:rPr>
              <a:t>Measure = Sa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굴림"/>
              </a:rPr>
              <a:t>L = GetCellValue(CurrentCell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굴림"/>
              </a:rPr>
              <a:t>PopPush CurrentCel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굴림"/>
              </a:rPr>
              <a:t>CurrentCell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굴림"/>
              </a:rPr>
              <a:t> Measure = Sa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굴림"/>
              </a:rPr>
              <a:t>CurrentCell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굴림"/>
              </a:rPr>
              <a:t> Time =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굴림"/>
              </a:rPr>
              <a:t>    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굴림"/>
              </a:rPr>
              <a:t>CurrentCell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굴림"/>
              </a:rPr>
              <a:t> Time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굴림"/>
              </a:rPr>
              <a:t> Prevmemb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굴림"/>
              </a:rPr>
              <a:t>R = GetCellValue(CurrentCell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굴림"/>
              </a:rPr>
              <a:t>Pop CurrentCel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굴림"/>
              </a:rPr>
              <a:t>Result = L - 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5800680" y="3017880"/>
            <a:ext cx="3179880" cy="341280"/>
          </a:xfrm>
          <a:prstGeom prst="rect">
            <a:avLst/>
          </a:prstGeom>
          <a:solidFill>
            <a:srgbClr val="00e9e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Times New Roman"/>
                <a:ea typeface="굴림"/>
              </a:rPr>
              <a:t>(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굴림"/>
              </a:rPr>
              <a:t>Growth, 98, Clothing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5800680" y="1546200"/>
            <a:ext cx="3178080" cy="341280"/>
          </a:xfrm>
          <a:prstGeom prst="rect">
            <a:avLst/>
          </a:prstGeom>
          <a:solidFill>
            <a:srgbClr val="00e9e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Times New Roman"/>
                <a:ea typeface="굴림"/>
              </a:rPr>
              <a:t>(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굴림"/>
              </a:rPr>
              <a:t>Growth, 98, Clothing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179280" y="1571760"/>
            <a:ext cx="3246480" cy="380880"/>
          </a:xfrm>
          <a:prstGeom prst="rect">
            <a:avLst/>
          </a:prstGeom>
          <a:solidFill>
            <a:srgbClr val="fb796b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굴림"/>
              </a:rPr>
              <a:t>GetCellValue(CurrentCell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30" name=""/>
          <p:cNvGrpSpPr/>
          <p:nvPr/>
        </p:nvGrpSpPr>
        <p:grpSpPr>
          <a:xfrm>
            <a:off x="166680" y="1978200"/>
            <a:ext cx="3340080" cy="833400"/>
            <a:chOff x="166680" y="1978200"/>
            <a:chExt cx="3340080" cy="833400"/>
          </a:xfrm>
        </p:grpSpPr>
        <p:sp>
          <p:nvSpPr>
            <p:cNvPr id="731" name=""/>
            <p:cNvSpPr/>
            <p:nvPr/>
          </p:nvSpPr>
          <p:spPr>
            <a:xfrm>
              <a:off x="287280" y="2389320"/>
              <a:ext cx="3219480" cy="422280"/>
            </a:xfrm>
            <a:prstGeom prst="rect">
              <a:avLst/>
            </a:prstGeom>
            <a:solidFill>
              <a:srgbClr val="fb796b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166680" y="2266920"/>
              <a:ext cx="3246480" cy="436680"/>
            </a:xfrm>
            <a:prstGeom prst="rect">
              <a:avLst/>
            </a:prstGeom>
            <a:solidFill>
              <a:srgbClr val="fb796b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  <a:ea typeface="굴림"/>
                </a:rPr>
                <a:t>Member 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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  <a:ea typeface="굴림"/>
                </a:rPr>
                <a:t> Formula?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1787400" y="1978200"/>
              <a:ext cx="0" cy="287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34" name=""/>
          <p:cNvGrpSpPr/>
          <p:nvPr/>
        </p:nvGrpSpPr>
        <p:grpSpPr>
          <a:xfrm>
            <a:off x="3535200" y="2198520"/>
            <a:ext cx="1674720" cy="312840"/>
            <a:chOff x="3535200" y="2198520"/>
            <a:chExt cx="1674720" cy="312840"/>
          </a:xfrm>
        </p:grpSpPr>
        <p:sp>
          <p:nvSpPr>
            <p:cNvPr id="735" name=""/>
            <p:cNvSpPr/>
            <p:nvPr/>
          </p:nvSpPr>
          <p:spPr>
            <a:xfrm>
              <a:off x="3535200" y="2511360"/>
              <a:ext cx="16113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3811680" y="2198520"/>
              <a:ext cx="1398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  <a:ea typeface="굴림"/>
                </a:rPr>
                <a:t>No: Return Cell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37" name=""/>
          <p:cNvGrpSpPr/>
          <p:nvPr/>
        </p:nvGrpSpPr>
        <p:grpSpPr>
          <a:xfrm>
            <a:off x="395280" y="2825640"/>
            <a:ext cx="4971960" cy="574920"/>
            <a:chOff x="395280" y="2825640"/>
            <a:chExt cx="4971960" cy="574920"/>
          </a:xfrm>
        </p:grpSpPr>
        <p:sp>
          <p:nvSpPr>
            <p:cNvPr id="738" name=""/>
            <p:cNvSpPr/>
            <p:nvPr/>
          </p:nvSpPr>
          <p:spPr>
            <a:xfrm>
              <a:off x="701640" y="3032280"/>
              <a:ext cx="4665600" cy="368280"/>
            </a:xfrm>
            <a:prstGeom prst="rect">
              <a:avLst/>
            </a:prstGeom>
            <a:solidFill>
              <a:srgbClr val="fb796b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  <a:ea typeface="굴림"/>
                </a:rPr>
                <a:t>Member 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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  <a:ea typeface="굴림"/>
                </a:rPr>
                <a:t> Calculate(CurrentCell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39" name=""/>
            <p:cNvGrpSpPr/>
            <p:nvPr/>
          </p:nvGrpSpPr>
          <p:grpSpPr>
            <a:xfrm>
              <a:off x="395280" y="2825640"/>
              <a:ext cx="299880" cy="395280"/>
              <a:chOff x="395280" y="2825640"/>
              <a:chExt cx="299880" cy="395280"/>
            </a:xfrm>
          </p:grpSpPr>
          <p:sp>
            <p:nvSpPr>
              <p:cNvPr id="740" name=""/>
              <p:cNvSpPr/>
              <p:nvPr/>
            </p:nvSpPr>
            <p:spPr>
              <a:xfrm>
                <a:off x="395280" y="2825640"/>
                <a:ext cx="0" cy="3952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395280" y="3220920"/>
                <a:ext cx="299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42" name=""/>
          <p:cNvSpPr/>
          <p:nvPr/>
        </p:nvSpPr>
        <p:spPr>
          <a:xfrm>
            <a:off x="5800680" y="3444840"/>
            <a:ext cx="3179880" cy="341280"/>
          </a:xfrm>
          <a:prstGeom prst="rect">
            <a:avLst/>
          </a:prstGeom>
          <a:solidFill>
            <a:srgbClr val="00e9e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Times New Roman"/>
                <a:ea typeface="굴림"/>
              </a:rPr>
              <a:t>(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굴림"/>
              </a:rPr>
              <a:t>Growth, 98, Clothing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5800680" y="3747960"/>
            <a:ext cx="3179880" cy="341280"/>
          </a:xfrm>
          <a:prstGeom prst="rect">
            <a:avLst/>
          </a:prstGeom>
          <a:solidFill>
            <a:srgbClr val="00e9e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Times New Roman"/>
                <a:ea typeface="굴림"/>
              </a:rPr>
              <a:t>(</a:t>
            </a:r>
            <a:r>
              <a:rPr b="0" lang="en-US" sz="2000" spc="-1" strike="noStrike">
                <a:solidFill>
                  <a:srgbClr val="fca304"/>
                </a:solidFill>
                <a:latin typeface="Times New Roman"/>
                <a:ea typeface="굴림"/>
              </a:rPr>
              <a:t>Sales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굴림"/>
              </a:rPr>
              <a:t>, 98, Clothing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5800680" y="4348080"/>
            <a:ext cx="3178080" cy="341280"/>
          </a:xfrm>
          <a:prstGeom prst="rect">
            <a:avLst/>
          </a:prstGeom>
          <a:solidFill>
            <a:srgbClr val="00e9e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Times New Roman"/>
                <a:ea typeface="굴림"/>
              </a:rPr>
              <a:t>(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굴림"/>
              </a:rPr>
              <a:t>Growth, 98, Clothing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5800680" y="4622760"/>
            <a:ext cx="3179880" cy="341280"/>
          </a:xfrm>
          <a:prstGeom prst="rect">
            <a:avLst/>
          </a:prstGeom>
          <a:solidFill>
            <a:srgbClr val="00e9e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Times New Roman"/>
                <a:ea typeface="굴림"/>
              </a:rPr>
              <a:t>(</a:t>
            </a:r>
            <a:r>
              <a:rPr b="0" lang="en-US" sz="2000" spc="-1" strike="noStrike">
                <a:solidFill>
                  <a:srgbClr val="fca304"/>
                </a:solidFill>
                <a:latin typeface="Times New Roman"/>
                <a:ea typeface="굴림"/>
              </a:rPr>
              <a:t>Sales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굴림"/>
              </a:rPr>
              <a:t>, 98, Clothing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5800680" y="4938840"/>
            <a:ext cx="3179880" cy="341280"/>
          </a:xfrm>
          <a:prstGeom prst="rect">
            <a:avLst/>
          </a:prstGeom>
          <a:solidFill>
            <a:srgbClr val="00e9e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Times New Roman"/>
                <a:ea typeface="굴림"/>
              </a:rPr>
              <a:t>(</a:t>
            </a:r>
            <a:r>
              <a:rPr b="0" lang="en-US" sz="2000" spc="-1" strike="noStrike">
                <a:solidFill>
                  <a:srgbClr val="fca304"/>
                </a:solidFill>
                <a:latin typeface="Times New Roman"/>
                <a:ea typeface="굴림"/>
              </a:rPr>
              <a:t>Sales, 97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굴림"/>
              </a:rPr>
              <a:t>, Clothing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5800680" y="5838840"/>
            <a:ext cx="3178080" cy="341280"/>
          </a:xfrm>
          <a:prstGeom prst="rect">
            <a:avLst/>
          </a:prstGeom>
          <a:solidFill>
            <a:srgbClr val="00e9e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Times New Roman"/>
                <a:ea typeface="굴림"/>
              </a:rPr>
              <a:t>(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굴림"/>
              </a:rPr>
              <a:t>Growth, 98, Clothing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5800680" y="5483160"/>
            <a:ext cx="3178080" cy="341280"/>
          </a:xfrm>
          <a:prstGeom prst="rect">
            <a:avLst/>
          </a:prstGeom>
          <a:solidFill>
            <a:srgbClr val="fca30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R = Sales in 97 of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Cloth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5800680" y="4011480"/>
            <a:ext cx="3179880" cy="341280"/>
          </a:xfrm>
          <a:prstGeom prst="rect">
            <a:avLst/>
          </a:prstGeom>
          <a:solidFill>
            <a:srgbClr val="fca30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L = Sales in 98 of Cloth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5800680" y="6195960"/>
            <a:ext cx="3179880" cy="341280"/>
          </a:xfrm>
          <a:prstGeom prst="rect">
            <a:avLst/>
          </a:prstGeom>
          <a:solidFill>
            <a:srgbClr val="fca30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=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Growth in 98 of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Cloth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51" name=""/>
          <p:cNvGrpSpPr/>
          <p:nvPr/>
        </p:nvGrpSpPr>
        <p:grpSpPr>
          <a:xfrm>
            <a:off x="3588840" y="1692360"/>
            <a:ext cx="1980000" cy="2525760"/>
            <a:chOff x="3588840" y="1692360"/>
            <a:chExt cx="1980000" cy="2525760"/>
          </a:xfrm>
        </p:grpSpPr>
        <p:sp>
          <p:nvSpPr>
            <p:cNvPr id="752" name=""/>
            <p:cNvSpPr/>
            <p:nvPr/>
          </p:nvSpPr>
          <p:spPr>
            <a:xfrm>
              <a:off x="5349960" y="4216320"/>
              <a:ext cx="21888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 flipV="1">
              <a:off x="5568840" y="1706400"/>
              <a:ext cx="0" cy="2509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 flipH="1">
              <a:off x="3588840" y="1692360"/>
              <a:ext cx="1979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55" name=""/>
          <p:cNvGrpSpPr/>
          <p:nvPr/>
        </p:nvGrpSpPr>
        <p:grpSpPr>
          <a:xfrm>
            <a:off x="3548160" y="1677960"/>
            <a:ext cx="2047680" cy="4081320"/>
            <a:chOff x="3548160" y="1677960"/>
            <a:chExt cx="2047680" cy="4081320"/>
          </a:xfrm>
        </p:grpSpPr>
        <p:sp>
          <p:nvSpPr>
            <p:cNvPr id="756" name=""/>
            <p:cNvSpPr/>
            <p:nvPr/>
          </p:nvSpPr>
          <p:spPr>
            <a:xfrm>
              <a:off x="5349960" y="5759280"/>
              <a:ext cx="245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 flipH="1" flipV="1">
              <a:off x="5581440" y="1692360"/>
              <a:ext cx="14040" cy="405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 flipH="1">
              <a:off x="3548160" y="1677960"/>
              <a:ext cx="2047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59" name=""/>
          <p:cNvSpPr/>
          <p:nvPr/>
        </p:nvSpPr>
        <p:spPr>
          <a:xfrm>
            <a:off x="5186520" y="2359080"/>
            <a:ext cx="3342960" cy="341280"/>
          </a:xfrm>
          <a:prstGeom prst="rect">
            <a:avLst/>
          </a:prstGeom>
          <a:solidFill>
            <a:srgbClr val="00e9e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Times New Roman"/>
                <a:ea typeface="굴림"/>
              </a:rPr>
              <a:t>(</a:t>
            </a:r>
            <a:r>
              <a:rPr b="0" lang="en-US" sz="2000" spc="-1" strike="noStrike">
                <a:solidFill>
                  <a:srgbClr val="fca304"/>
                </a:solidFill>
                <a:latin typeface="Times New Roman"/>
                <a:ea typeface="굴림"/>
              </a:rPr>
              <a:t>Sales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굴림"/>
              </a:rPr>
              <a:t>, 98, Clothing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5194440" y="2327400"/>
            <a:ext cx="3342960" cy="341280"/>
          </a:xfrm>
          <a:prstGeom prst="rect">
            <a:avLst/>
          </a:prstGeom>
          <a:solidFill>
            <a:srgbClr val="00e9e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Times New Roman"/>
                <a:ea typeface="굴림"/>
              </a:rPr>
              <a:t>(</a:t>
            </a:r>
            <a:r>
              <a:rPr b="0" lang="en-US" sz="2000" spc="-1" strike="noStrike">
                <a:solidFill>
                  <a:srgbClr val="fca304"/>
                </a:solidFill>
                <a:latin typeface="Times New Roman"/>
                <a:ea typeface="굴림"/>
              </a:rPr>
              <a:t>Sales, 97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굴림"/>
              </a:rPr>
              <a:t>, Clothing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4444920" y="1035000"/>
            <a:ext cx="4533840" cy="1099800"/>
          </a:xfrm>
          <a:prstGeom prst="rect">
            <a:avLst/>
          </a:prstGeom>
          <a:solidFill>
            <a:srgbClr val="0099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Grow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굴림"/>
              </a:rPr>
              <a:t>: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굴림"/>
              </a:rPr>
              <a:t>(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Sales,Time.CurrentMember) –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(Sales,Time.CurrentMember.PrevMember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6891480" y="4025880"/>
            <a:ext cx="1206360" cy="306360"/>
          </a:xfrm>
          <a:prstGeom prst="rect">
            <a:avLst/>
          </a:prstGeom>
          <a:solidFill>
            <a:srgbClr val="fca30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L=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6891480" y="5484960"/>
            <a:ext cx="1206360" cy="306360"/>
          </a:xfrm>
          <a:prstGeom prst="rect">
            <a:avLst/>
          </a:prstGeom>
          <a:solidFill>
            <a:srgbClr val="fca30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R=2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6723000" y="6146640"/>
            <a:ext cx="1541520" cy="341640"/>
          </a:xfrm>
          <a:prstGeom prst="rect">
            <a:avLst/>
          </a:prstGeom>
          <a:solidFill>
            <a:srgbClr val="fca30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L-R=29-22=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"/>
          <p:cNvSpPr/>
          <p:nvPr/>
        </p:nvSpPr>
        <p:spPr>
          <a:xfrm>
            <a:off x="382680" y="1800360"/>
            <a:ext cx="7203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b7"/>
                </a:solidFill>
                <a:latin typeface="Arial"/>
                <a:ea typeface="굴림"/>
              </a:rPr>
              <a:t>이전 기간 대비 판매의 변화는 </a:t>
            </a:r>
            <a:r>
              <a:rPr b="0" lang="ko-KR" sz="3200" spc="-1" strike="noStrike">
                <a:solidFill>
                  <a:srgbClr val="ffffb7"/>
                </a:solidFill>
                <a:latin typeface="Arial"/>
                <a:ea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b7"/>
                </a:solidFill>
                <a:latin typeface="Arial"/>
                <a:ea typeface="굴림"/>
              </a:rPr>
              <a:t>        </a:t>
            </a:r>
            <a:r>
              <a:rPr b="0" lang="ko-KR" sz="3200" spc="-1" strike="noStrike">
                <a:solidFill>
                  <a:srgbClr val="ffffb7"/>
                </a:solidFill>
                <a:latin typeface="Arial"/>
                <a:ea typeface="굴림"/>
              </a:rPr>
              <a:t>(5</a:t>
            </a:r>
            <a:r>
              <a:rPr b="0" lang="ko-KR" sz="3200" spc="-1" strike="noStrike">
                <a:solidFill>
                  <a:srgbClr val="ffffb7"/>
                </a:solidFill>
                <a:latin typeface="Arial"/>
                <a:ea typeface="굴림"/>
              </a:rPr>
              <a:t>월 대비 </a:t>
            </a:r>
            <a:r>
              <a:rPr b="0" lang="ko-KR" sz="3200" spc="-1" strike="noStrike">
                <a:solidFill>
                  <a:srgbClr val="ffffb7"/>
                </a:solidFill>
                <a:latin typeface="Arial"/>
                <a:ea typeface="굴림"/>
              </a:rPr>
              <a:t>6</a:t>
            </a:r>
            <a:r>
              <a:rPr b="0" lang="ko-KR" sz="3200" spc="-1" strike="noStrike">
                <a:solidFill>
                  <a:srgbClr val="ffffb7"/>
                </a:solidFill>
                <a:latin typeface="Arial"/>
                <a:ea typeface="굴림"/>
              </a:rPr>
              <a:t>월</a:t>
            </a:r>
            <a:r>
              <a:rPr b="0" lang="ko-KR" sz="3200" spc="-1" strike="noStrike">
                <a:solidFill>
                  <a:srgbClr val="ffffb7"/>
                </a:solidFill>
                <a:latin typeface="Arial"/>
                <a:ea typeface="굴림"/>
              </a:rPr>
              <a:t>,</a:t>
            </a:r>
            <a:r>
              <a:rPr b="0" lang="en-US" sz="3200" spc="-1" strike="noStrike">
                <a:solidFill>
                  <a:srgbClr val="ffffb7"/>
                </a:solidFill>
                <a:latin typeface="Arial"/>
                <a:ea typeface="굴림"/>
              </a:rPr>
              <a:t>Q</a:t>
            </a:r>
            <a:r>
              <a:rPr b="0" lang="ko-KR" sz="3200" spc="-1" strike="noStrike">
                <a:solidFill>
                  <a:srgbClr val="ffffb7"/>
                </a:solidFill>
                <a:latin typeface="Arial"/>
                <a:ea typeface="굴림"/>
              </a:rPr>
              <a:t>1 </a:t>
            </a:r>
            <a:r>
              <a:rPr b="0" lang="ko-KR" sz="3200" spc="-1" strike="noStrike">
                <a:solidFill>
                  <a:srgbClr val="ffffb7"/>
                </a:solidFill>
                <a:latin typeface="Arial"/>
                <a:ea typeface="굴림"/>
              </a:rPr>
              <a:t>대비 </a:t>
            </a:r>
            <a:r>
              <a:rPr b="0" lang="en-US" sz="3200" spc="-1" strike="noStrike">
                <a:solidFill>
                  <a:srgbClr val="ffffb7"/>
                </a:solidFill>
                <a:latin typeface="Arial"/>
                <a:ea typeface="굴림"/>
              </a:rPr>
              <a:t>Q</a:t>
            </a:r>
            <a:r>
              <a:rPr b="0" lang="ko-KR" sz="3200" spc="-1" strike="noStrike">
                <a:solidFill>
                  <a:srgbClr val="ffffb7"/>
                </a:solidFill>
                <a:latin typeface="Arial"/>
                <a:ea typeface="굴림"/>
              </a:rPr>
              <a:t>2)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382680" y="3052800"/>
            <a:ext cx="858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b7"/>
                </a:solidFill>
                <a:latin typeface="Arial"/>
                <a:ea typeface="굴림"/>
              </a:rPr>
              <a:t>이전 년도 기간 대비 동기간의 판매의 변화는 </a:t>
            </a:r>
            <a:r>
              <a:rPr b="0" lang="ko-KR" sz="3200" spc="-1" strike="noStrike">
                <a:solidFill>
                  <a:srgbClr val="ffffb7"/>
                </a:solidFill>
                <a:latin typeface="Arial"/>
                <a:ea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b7"/>
                </a:solidFill>
                <a:latin typeface="Arial"/>
                <a:ea typeface="굴림"/>
              </a:rPr>
              <a:t>        </a:t>
            </a:r>
            <a:r>
              <a:rPr b="0" lang="ko-KR" sz="3200" spc="-1" strike="noStrike">
                <a:solidFill>
                  <a:srgbClr val="ffffb7"/>
                </a:solidFill>
                <a:latin typeface="Arial"/>
                <a:ea typeface="굴림"/>
              </a:rPr>
              <a:t>(1998</a:t>
            </a:r>
            <a:r>
              <a:rPr b="0" lang="ko-KR" sz="3200" spc="-1" strike="noStrike">
                <a:solidFill>
                  <a:srgbClr val="ffffb7"/>
                </a:solidFill>
                <a:latin typeface="Arial"/>
                <a:ea typeface="굴림"/>
              </a:rPr>
              <a:t>년 </a:t>
            </a:r>
            <a:r>
              <a:rPr b="0" lang="ko-KR" sz="3200" spc="-1" strike="noStrike">
                <a:solidFill>
                  <a:srgbClr val="ffffb7"/>
                </a:solidFill>
                <a:latin typeface="Arial"/>
                <a:ea typeface="굴림"/>
              </a:rPr>
              <a:t>1</a:t>
            </a:r>
            <a:r>
              <a:rPr b="0" lang="ko-KR" sz="3200" spc="-1" strike="noStrike">
                <a:solidFill>
                  <a:srgbClr val="ffffb7"/>
                </a:solidFill>
                <a:latin typeface="Arial"/>
                <a:ea typeface="굴림"/>
              </a:rPr>
              <a:t>월 대비 </a:t>
            </a:r>
            <a:r>
              <a:rPr b="0" lang="ko-KR" sz="3200" spc="-1" strike="noStrike">
                <a:solidFill>
                  <a:srgbClr val="ffffb7"/>
                </a:solidFill>
                <a:latin typeface="Arial"/>
                <a:ea typeface="굴림"/>
              </a:rPr>
              <a:t>1999</a:t>
            </a:r>
            <a:r>
              <a:rPr b="0" lang="ko-KR" sz="3200" spc="-1" strike="noStrike">
                <a:solidFill>
                  <a:srgbClr val="ffffb7"/>
                </a:solidFill>
                <a:latin typeface="Arial"/>
                <a:ea typeface="굴림"/>
              </a:rPr>
              <a:t>년 </a:t>
            </a:r>
            <a:r>
              <a:rPr b="0" lang="ko-KR" sz="3200" spc="-1" strike="noStrike">
                <a:solidFill>
                  <a:srgbClr val="ffffb7"/>
                </a:solidFill>
                <a:latin typeface="Arial"/>
                <a:ea typeface="굴림"/>
              </a:rPr>
              <a:t>1</a:t>
            </a:r>
            <a:r>
              <a:rPr b="0" lang="ko-KR" sz="3200" spc="-1" strike="noStrike">
                <a:solidFill>
                  <a:srgbClr val="ffffb7"/>
                </a:solidFill>
                <a:latin typeface="Arial"/>
                <a:ea typeface="굴림"/>
              </a:rPr>
              <a:t>월</a:t>
            </a:r>
            <a:r>
              <a:rPr b="0" lang="ko-KR" sz="3200" spc="-1" strike="noStrike">
                <a:solidFill>
                  <a:srgbClr val="ffffb7"/>
                </a:solidFill>
                <a:latin typeface="Arial"/>
                <a:ea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382680" y="4541760"/>
            <a:ext cx="789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b7"/>
                </a:solidFill>
                <a:latin typeface="Arial"/>
                <a:ea typeface="굴림"/>
              </a:rPr>
              <a:t>년 초부터의 누적 판매실적은 </a:t>
            </a:r>
            <a:r>
              <a:rPr b="0" lang="ko-KR" sz="3200" spc="-1" strike="noStrike">
                <a:solidFill>
                  <a:srgbClr val="ffffb7"/>
                </a:solidFill>
                <a:latin typeface="Arial"/>
                <a:ea typeface="굴림"/>
              </a:rPr>
              <a:t>?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5967360" cy="1299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ca304"/>
                </a:solidFill>
                <a:latin typeface="Arial"/>
                <a:ea typeface="굴림"/>
              </a:rPr>
              <a:t>“</a:t>
            </a:r>
            <a:r>
              <a:rPr b="1" lang="en-US" sz="4400" spc="-1" strike="noStrike">
                <a:solidFill>
                  <a:srgbClr val="fca304"/>
                </a:solidFill>
                <a:latin typeface="Arial"/>
                <a:ea typeface="굴림"/>
              </a:rPr>
              <a:t>It’s Just A Question Of Time ….”</a:t>
            </a:r>
            <a:endParaRPr b="1" lang="en-US" sz="4400" spc="-1" strike="noStrike">
              <a:solidFill>
                <a:srgbClr val="fca304"/>
              </a:solidFill>
              <a:latin typeface="Arial"/>
            </a:endParaRPr>
          </a:p>
        </p:txBody>
      </p:sp>
      <p:pic>
        <p:nvPicPr>
          <p:cNvPr id="769" name="TimeSm" descr=""/>
          <p:cNvPicPr/>
          <p:nvPr/>
        </p:nvPicPr>
        <p:blipFill>
          <a:blip r:embed="rId2"/>
          <a:stretch/>
        </p:blipFill>
        <p:spPr>
          <a:xfrm>
            <a:off x="7543800" y="0"/>
            <a:ext cx="1600200" cy="15033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"/>
          <p:cNvSpPr/>
          <p:nvPr/>
        </p:nvSpPr>
        <p:spPr>
          <a:xfrm>
            <a:off x="3581280" y="2892600"/>
            <a:ext cx="1067040" cy="304560"/>
          </a:xfrm>
          <a:prstGeom prst="rect">
            <a:avLst/>
          </a:prstGeom>
          <a:solidFill>
            <a:srgbClr val="fb796b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71" name=""/>
          <p:cNvGraphicFramePr/>
          <p:nvPr/>
        </p:nvGraphicFramePr>
        <p:xfrm>
          <a:off x="609480" y="1444680"/>
          <a:ext cx="10293480" cy="55846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77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1444680"/>
                    <a:ext cx="10293480" cy="558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73" name="TimeSm" descr=""/>
          <p:cNvPicPr/>
          <p:nvPr/>
        </p:nvPicPr>
        <p:blipFill>
          <a:blip r:embed="rId4"/>
          <a:stretch/>
        </p:blipFill>
        <p:spPr>
          <a:xfrm>
            <a:off x="7543800" y="0"/>
            <a:ext cx="1600200" cy="1503360"/>
          </a:xfrm>
          <a:prstGeom prst="rect">
            <a:avLst/>
          </a:prstGeom>
          <a:ln w="0">
            <a:noFill/>
          </a:ln>
        </p:spPr>
      </p:pic>
      <p:sp>
        <p:nvSpPr>
          <p:cNvPr id="774" name=""/>
          <p:cNvSpPr/>
          <p:nvPr/>
        </p:nvSpPr>
        <p:spPr>
          <a:xfrm flipH="1" flipV="1">
            <a:off x="3809160" y="2358360"/>
            <a:ext cx="381240" cy="539640"/>
          </a:xfrm>
          <a:custGeom>
            <a:avLst/>
            <a:gdLst>
              <a:gd name="textAreaLeft" fmla="*/ 51120 w 381240"/>
              <a:gd name="textAreaRight" fmla="*/ 330120 w 381240"/>
              <a:gd name="textAreaTop" fmla="*/ 94320 h 539640"/>
              <a:gd name="textAreaBottom" fmla="*/ 391320 h 53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066711"/>
                <a:lnTo>
                  <a:pt x="11782" y="20774"/>
                </a:lnTo>
                <a:lnTo>
                  <a:pt x="21600" y="17280"/>
                </a:lnTo>
                <a:lnTo>
                  <a:pt x="11782" y="12134"/>
                </a:lnTo>
                <a:lnTo>
                  <a:pt x="11782" y="14294"/>
                </a:lnTo>
                <a:arcTo wR="21600" hR="7560" stAng="8733289" swAng="1709276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b796b"/>
          </a:solidFill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 flipH="1" flipV="1">
            <a:off x="3809160" y="2586960"/>
            <a:ext cx="435240" cy="615960"/>
          </a:xfrm>
          <a:custGeom>
            <a:avLst/>
            <a:gdLst>
              <a:gd name="textAreaLeft" fmla="*/ 58320 w 435240"/>
              <a:gd name="textAreaRight" fmla="*/ 376920 w 435240"/>
              <a:gd name="textAreaTop" fmla="*/ 107280 h 615960"/>
              <a:gd name="textAreaBottom" fmla="*/ 446400 h 615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066711"/>
                <a:lnTo>
                  <a:pt x="11782" y="20774"/>
                </a:lnTo>
                <a:lnTo>
                  <a:pt x="21600" y="17280"/>
                </a:lnTo>
                <a:lnTo>
                  <a:pt x="11782" y="12134"/>
                </a:lnTo>
                <a:lnTo>
                  <a:pt x="11782" y="14294"/>
                </a:lnTo>
                <a:arcTo wR="21600" hR="7560" stAng="8733289" swAng="1709276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b796b"/>
          </a:solidFill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 flipH="1" flipV="1">
            <a:off x="3809160" y="3501360"/>
            <a:ext cx="381240" cy="539640"/>
          </a:xfrm>
          <a:custGeom>
            <a:avLst/>
            <a:gdLst>
              <a:gd name="textAreaLeft" fmla="*/ 51120 w 381240"/>
              <a:gd name="textAreaRight" fmla="*/ 330120 w 381240"/>
              <a:gd name="textAreaTop" fmla="*/ 94320 h 539640"/>
              <a:gd name="textAreaBottom" fmla="*/ 391320 h 53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066711"/>
                <a:lnTo>
                  <a:pt x="11782" y="20774"/>
                </a:lnTo>
                <a:lnTo>
                  <a:pt x="21600" y="17280"/>
                </a:lnTo>
                <a:lnTo>
                  <a:pt x="11782" y="12134"/>
                </a:lnTo>
                <a:lnTo>
                  <a:pt x="11782" y="14294"/>
                </a:lnTo>
                <a:arcTo wR="21600" hR="7560" stAng="8733289" swAng="1709276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b796b"/>
          </a:solidFill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 flipH="1" flipV="1">
            <a:off x="3809160" y="3806280"/>
            <a:ext cx="381240" cy="539640"/>
          </a:xfrm>
          <a:custGeom>
            <a:avLst/>
            <a:gdLst>
              <a:gd name="textAreaLeft" fmla="*/ 51120 w 381240"/>
              <a:gd name="textAreaRight" fmla="*/ 330120 w 381240"/>
              <a:gd name="textAreaTop" fmla="*/ 94320 h 539640"/>
              <a:gd name="textAreaBottom" fmla="*/ 391320 h 53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066711"/>
                <a:lnTo>
                  <a:pt x="11782" y="20774"/>
                </a:lnTo>
                <a:lnTo>
                  <a:pt x="21600" y="17280"/>
                </a:lnTo>
                <a:lnTo>
                  <a:pt x="11782" y="12134"/>
                </a:lnTo>
                <a:lnTo>
                  <a:pt x="11782" y="14294"/>
                </a:lnTo>
                <a:arcTo wR="21600" hR="7560" stAng="8733289" swAng="1709276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b796b"/>
          </a:solidFill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 flipH="1" flipV="1">
            <a:off x="3809160" y="4644360"/>
            <a:ext cx="381240" cy="539640"/>
          </a:xfrm>
          <a:custGeom>
            <a:avLst/>
            <a:gdLst>
              <a:gd name="textAreaLeft" fmla="*/ 51120 w 381240"/>
              <a:gd name="textAreaRight" fmla="*/ 330120 w 381240"/>
              <a:gd name="textAreaTop" fmla="*/ 94320 h 539640"/>
              <a:gd name="textAreaBottom" fmla="*/ 391320 h 53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066711"/>
                <a:lnTo>
                  <a:pt x="11782" y="20774"/>
                </a:lnTo>
                <a:lnTo>
                  <a:pt x="21600" y="17280"/>
                </a:lnTo>
                <a:lnTo>
                  <a:pt x="11782" y="12134"/>
                </a:lnTo>
                <a:lnTo>
                  <a:pt x="11782" y="14294"/>
                </a:lnTo>
                <a:arcTo wR="21600" hR="7560" stAng="8733289" swAng="1709276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b796b"/>
          </a:solidFill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 flipH="1" flipV="1">
            <a:off x="3809160" y="4949280"/>
            <a:ext cx="381240" cy="539640"/>
          </a:xfrm>
          <a:custGeom>
            <a:avLst/>
            <a:gdLst>
              <a:gd name="textAreaLeft" fmla="*/ 51120 w 381240"/>
              <a:gd name="textAreaRight" fmla="*/ 330120 w 381240"/>
              <a:gd name="textAreaTop" fmla="*/ 94320 h 539640"/>
              <a:gd name="textAreaBottom" fmla="*/ 391320 h 53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066711"/>
                <a:lnTo>
                  <a:pt x="11782" y="20774"/>
                </a:lnTo>
                <a:lnTo>
                  <a:pt x="21600" y="17280"/>
                </a:lnTo>
                <a:lnTo>
                  <a:pt x="11782" y="12134"/>
                </a:lnTo>
                <a:lnTo>
                  <a:pt x="11782" y="14294"/>
                </a:lnTo>
                <a:arcTo wR="21600" hR="7560" stAng="8733289" swAng="1709276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b796b"/>
          </a:solidFill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 flipH="1" flipV="1">
            <a:off x="3809160" y="5863680"/>
            <a:ext cx="381240" cy="539640"/>
          </a:xfrm>
          <a:custGeom>
            <a:avLst/>
            <a:gdLst>
              <a:gd name="textAreaLeft" fmla="*/ 51120 w 381240"/>
              <a:gd name="textAreaRight" fmla="*/ 330120 w 381240"/>
              <a:gd name="textAreaTop" fmla="*/ 94320 h 539640"/>
              <a:gd name="textAreaBottom" fmla="*/ 391320 h 53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066711"/>
                <a:lnTo>
                  <a:pt x="11782" y="20774"/>
                </a:lnTo>
                <a:lnTo>
                  <a:pt x="21600" y="17280"/>
                </a:lnTo>
                <a:lnTo>
                  <a:pt x="11782" y="12134"/>
                </a:lnTo>
                <a:lnTo>
                  <a:pt x="11782" y="14294"/>
                </a:lnTo>
                <a:arcTo wR="21600" hR="7560" stAng="8733289" swAng="1709276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b796b"/>
          </a:solidFill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 flipH="1" flipV="1">
            <a:off x="3809160" y="6168240"/>
            <a:ext cx="381240" cy="539640"/>
          </a:xfrm>
          <a:custGeom>
            <a:avLst/>
            <a:gdLst>
              <a:gd name="textAreaLeft" fmla="*/ 51120 w 381240"/>
              <a:gd name="textAreaRight" fmla="*/ 330120 w 381240"/>
              <a:gd name="textAreaTop" fmla="*/ 94320 h 539640"/>
              <a:gd name="textAreaBottom" fmla="*/ 391320 h 53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066711"/>
                <a:lnTo>
                  <a:pt x="11782" y="20774"/>
                </a:lnTo>
                <a:lnTo>
                  <a:pt x="21600" y="17280"/>
                </a:lnTo>
                <a:lnTo>
                  <a:pt x="11782" y="12134"/>
                </a:lnTo>
                <a:lnTo>
                  <a:pt x="11782" y="14294"/>
                </a:lnTo>
                <a:arcTo wR="21600" hR="7560" stAng="8733289" swAng="1709276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b796b"/>
          </a:solidFill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 flipH="1" flipV="1">
            <a:off x="3809160" y="2892600"/>
            <a:ext cx="381240" cy="838080"/>
          </a:xfrm>
          <a:custGeom>
            <a:avLst/>
            <a:gdLst>
              <a:gd name="textAreaLeft" fmla="*/ 51120 w 381240"/>
              <a:gd name="textAreaRight" fmla="*/ 330120 w 381240"/>
              <a:gd name="textAreaTop" fmla="*/ 146880 h 838080"/>
              <a:gd name="textAreaBottom" fmla="*/ 60804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066711"/>
                <a:lnTo>
                  <a:pt x="11782" y="20774"/>
                </a:lnTo>
                <a:lnTo>
                  <a:pt x="21600" y="17280"/>
                </a:lnTo>
                <a:lnTo>
                  <a:pt x="11782" y="12134"/>
                </a:lnTo>
                <a:lnTo>
                  <a:pt x="11782" y="14294"/>
                </a:lnTo>
                <a:arcTo wR="21600" hR="7560" stAng="8733289" swAng="1709276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b796b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 flipH="1" flipV="1">
            <a:off x="2209680" y="2510640"/>
            <a:ext cx="609840" cy="1219320"/>
          </a:xfrm>
          <a:custGeom>
            <a:avLst/>
            <a:gdLst>
              <a:gd name="textAreaLeft" fmla="*/ 81720 w 609840"/>
              <a:gd name="textAreaRight" fmla="*/ 528120 w 609840"/>
              <a:gd name="textAreaTop" fmla="*/ 234000 h 1219320"/>
              <a:gd name="textAreaBottom" fmla="*/ 86256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308" stAng="-5400000" swAng="-5400000"/>
                <a:lnTo>
                  <a:pt x="0" y="11132"/>
                </a:lnTo>
                <a:arcTo wR="21600" hR="8308" stAng="10800000" swAng="-2220396"/>
                <a:lnTo>
                  <a:pt x="11782" y="20692"/>
                </a:lnTo>
                <a:lnTo>
                  <a:pt x="21600" y="18028"/>
                </a:lnTo>
                <a:lnTo>
                  <a:pt x="11782" y="13548"/>
                </a:lnTo>
                <a:lnTo>
                  <a:pt x="11782" y="15708"/>
                </a:lnTo>
                <a:arcTo wR="21600" hR="8308" stAng="8579604" swAng="1992685"/>
                <a:lnTo>
                  <a:pt x="314" y="9720"/>
                </a:lnTo>
                <a:arcTo wR="21600" hR="8308" stAng="-10572289" swAng="5172289"/>
                <a:close/>
              </a:path>
              <a:path fill="darkenLess" w="21600" h="21600">
                <a:moveTo>
                  <a:pt x="21600" y="0"/>
                </a:moveTo>
                <a:arcTo wR="21600" hR="8308" stAng="-5400000" swAng="-5400000"/>
                <a:lnTo>
                  <a:pt x="0" y="8308"/>
                </a:lnTo>
                <a:arcTo wR="21600" hR="8308" stAng="10800000" swAng="-227711"/>
                <a:lnTo>
                  <a:pt x="314" y="9720"/>
                </a:lnTo>
                <a:arcTo wR="21600" hR="8308" stAng="-10572289" swAng="5172289"/>
                <a:close/>
              </a:path>
            </a:pathLst>
          </a:custGeom>
          <a:solidFill>
            <a:srgbClr val="fb796b"/>
          </a:solidFill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 flipH="1" flipV="1">
            <a:off x="3809160" y="4035600"/>
            <a:ext cx="381240" cy="838080"/>
          </a:xfrm>
          <a:custGeom>
            <a:avLst/>
            <a:gdLst>
              <a:gd name="textAreaLeft" fmla="*/ 51120 w 381240"/>
              <a:gd name="textAreaRight" fmla="*/ 330120 w 381240"/>
              <a:gd name="textAreaTop" fmla="*/ 146880 h 838080"/>
              <a:gd name="textAreaBottom" fmla="*/ 60804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066711"/>
                <a:lnTo>
                  <a:pt x="11782" y="20774"/>
                </a:lnTo>
                <a:lnTo>
                  <a:pt x="21600" y="17280"/>
                </a:lnTo>
                <a:lnTo>
                  <a:pt x="11782" y="12134"/>
                </a:lnTo>
                <a:lnTo>
                  <a:pt x="11782" y="14294"/>
                </a:lnTo>
                <a:arcTo wR="21600" hR="7560" stAng="8733289" swAng="1709276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b796b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 flipH="1" flipV="1">
            <a:off x="3809160" y="5253840"/>
            <a:ext cx="381240" cy="838440"/>
          </a:xfrm>
          <a:custGeom>
            <a:avLst/>
            <a:gdLst>
              <a:gd name="textAreaLeft" fmla="*/ 51120 w 381240"/>
              <a:gd name="textAreaRight" fmla="*/ 330120 w 381240"/>
              <a:gd name="textAreaTop" fmla="*/ 146160 h 838440"/>
              <a:gd name="textAreaBottom" fmla="*/ 607680 h 838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066711"/>
                <a:lnTo>
                  <a:pt x="11782" y="20774"/>
                </a:lnTo>
                <a:lnTo>
                  <a:pt x="21600" y="17280"/>
                </a:lnTo>
                <a:lnTo>
                  <a:pt x="11782" y="12134"/>
                </a:lnTo>
                <a:lnTo>
                  <a:pt x="11782" y="14294"/>
                </a:lnTo>
                <a:arcTo wR="21600" hR="7560" stAng="8733289" swAng="1709276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b796b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 flipH="1" flipV="1">
            <a:off x="2209680" y="3653640"/>
            <a:ext cx="609840" cy="1219320"/>
          </a:xfrm>
          <a:custGeom>
            <a:avLst/>
            <a:gdLst>
              <a:gd name="textAreaLeft" fmla="*/ 81720 w 609840"/>
              <a:gd name="textAreaRight" fmla="*/ 528120 w 609840"/>
              <a:gd name="textAreaTop" fmla="*/ 234000 h 1219320"/>
              <a:gd name="textAreaBottom" fmla="*/ 86256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308" stAng="-5400000" swAng="-5400000"/>
                <a:lnTo>
                  <a:pt x="0" y="11132"/>
                </a:lnTo>
                <a:arcTo wR="21600" hR="8308" stAng="10800000" swAng="-2220396"/>
                <a:lnTo>
                  <a:pt x="11782" y="20692"/>
                </a:lnTo>
                <a:lnTo>
                  <a:pt x="21600" y="18028"/>
                </a:lnTo>
                <a:lnTo>
                  <a:pt x="11782" y="13548"/>
                </a:lnTo>
                <a:lnTo>
                  <a:pt x="11782" y="15708"/>
                </a:lnTo>
                <a:arcTo wR="21600" hR="8308" stAng="8579604" swAng="1992685"/>
                <a:lnTo>
                  <a:pt x="314" y="9720"/>
                </a:lnTo>
                <a:arcTo wR="21600" hR="8308" stAng="-10572289" swAng="5172289"/>
                <a:close/>
              </a:path>
              <a:path fill="darkenLess" w="21600" h="21600">
                <a:moveTo>
                  <a:pt x="21600" y="0"/>
                </a:moveTo>
                <a:arcTo wR="21600" hR="8308" stAng="-5400000" swAng="-5400000"/>
                <a:lnTo>
                  <a:pt x="0" y="8308"/>
                </a:lnTo>
                <a:arcTo wR="21600" hR="8308" stAng="10800000" swAng="-227711"/>
                <a:lnTo>
                  <a:pt x="314" y="9720"/>
                </a:lnTo>
                <a:arcTo wR="21600" hR="8308" stAng="-10572289" swAng="5172289"/>
                <a:close/>
              </a:path>
            </a:pathLst>
          </a:custGeom>
          <a:solidFill>
            <a:srgbClr val="fb796b"/>
          </a:solidFill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 flipH="1" flipV="1">
            <a:off x="2209680" y="4796640"/>
            <a:ext cx="609840" cy="1219320"/>
          </a:xfrm>
          <a:custGeom>
            <a:avLst/>
            <a:gdLst>
              <a:gd name="textAreaLeft" fmla="*/ 81720 w 609840"/>
              <a:gd name="textAreaRight" fmla="*/ 528120 w 609840"/>
              <a:gd name="textAreaTop" fmla="*/ 234000 h 1219320"/>
              <a:gd name="textAreaBottom" fmla="*/ 86256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308" stAng="-5400000" swAng="-5400000"/>
                <a:lnTo>
                  <a:pt x="0" y="11132"/>
                </a:lnTo>
                <a:arcTo wR="21600" hR="8308" stAng="10800000" swAng="-2220396"/>
                <a:lnTo>
                  <a:pt x="11782" y="20692"/>
                </a:lnTo>
                <a:lnTo>
                  <a:pt x="21600" y="18028"/>
                </a:lnTo>
                <a:lnTo>
                  <a:pt x="11782" y="13548"/>
                </a:lnTo>
                <a:lnTo>
                  <a:pt x="11782" y="15708"/>
                </a:lnTo>
                <a:arcTo wR="21600" hR="8308" stAng="8579604" swAng="1992685"/>
                <a:lnTo>
                  <a:pt x="314" y="9720"/>
                </a:lnTo>
                <a:arcTo wR="21600" hR="8308" stAng="-10572289" swAng="5172289"/>
                <a:close/>
              </a:path>
              <a:path fill="darkenLess" w="21600" h="21600">
                <a:moveTo>
                  <a:pt x="21600" y="0"/>
                </a:moveTo>
                <a:arcTo wR="21600" hR="8308" stAng="-5400000" swAng="-5400000"/>
                <a:lnTo>
                  <a:pt x="0" y="8308"/>
                </a:lnTo>
                <a:arcTo wR="21600" hR="8308" stAng="10800000" swAng="-227711"/>
                <a:lnTo>
                  <a:pt x="314" y="9720"/>
                </a:lnTo>
                <a:arcTo wR="21600" hR="8308" stAng="-10572289" swAng="5172289"/>
                <a:close/>
              </a:path>
            </a:pathLst>
          </a:custGeom>
          <a:solidFill>
            <a:srgbClr val="fb796b"/>
          </a:solidFill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5639400" y="258768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cc3300"/>
                </a:solidFill>
                <a:latin typeface="Times New Roman"/>
                <a:ea typeface="굴림"/>
              </a:rPr>
              <a:t>1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5639400" y="517860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cc3300"/>
                </a:solidFill>
                <a:latin typeface="Times New Roman"/>
                <a:ea typeface="굴림"/>
              </a:rPr>
              <a:t>1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5638680" y="548316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cc3300"/>
                </a:solidFill>
                <a:latin typeface="Times New Roman"/>
                <a:ea typeface="굴림"/>
              </a:rPr>
              <a:t>10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5639400" y="578808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cc3300"/>
                </a:solidFill>
                <a:latin typeface="Times New Roman"/>
                <a:ea typeface="굴림"/>
              </a:rPr>
              <a:t>1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5639400" y="609300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cc3300"/>
                </a:solidFill>
                <a:latin typeface="Times New Roman"/>
                <a:ea typeface="굴림"/>
              </a:rPr>
              <a:t>2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5639760" y="63975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cc3300"/>
                </a:solidFill>
                <a:latin typeface="Times New Roman"/>
                <a:ea typeface="굴림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5638680" y="3730680"/>
            <a:ext cx="52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cc3300"/>
                </a:solidFill>
                <a:latin typeface="Times New Roman"/>
                <a:ea typeface="굴림"/>
              </a:rPr>
              <a:t>-2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5639400" y="403560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cc3300"/>
                </a:solidFill>
                <a:latin typeface="Times New Roman"/>
                <a:ea typeface="굴림"/>
              </a:rPr>
              <a:t>4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5638680" y="4340160"/>
            <a:ext cx="52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cc3300"/>
                </a:solidFill>
                <a:latin typeface="Times New Roman"/>
                <a:ea typeface="굴림"/>
              </a:rPr>
              <a:t>-1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5638680" y="4645080"/>
            <a:ext cx="52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cc3300"/>
                </a:solidFill>
                <a:latin typeface="Times New Roman"/>
                <a:ea typeface="굴림"/>
              </a:rPr>
              <a:t>-4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5639760" y="49500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cc3300"/>
                </a:solidFill>
                <a:latin typeface="Times New Roman"/>
                <a:ea typeface="굴림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5639400" y="281628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cc3300"/>
                </a:solidFill>
                <a:latin typeface="Times New Roman"/>
                <a:ea typeface="굴림"/>
              </a:rPr>
              <a:t>1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5639400" y="312120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cc3300"/>
                </a:solidFill>
                <a:latin typeface="Times New Roman"/>
                <a:ea typeface="굴림"/>
              </a:rPr>
              <a:t>8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5639400" y="342576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cc3300"/>
                </a:solidFill>
                <a:latin typeface="Times New Roman"/>
                <a:ea typeface="굴림"/>
              </a:rPr>
              <a:t>1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7150320" cy="860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ca304"/>
                </a:solidFill>
                <a:latin typeface="Arial"/>
                <a:ea typeface="굴림"/>
              </a:rPr>
              <a:t>이전 기간 판매 대비 현재 기간의 판매의 변화는 어떻 하였는가</a:t>
            </a:r>
            <a:r>
              <a:rPr b="1" lang="ko-KR" sz="2800" spc="-1" strike="noStrike">
                <a:solidFill>
                  <a:srgbClr val="fca304"/>
                </a:solidFill>
                <a:latin typeface="Arial"/>
                <a:ea typeface="굴림"/>
              </a:rPr>
              <a:t>?</a:t>
            </a:r>
            <a:endParaRPr b="1" lang="en-US" sz="2800" spc="-1" strike="noStrike">
              <a:solidFill>
                <a:srgbClr val="fca304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7360" y="226800"/>
            <a:ext cx="7197840" cy="1190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ca304"/>
                </a:solidFill>
                <a:latin typeface="Arial"/>
                <a:ea typeface="굴림"/>
              </a:rPr>
              <a:t>What will you hear about today?</a:t>
            </a:r>
            <a:endParaRPr b="1" lang="en-US" sz="4000" spc="-1" strike="noStrike">
              <a:solidFill>
                <a:srgbClr val="fca304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2320" y="1251000"/>
            <a:ext cx="8458200" cy="466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76360" indent="-576360">
              <a:lnSpc>
                <a:spcPct val="90000"/>
              </a:lnSpc>
              <a:spcBef>
                <a:spcPts val="119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What is MDX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6360" indent="-576360">
              <a:lnSpc>
                <a:spcPct val="90000"/>
              </a:lnSpc>
              <a:spcBef>
                <a:spcPts val="119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MDX Basic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6360" indent="-576360">
              <a:lnSpc>
                <a:spcPct val="90000"/>
              </a:lnSpc>
              <a:spcBef>
                <a:spcPts val="119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MDX Queri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6360" indent="-576360">
              <a:lnSpc>
                <a:spcPct val="90000"/>
              </a:lnSpc>
              <a:spcBef>
                <a:spcPts val="119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Solving Business Problems with MDX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6360" indent="-576360">
              <a:lnSpc>
                <a:spcPct val="90000"/>
              </a:lnSpc>
              <a:spcBef>
                <a:spcPts val="119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Exception float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6360" indent="-576360">
              <a:lnSpc>
                <a:spcPct val="90000"/>
              </a:lnSpc>
              <a:spcBef>
                <a:spcPts val="119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Market basket analysi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6360" indent="-576360">
              <a:lnSpc>
                <a:spcPct val="90000"/>
              </a:lnSpc>
              <a:spcBef>
                <a:spcPts val="119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Working with virtual cub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6360" indent="-576360">
              <a:lnSpc>
                <a:spcPct val="90000"/>
              </a:lnSpc>
              <a:spcBef>
                <a:spcPts val="119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Currency convers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3" name=""/>
          <p:cNvGraphicFramePr/>
          <p:nvPr/>
        </p:nvGraphicFramePr>
        <p:xfrm>
          <a:off x="0" y="2438280"/>
          <a:ext cx="10293480" cy="55850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80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2438280"/>
                    <a:ext cx="10293480" cy="558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05" name="TimeSm" descr=""/>
          <p:cNvPicPr/>
          <p:nvPr/>
        </p:nvPicPr>
        <p:blipFill>
          <a:blip r:embed="rId4"/>
          <a:stretch/>
        </p:blipFill>
        <p:spPr>
          <a:xfrm>
            <a:off x="7543800" y="0"/>
            <a:ext cx="1600200" cy="1503360"/>
          </a:xfrm>
          <a:prstGeom prst="rect">
            <a:avLst/>
          </a:prstGeom>
          <a:ln w="0">
            <a:noFill/>
          </a:ln>
        </p:spPr>
      </p:pic>
      <p:sp>
        <p:nvSpPr>
          <p:cNvPr id="806" name=""/>
          <p:cNvSpPr/>
          <p:nvPr/>
        </p:nvSpPr>
        <p:spPr>
          <a:xfrm>
            <a:off x="5181480" y="3276720"/>
            <a:ext cx="52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cc3300"/>
                </a:solidFill>
                <a:latin typeface="Times New Roman"/>
                <a:ea typeface="굴림"/>
              </a:rPr>
              <a:t>-2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5182200" y="358128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cc3300"/>
                </a:solidFill>
                <a:latin typeface="Times New Roman"/>
                <a:ea typeface="굴림"/>
              </a:rPr>
              <a:t>4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5182200" y="266688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cc3300"/>
                </a:solidFill>
                <a:latin typeface="Times New Roman"/>
                <a:ea typeface="굴림"/>
              </a:rPr>
              <a:t>8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5182200" y="297180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cc3300"/>
                </a:solidFill>
                <a:latin typeface="Times New Roman"/>
                <a:ea typeface="굴림"/>
              </a:rPr>
              <a:t>1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5105520" y="3276720"/>
            <a:ext cx="609480" cy="457200"/>
          </a:xfrm>
          <a:prstGeom prst="ellipse">
            <a:avLst/>
          </a:prstGeom>
          <a:noFill/>
          <a:ln w="3816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908280" y="4267080"/>
            <a:ext cx="623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66"/>
                </a:solidFill>
                <a:latin typeface="Times New Roman"/>
                <a:ea typeface="굴림"/>
              </a:rPr>
              <a:t>Time.CurrentMember, Measures.CurrentMemb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4114800" y="2971800"/>
            <a:ext cx="609480" cy="457200"/>
          </a:xfrm>
          <a:prstGeom prst="ellipse">
            <a:avLst/>
          </a:prstGeom>
          <a:noFill/>
          <a:ln w="38160">
            <a:solidFill>
              <a:srgbClr val="fca3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4114800" y="3276720"/>
            <a:ext cx="609480" cy="457200"/>
          </a:xfrm>
          <a:prstGeom prst="ellipse">
            <a:avLst/>
          </a:prstGeom>
          <a:noFill/>
          <a:ln w="381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986400" y="5105520"/>
            <a:ext cx="483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5050"/>
                </a:solidFill>
                <a:latin typeface="Times New Roman"/>
                <a:ea typeface="굴림"/>
              </a:rPr>
              <a:t>Time.CurrentMember,Measures.Sa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1060560" y="5943600"/>
            <a:ext cx="65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a304"/>
                </a:solidFill>
                <a:latin typeface="Times New Roman"/>
                <a:ea typeface="굴림"/>
              </a:rPr>
              <a:t>Time.CurrentMember.PrevMember, Measures.Sa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16" name=""/>
          <p:cNvGrpSpPr/>
          <p:nvPr/>
        </p:nvGrpSpPr>
        <p:grpSpPr>
          <a:xfrm>
            <a:off x="6248520" y="4419720"/>
            <a:ext cx="1636560" cy="1004760"/>
            <a:chOff x="6248520" y="4419720"/>
            <a:chExt cx="1636560" cy="1004760"/>
          </a:xfrm>
        </p:grpSpPr>
        <p:grpSp>
          <p:nvGrpSpPr>
            <p:cNvPr id="817" name=""/>
            <p:cNvGrpSpPr/>
            <p:nvPr/>
          </p:nvGrpSpPr>
          <p:grpSpPr>
            <a:xfrm>
              <a:off x="7391520" y="4419720"/>
              <a:ext cx="493560" cy="242640"/>
              <a:chOff x="7391520" y="4419720"/>
              <a:chExt cx="493560" cy="242640"/>
            </a:xfrm>
          </p:grpSpPr>
          <p:sp>
            <p:nvSpPr>
              <p:cNvPr id="818" name=""/>
              <p:cNvSpPr/>
              <p:nvPr/>
            </p:nvSpPr>
            <p:spPr>
              <a:xfrm>
                <a:off x="7391520" y="4419720"/>
                <a:ext cx="493560" cy="90360"/>
              </a:xfrm>
              <a:prstGeom prst="rect">
                <a:avLst/>
              </a:prstGeom>
              <a:solidFill>
                <a:srgbClr val="fca3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7391520" y="4572000"/>
                <a:ext cx="493560" cy="90360"/>
              </a:xfrm>
              <a:prstGeom prst="rect">
                <a:avLst/>
              </a:prstGeom>
              <a:solidFill>
                <a:srgbClr val="fca3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820" name=""/>
            <p:cNvSpPr/>
            <p:nvPr/>
          </p:nvSpPr>
          <p:spPr>
            <a:xfrm>
              <a:off x="6248520" y="5334120"/>
              <a:ext cx="493560" cy="90360"/>
            </a:xfrm>
            <a:prstGeom prst="rect">
              <a:avLst/>
            </a:prstGeom>
            <a:solidFill>
              <a:srgbClr val="fca3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21" name=""/>
          <p:cNvSpPr/>
          <p:nvPr/>
        </p:nvSpPr>
        <p:spPr>
          <a:xfrm flipH="1">
            <a:off x="4876920" y="3657600"/>
            <a:ext cx="304560" cy="685800"/>
          </a:xfrm>
          <a:prstGeom prst="line">
            <a:avLst/>
          </a:prstGeom>
          <a:ln w="38160">
            <a:solidFill>
              <a:srgbClr val="00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 flipH="1">
            <a:off x="3809520" y="3733920"/>
            <a:ext cx="685800" cy="15238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 flipH="1">
            <a:off x="2437920" y="3200400"/>
            <a:ext cx="1676520" cy="281952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387360" y="228600"/>
            <a:ext cx="7562880" cy="750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ca304"/>
                </a:solidFill>
                <a:latin typeface="Arial"/>
                <a:ea typeface="굴림"/>
              </a:rPr>
              <a:t>이전 기간 판매 대비 현재 기간의 판매의 변화는 어떻 하였는가</a:t>
            </a:r>
            <a:r>
              <a:rPr b="1" lang="ko-KR" sz="2800" spc="-1" strike="noStrike">
                <a:solidFill>
                  <a:srgbClr val="fca304"/>
                </a:solidFill>
                <a:latin typeface="Arial"/>
                <a:ea typeface="굴림"/>
              </a:rPr>
              <a:t>?</a:t>
            </a:r>
            <a:endParaRPr b="1" lang="en-US" sz="2800" spc="-1" strike="noStrike">
              <a:solidFill>
                <a:srgbClr val="fca304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5" name=""/>
          <p:cNvGraphicFramePr/>
          <p:nvPr/>
        </p:nvGraphicFramePr>
        <p:xfrm>
          <a:off x="309600" y="1706400"/>
          <a:ext cx="10167840" cy="49309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82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9600" y="1706400"/>
                    <a:ext cx="10167840" cy="493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27" name="TimeSm" descr=""/>
          <p:cNvPicPr/>
          <p:nvPr/>
        </p:nvPicPr>
        <p:blipFill>
          <a:blip r:embed="rId4"/>
          <a:stretch/>
        </p:blipFill>
        <p:spPr>
          <a:xfrm>
            <a:off x="7543800" y="0"/>
            <a:ext cx="1600200" cy="1503360"/>
          </a:xfrm>
          <a:prstGeom prst="rect">
            <a:avLst/>
          </a:prstGeom>
          <a:ln w="0">
            <a:noFill/>
          </a:ln>
        </p:spPr>
      </p:pic>
      <p:sp>
        <p:nvSpPr>
          <p:cNvPr id="828" name=""/>
          <p:cNvSpPr/>
          <p:nvPr/>
        </p:nvSpPr>
        <p:spPr>
          <a:xfrm>
            <a:off x="2895480" y="3002040"/>
            <a:ext cx="0" cy="152280"/>
          </a:xfrm>
          <a:prstGeom prst="line">
            <a:avLst/>
          </a:prstGeom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2895480" y="5135400"/>
            <a:ext cx="0" cy="152640"/>
          </a:xfrm>
          <a:prstGeom prst="line">
            <a:avLst/>
          </a:prstGeom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4267080" y="3002040"/>
            <a:ext cx="0" cy="152280"/>
          </a:xfrm>
          <a:prstGeom prst="line">
            <a:avLst/>
          </a:prstGeom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5181480" y="3002040"/>
            <a:ext cx="0" cy="152280"/>
          </a:xfrm>
          <a:prstGeom prst="line">
            <a:avLst/>
          </a:prstGeom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6248520" y="3002040"/>
            <a:ext cx="0" cy="152280"/>
          </a:xfrm>
          <a:prstGeom prst="line">
            <a:avLst/>
          </a:prstGeom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4267080" y="5135400"/>
            <a:ext cx="0" cy="152640"/>
          </a:xfrm>
          <a:prstGeom prst="line">
            <a:avLst/>
          </a:prstGeom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5181480" y="5135400"/>
            <a:ext cx="0" cy="152640"/>
          </a:xfrm>
          <a:prstGeom prst="line">
            <a:avLst/>
          </a:prstGeom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6248520" y="5135400"/>
            <a:ext cx="0" cy="152640"/>
          </a:xfrm>
          <a:prstGeom prst="line">
            <a:avLst/>
          </a:prstGeom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 flipH="1" flipV="1">
            <a:off x="3657600" y="2087640"/>
            <a:ext cx="838080" cy="2590560"/>
          </a:xfrm>
          <a:custGeom>
            <a:avLst/>
            <a:gdLst>
              <a:gd name="textAreaLeft" fmla="*/ 112320 w 838080"/>
              <a:gd name="textAreaRight" fmla="*/ 725760 w 838080"/>
              <a:gd name="textAreaTop" fmla="*/ 533520 h 2590560"/>
              <a:gd name="textAreaBottom" fmla="*/ 1797840 h 2590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900" stAng="-5400000" swAng="-5400000"/>
                <a:lnTo>
                  <a:pt x="0" y="10540"/>
                </a:lnTo>
                <a:arcTo wR="21600" hR="8900" stAng="10800000" swAng="-2335134"/>
                <a:lnTo>
                  <a:pt x="11782" y="20627"/>
                </a:lnTo>
                <a:lnTo>
                  <a:pt x="21600" y="18620"/>
                </a:lnTo>
                <a:lnTo>
                  <a:pt x="11782" y="14667"/>
                </a:lnTo>
                <a:lnTo>
                  <a:pt x="11782" y="16827"/>
                </a:lnTo>
                <a:arcTo wR="21600" hR="8900" stAng="8464866" swAng="2204133"/>
                <a:lnTo>
                  <a:pt x="92" y="9720"/>
                </a:lnTo>
                <a:arcTo wR="21600" hR="8900" stAng="-10668999" swAng="5268999"/>
                <a:close/>
              </a:path>
              <a:path fill="darkenLess" w="21600" h="21600">
                <a:moveTo>
                  <a:pt x="21600" y="0"/>
                </a:moveTo>
                <a:arcTo wR="21600" hR="8900" stAng="-5400000" swAng="-5400000"/>
                <a:lnTo>
                  <a:pt x="0" y="8900"/>
                </a:lnTo>
                <a:arcTo wR="21600" hR="8900" stAng="10800000" swAng="-131001"/>
                <a:lnTo>
                  <a:pt x="92" y="9720"/>
                </a:lnTo>
                <a:arcTo wR="21600" hR="8900" stAng="-10668999" swAng="5268999"/>
                <a:close/>
              </a:path>
            </a:pathLst>
          </a:custGeom>
          <a:solidFill>
            <a:srgbClr val="fb796b"/>
          </a:solidFill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 flipH="1" flipV="1">
            <a:off x="3657600" y="3153600"/>
            <a:ext cx="838080" cy="2590920"/>
          </a:xfrm>
          <a:custGeom>
            <a:avLst/>
            <a:gdLst>
              <a:gd name="textAreaLeft" fmla="*/ 112320 w 838080"/>
              <a:gd name="textAreaRight" fmla="*/ 725760 w 838080"/>
              <a:gd name="textAreaTop" fmla="*/ 533520 h 2590920"/>
              <a:gd name="textAreaBottom" fmla="*/ 1798200 h 2590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900" stAng="-5400000" swAng="-5400000"/>
                <a:lnTo>
                  <a:pt x="0" y="10540"/>
                </a:lnTo>
                <a:arcTo wR="21600" hR="8900" stAng="10800000" swAng="-2335134"/>
                <a:lnTo>
                  <a:pt x="11782" y="20627"/>
                </a:lnTo>
                <a:lnTo>
                  <a:pt x="21600" y="18620"/>
                </a:lnTo>
                <a:lnTo>
                  <a:pt x="11782" y="14667"/>
                </a:lnTo>
                <a:lnTo>
                  <a:pt x="11782" y="16827"/>
                </a:lnTo>
                <a:arcTo wR="21600" hR="8900" stAng="8464866" swAng="2204133"/>
                <a:lnTo>
                  <a:pt x="92" y="9720"/>
                </a:lnTo>
                <a:arcTo wR="21600" hR="8900" stAng="-10668999" swAng="5268999"/>
                <a:close/>
              </a:path>
              <a:path fill="darkenLess" w="21600" h="21600">
                <a:moveTo>
                  <a:pt x="21600" y="0"/>
                </a:moveTo>
                <a:arcTo wR="21600" hR="8900" stAng="-5400000" swAng="-5400000"/>
                <a:lnTo>
                  <a:pt x="0" y="8900"/>
                </a:lnTo>
                <a:arcTo wR="21600" hR="8900" stAng="10800000" swAng="-131001"/>
                <a:lnTo>
                  <a:pt x="92" y="9720"/>
                </a:lnTo>
                <a:arcTo wR="21600" hR="8900" stAng="-10668999" swAng="5268999"/>
                <a:close/>
              </a:path>
            </a:pathLst>
          </a:custGeom>
          <a:solidFill>
            <a:srgbClr val="fb796b"/>
          </a:solidFill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 flipH="1" flipV="1">
            <a:off x="1980360" y="2239200"/>
            <a:ext cx="838440" cy="2590920"/>
          </a:xfrm>
          <a:custGeom>
            <a:avLst/>
            <a:gdLst>
              <a:gd name="textAreaLeft" fmla="*/ 112320 w 838440"/>
              <a:gd name="textAreaRight" fmla="*/ 726120 w 838440"/>
              <a:gd name="textAreaTop" fmla="*/ 533520 h 2590920"/>
              <a:gd name="textAreaBottom" fmla="*/ 1798200 h 2590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900" stAng="-5400000" swAng="-5400000"/>
                <a:lnTo>
                  <a:pt x="0" y="10540"/>
                </a:lnTo>
                <a:arcTo wR="21600" hR="8900" stAng="10800000" swAng="-2335134"/>
                <a:lnTo>
                  <a:pt x="11782" y="20627"/>
                </a:lnTo>
                <a:lnTo>
                  <a:pt x="21600" y="18620"/>
                </a:lnTo>
                <a:lnTo>
                  <a:pt x="11782" y="14667"/>
                </a:lnTo>
                <a:lnTo>
                  <a:pt x="11782" y="16827"/>
                </a:lnTo>
                <a:arcTo wR="21600" hR="8900" stAng="8464866" swAng="2204133"/>
                <a:lnTo>
                  <a:pt x="92" y="9720"/>
                </a:lnTo>
                <a:arcTo wR="21600" hR="8900" stAng="-10668999" swAng="5268999"/>
                <a:close/>
              </a:path>
              <a:path fill="darkenLess" w="21600" h="21600">
                <a:moveTo>
                  <a:pt x="21600" y="0"/>
                </a:moveTo>
                <a:arcTo wR="21600" hR="8900" stAng="-5400000" swAng="-5400000"/>
                <a:lnTo>
                  <a:pt x="0" y="8900"/>
                </a:lnTo>
                <a:arcTo wR="21600" hR="8900" stAng="10800000" swAng="-131001"/>
                <a:lnTo>
                  <a:pt x="92" y="9720"/>
                </a:lnTo>
                <a:arcTo wR="21600" hR="8900" stAng="-10668999" swAng="5268999"/>
                <a:close/>
              </a:path>
            </a:pathLst>
          </a:custGeom>
          <a:solidFill>
            <a:srgbClr val="fb796b"/>
          </a:solidFill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 flipH="1" flipV="1">
            <a:off x="1980360" y="3305880"/>
            <a:ext cx="838440" cy="2590920"/>
          </a:xfrm>
          <a:custGeom>
            <a:avLst/>
            <a:gdLst>
              <a:gd name="textAreaLeft" fmla="*/ 112320 w 838440"/>
              <a:gd name="textAreaRight" fmla="*/ 726120 w 838440"/>
              <a:gd name="textAreaTop" fmla="*/ 533520 h 2590920"/>
              <a:gd name="textAreaBottom" fmla="*/ 1798200 h 2590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900" stAng="-5400000" swAng="-5400000"/>
                <a:lnTo>
                  <a:pt x="0" y="10540"/>
                </a:lnTo>
                <a:arcTo wR="21600" hR="8900" stAng="10800000" swAng="-2335134"/>
                <a:lnTo>
                  <a:pt x="11782" y="20627"/>
                </a:lnTo>
                <a:lnTo>
                  <a:pt x="21600" y="18620"/>
                </a:lnTo>
                <a:lnTo>
                  <a:pt x="11782" y="14667"/>
                </a:lnTo>
                <a:lnTo>
                  <a:pt x="11782" y="16827"/>
                </a:lnTo>
                <a:arcTo wR="21600" hR="8900" stAng="8464866" swAng="2204133"/>
                <a:lnTo>
                  <a:pt x="92" y="9720"/>
                </a:lnTo>
                <a:arcTo wR="21600" hR="8900" stAng="-10668999" swAng="5268999"/>
                <a:close/>
              </a:path>
              <a:path fill="darkenLess" w="21600" h="21600">
                <a:moveTo>
                  <a:pt x="21600" y="0"/>
                </a:moveTo>
                <a:arcTo wR="21600" hR="8900" stAng="-5400000" swAng="-5400000"/>
                <a:lnTo>
                  <a:pt x="0" y="8900"/>
                </a:lnTo>
                <a:arcTo wR="21600" hR="8900" stAng="10800000" swAng="-131001"/>
                <a:lnTo>
                  <a:pt x="92" y="9720"/>
                </a:lnTo>
                <a:arcTo wR="21600" hR="8900" stAng="-10668999" swAng="5268999"/>
                <a:close/>
              </a:path>
            </a:pathLst>
          </a:custGeom>
          <a:solidFill>
            <a:srgbClr val="fb796b"/>
          </a:solidFill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 flipH="1" flipV="1">
            <a:off x="533160" y="2544840"/>
            <a:ext cx="838080" cy="2590560"/>
          </a:xfrm>
          <a:custGeom>
            <a:avLst/>
            <a:gdLst>
              <a:gd name="textAreaLeft" fmla="*/ 112320 w 838080"/>
              <a:gd name="textAreaRight" fmla="*/ 725760 w 838080"/>
              <a:gd name="textAreaTop" fmla="*/ 533520 h 2590560"/>
              <a:gd name="textAreaBottom" fmla="*/ 1797840 h 2590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900" stAng="-5400000" swAng="-5400000"/>
                <a:lnTo>
                  <a:pt x="0" y="10540"/>
                </a:lnTo>
                <a:arcTo wR="21600" hR="8900" stAng="10800000" swAng="-2335134"/>
                <a:lnTo>
                  <a:pt x="11782" y="20627"/>
                </a:lnTo>
                <a:lnTo>
                  <a:pt x="21600" y="18620"/>
                </a:lnTo>
                <a:lnTo>
                  <a:pt x="11782" y="14667"/>
                </a:lnTo>
                <a:lnTo>
                  <a:pt x="11782" y="16827"/>
                </a:lnTo>
                <a:arcTo wR="21600" hR="8900" stAng="8464866" swAng="2204133"/>
                <a:lnTo>
                  <a:pt x="92" y="9720"/>
                </a:lnTo>
                <a:arcTo wR="21600" hR="8900" stAng="-10668999" swAng="5268999"/>
                <a:close/>
              </a:path>
              <a:path fill="darkenLess" w="21600" h="21600">
                <a:moveTo>
                  <a:pt x="21600" y="0"/>
                </a:moveTo>
                <a:arcTo wR="21600" hR="8900" stAng="-5400000" swAng="-5400000"/>
                <a:lnTo>
                  <a:pt x="0" y="8900"/>
                </a:lnTo>
                <a:arcTo wR="21600" hR="8900" stAng="10800000" swAng="-131001"/>
                <a:lnTo>
                  <a:pt x="92" y="9720"/>
                </a:lnTo>
                <a:arcTo wR="21600" hR="8900" stAng="-10668999" swAng="5268999"/>
                <a:close/>
              </a:path>
            </a:pathLst>
          </a:custGeom>
          <a:solidFill>
            <a:srgbClr val="fb796b"/>
          </a:solidFill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5411160" y="444960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cc3300"/>
                </a:solidFill>
                <a:latin typeface="Times New Roman"/>
                <a:ea typeface="굴림"/>
              </a:rPr>
              <a:t>2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5411160" y="551664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cc3300"/>
                </a:solidFill>
                <a:latin typeface="Times New Roman"/>
                <a:ea typeface="굴림"/>
              </a:rPr>
              <a:t>1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5411160" y="422100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cc3300"/>
                </a:solidFill>
                <a:latin typeface="Times New Roman"/>
                <a:ea typeface="굴림"/>
              </a:rPr>
              <a:t>5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5335560" y="528804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cc3300"/>
                </a:solidFill>
                <a:latin typeface="Times New Roman"/>
                <a:ea typeface="굴림"/>
              </a:rPr>
              <a:t>-1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6612120" cy="861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ca304"/>
                </a:solidFill>
                <a:latin typeface="Arial"/>
                <a:ea typeface="굴림"/>
              </a:rPr>
              <a:t>이전 년도 기간 대비 동기간의</a:t>
            </a:r>
            <a:br>
              <a:rPr sz="2800"/>
            </a:br>
            <a:r>
              <a:rPr b="1" lang="ko-KR" sz="2800" spc="-1" strike="noStrike">
                <a:solidFill>
                  <a:srgbClr val="fca304"/>
                </a:solidFill>
                <a:latin typeface="Arial"/>
                <a:ea typeface="굴림"/>
              </a:rPr>
              <a:t>판매의 변화는 어떠하였는가</a:t>
            </a:r>
            <a:r>
              <a:rPr b="1" lang="ko-KR" sz="2800" spc="-1" strike="noStrike">
                <a:solidFill>
                  <a:srgbClr val="fca304"/>
                </a:solidFill>
                <a:latin typeface="Arial"/>
                <a:ea typeface="굴림"/>
              </a:rPr>
              <a:t>?</a:t>
            </a:r>
            <a:endParaRPr b="1" lang="en-US" sz="2800" spc="-1" strike="noStrike">
              <a:solidFill>
                <a:srgbClr val="fca304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46" name=""/>
          <p:cNvGraphicFramePr/>
          <p:nvPr/>
        </p:nvGraphicFramePr>
        <p:xfrm>
          <a:off x="655560" y="1509840"/>
          <a:ext cx="10167840" cy="49035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84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55560" y="1509840"/>
                    <a:ext cx="10167840" cy="490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48" name="TimeSm" descr=""/>
          <p:cNvPicPr/>
          <p:nvPr/>
        </p:nvPicPr>
        <p:blipFill>
          <a:blip r:embed="rId4"/>
          <a:stretch/>
        </p:blipFill>
        <p:spPr>
          <a:xfrm>
            <a:off x="7543800" y="0"/>
            <a:ext cx="1600200" cy="1503360"/>
          </a:xfrm>
          <a:prstGeom prst="rect">
            <a:avLst/>
          </a:prstGeom>
          <a:ln w="0">
            <a:noFill/>
          </a:ln>
        </p:spPr>
      </p:pic>
      <p:sp>
        <p:nvSpPr>
          <p:cNvPr id="849" name=""/>
          <p:cNvSpPr/>
          <p:nvPr/>
        </p:nvSpPr>
        <p:spPr>
          <a:xfrm>
            <a:off x="3243240" y="2809800"/>
            <a:ext cx="0" cy="152640"/>
          </a:xfrm>
          <a:prstGeom prst="line">
            <a:avLst/>
          </a:prstGeom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3243240" y="4943520"/>
            <a:ext cx="0" cy="152280"/>
          </a:xfrm>
          <a:prstGeom prst="line">
            <a:avLst/>
          </a:prstGeom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4614840" y="2809800"/>
            <a:ext cx="0" cy="152640"/>
          </a:xfrm>
          <a:prstGeom prst="line">
            <a:avLst/>
          </a:prstGeom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5529240" y="2809800"/>
            <a:ext cx="0" cy="152640"/>
          </a:xfrm>
          <a:prstGeom prst="line">
            <a:avLst/>
          </a:prstGeom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6595920" y="2809800"/>
            <a:ext cx="0" cy="152640"/>
          </a:xfrm>
          <a:prstGeom prst="line">
            <a:avLst/>
          </a:prstGeom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4614840" y="4943520"/>
            <a:ext cx="0" cy="152280"/>
          </a:xfrm>
          <a:prstGeom prst="line">
            <a:avLst/>
          </a:prstGeom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5529240" y="4943520"/>
            <a:ext cx="0" cy="152280"/>
          </a:xfrm>
          <a:prstGeom prst="line">
            <a:avLst/>
          </a:prstGeom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6595920" y="4943520"/>
            <a:ext cx="0" cy="152280"/>
          </a:xfrm>
          <a:prstGeom prst="line">
            <a:avLst/>
          </a:prstGeom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5758920" y="425772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cc3300"/>
                </a:solidFill>
                <a:latin typeface="Times New Roman"/>
                <a:ea typeface="굴림"/>
              </a:rPr>
              <a:t>2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931320" y="611172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3300"/>
                </a:solidFill>
                <a:latin typeface="Times New Roman"/>
                <a:ea typeface="굴림"/>
              </a:rPr>
              <a:t>(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  <a:ea typeface="굴림"/>
              </a:rPr>
              <a:t>Measures,Sales,Time.CurrentMember)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5605560" y="4181400"/>
            <a:ext cx="609480" cy="457200"/>
          </a:xfrm>
          <a:prstGeom prst="ellipse">
            <a:avLst/>
          </a:prstGeom>
          <a:noFill/>
          <a:ln w="3816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4538520" y="2048040"/>
            <a:ext cx="609840" cy="457200"/>
          </a:xfrm>
          <a:prstGeom prst="ellipse">
            <a:avLst/>
          </a:prstGeom>
          <a:noFill/>
          <a:ln w="38160">
            <a:solidFill>
              <a:srgbClr val="fca3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4538520" y="4181400"/>
            <a:ext cx="609840" cy="457200"/>
          </a:xfrm>
          <a:prstGeom prst="ellipse">
            <a:avLst/>
          </a:prstGeom>
          <a:noFill/>
          <a:ln w="381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571680" y="6400800"/>
            <a:ext cx="787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ca304"/>
                </a:solidFill>
                <a:latin typeface="Times New Roman"/>
                <a:ea typeface="굴림"/>
              </a:rPr>
              <a:t>(</a:t>
            </a:r>
            <a:r>
              <a:rPr b="0" lang="en-US" sz="2400" spc="-1" strike="noStrike">
                <a:solidFill>
                  <a:srgbClr val="fca304"/>
                </a:solidFill>
                <a:latin typeface="Times New Roman"/>
                <a:ea typeface="굴림"/>
              </a:rPr>
              <a:t>Measures.Sales,ParallelPeriod(Year,1,Time.CurrentMember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387360" y="228600"/>
            <a:ext cx="7562880" cy="859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ca304"/>
                </a:solidFill>
                <a:latin typeface="Arial"/>
                <a:ea typeface="굴림"/>
              </a:rPr>
              <a:t>이전 년도 기간 대비 동기간의</a:t>
            </a:r>
            <a:br>
              <a:rPr sz="2800"/>
            </a:br>
            <a:r>
              <a:rPr b="1" lang="ko-KR" sz="2800" spc="-1" strike="noStrike">
                <a:solidFill>
                  <a:srgbClr val="fca304"/>
                </a:solidFill>
                <a:latin typeface="Arial"/>
                <a:ea typeface="굴림"/>
              </a:rPr>
              <a:t>판매의 변화는 어떠하였는가</a:t>
            </a:r>
            <a:r>
              <a:rPr b="1" lang="ko-KR" sz="2800" spc="-1" strike="noStrike">
                <a:solidFill>
                  <a:srgbClr val="fca304"/>
                </a:solidFill>
                <a:latin typeface="Arial"/>
                <a:ea typeface="굴림"/>
              </a:rPr>
              <a:t>?</a:t>
            </a:r>
            <a:endParaRPr b="1" lang="en-US" sz="2800" spc="-1" strike="noStrike">
              <a:solidFill>
                <a:srgbClr val="fca304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4" name="TimeSm" descr=""/>
          <p:cNvPicPr/>
          <p:nvPr/>
        </p:nvPicPr>
        <p:blipFill>
          <a:blip r:embed="rId2"/>
          <a:stretch/>
        </p:blipFill>
        <p:spPr>
          <a:xfrm>
            <a:off x="7543800" y="0"/>
            <a:ext cx="1600200" cy="1503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65" name=""/>
          <p:cNvGraphicFramePr/>
          <p:nvPr/>
        </p:nvGraphicFramePr>
        <p:xfrm>
          <a:off x="593640" y="1374840"/>
          <a:ext cx="10293480" cy="55846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86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93640" y="1374840"/>
                    <a:ext cx="10293480" cy="558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7" name=""/>
          <p:cNvSpPr/>
          <p:nvPr/>
        </p:nvSpPr>
        <p:spPr>
          <a:xfrm>
            <a:off x="4251240" y="2441520"/>
            <a:ext cx="0" cy="3886200"/>
          </a:xfrm>
          <a:prstGeom prst="line">
            <a:avLst/>
          </a:prstGeom>
          <a:ln w="381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2727360" y="2441520"/>
            <a:ext cx="0" cy="388620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029280" cy="96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ca304"/>
                </a:solidFill>
                <a:latin typeface="Arial"/>
                <a:ea typeface="굴림"/>
              </a:rPr>
              <a:t>당해년 초부터의 누적 판매실적은 어떠하였는가</a:t>
            </a:r>
            <a:r>
              <a:rPr b="1" lang="ko-KR" sz="3200" spc="-1" strike="noStrike">
                <a:solidFill>
                  <a:srgbClr val="fca304"/>
                </a:solidFill>
                <a:latin typeface="Arial"/>
                <a:ea typeface="굴림"/>
              </a:rPr>
              <a:t>?</a:t>
            </a:r>
            <a:r>
              <a:rPr b="0" lang="ko-KR" sz="3200" spc="-1" strike="noStrike">
                <a:solidFill>
                  <a:srgbClr val="ffffb7"/>
                </a:solidFill>
                <a:latin typeface="Arial"/>
                <a:ea typeface="굴림"/>
              </a:rPr>
              <a:t> </a:t>
            </a:r>
            <a:endParaRPr b="1" lang="en-US" sz="3200" spc="-1" strike="noStrike">
              <a:solidFill>
                <a:srgbClr val="fca304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0" name=""/>
          <p:cNvGraphicFramePr/>
          <p:nvPr/>
        </p:nvGraphicFramePr>
        <p:xfrm>
          <a:off x="839880" y="1440000"/>
          <a:ext cx="9523440" cy="53784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87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39880" y="1440000"/>
                    <a:ext cx="9523440" cy="537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2" name=""/>
          <p:cNvSpPr/>
          <p:nvPr/>
        </p:nvSpPr>
        <p:spPr>
          <a:xfrm>
            <a:off x="371160" y="5713560"/>
            <a:ext cx="5859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b7"/>
                </a:solidFill>
                <a:latin typeface="Times New Roman"/>
                <a:ea typeface="굴림"/>
              </a:rPr>
              <a:t>(</a:t>
            </a:r>
            <a:r>
              <a:rPr b="0" lang="en-US" sz="2000" spc="-1" strike="noStrike">
                <a:solidFill>
                  <a:srgbClr val="ffffb7"/>
                </a:solidFill>
                <a:latin typeface="Times New Roman"/>
                <a:ea typeface="굴림"/>
              </a:rPr>
              <a:t>Time.CurrentMember,Measures.Sales)</a:t>
            </a:r>
            <a:br>
              <a:rPr sz="2000"/>
            </a:br>
            <a:r>
              <a:rPr b="0" lang="en-US" sz="2000" spc="-1" strike="noStrike">
                <a:solidFill>
                  <a:srgbClr val="ffffb7"/>
                </a:solidFill>
                <a:latin typeface="Times New Roman"/>
                <a:ea typeface="굴림"/>
              </a:rPr>
              <a:t> + (Measures.YTD,Time.CurrentMember.Prevmember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73" name="TimeSm" descr=""/>
          <p:cNvPicPr/>
          <p:nvPr/>
        </p:nvPicPr>
        <p:blipFill>
          <a:blip r:embed="rId4"/>
          <a:stretch/>
        </p:blipFill>
        <p:spPr>
          <a:xfrm>
            <a:off x="7543800" y="0"/>
            <a:ext cx="1600200" cy="1503360"/>
          </a:xfrm>
          <a:prstGeom prst="rect">
            <a:avLst/>
          </a:prstGeom>
          <a:ln w="0">
            <a:noFill/>
          </a:ln>
        </p:spPr>
      </p:pic>
      <p:sp>
        <p:nvSpPr>
          <p:cNvPr id="874" name=""/>
          <p:cNvSpPr/>
          <p:nvPr/>
        </p:nvSpPr>
        <p:spPr>
          <a:xfrm>
            <a:off x="3657600" y="2057400"/>
            <a:ext cx="0" cy="533520"/>
          </a:xfrm>
          <a:prstGeom prst="line">
            <a:avLst/>
          </a:prstGeom>
          <a:ln w="381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374760" y="5711760"/>
            <a:ext cx="435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b7"/>
                </a:solidFill>
                <a:latin typeface="Times New Roman"/>
                <a:ea typeface="굴림"/>
              </a:rPr>
              <a:t>Sum(YTD(Time.CurrentMember),Sale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455040" y="4724280"/>
            <a:ext cx="337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b7"/>
                </a:solidFill>
                <a:latin typeface="Times New Roman"/>
                <a:ea typeface="굴림"/>
              </a:rPr>
              <a:t>Time.Mar,Measures.Sa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455400" y="4038480"/>
            <a:ext cx="332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b7"/>
                </a:solidFill>
                <a:latin typeface="Times New Roman"/>
                <a:ea typeface="굴림"/>
              </a:rPr>
              <a:t>Time.Feb,Measures.Sa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455040" y="3352680"/>
            <a:ext cx="32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b7"/>
                </a:solidFill>
                <a:latin typeface="Times New Roman"/>
                <a:ea typeface="굴림"/>
              </a:rPr>
              <a:t>Time.Jan,Measures.Sa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1681200" y="5357880"/>
            <a:ext cx="493560" cy="242640"/>
            <a:chOff x="1681200" y="5357880"/>
            <a:chExt cx="493560" cy="242640"/>
          </a:xfrm>
        </p:grpSpPr>
        <p:sp>
          <p:nvSpPr>
            <p:cNvPr id="880" name=""/>
            <p:cNvSpPr/>
            <p:nvPr/>
          </p:nvSpPr>
          <p:spPr>
            <a:xfrm>
              <a:off x="1681200" y="5357880"/>
              <a:ext cx="493560" cy="90360"/>
            </a:xfrm>
            <a:prstGeom prst="rect">
              <a:avLst/>
            </a:prstGeom>
            <a:solidFill>
              <a:srgbClr val="fca3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1681200" y="5510160"/>
              <a:ext cx="493560" cy="90360"/>
            </a:xfrm>
            <a:prstGeom prst="rect">
              <a:avLst/>
            </a:prstGeom>
            <a:solidFill>
              <a:srgbClr val="fca3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82" name=""/>
          <p:cNvSpPr/>
          <p:nvPr/>
        </p:nvSpPr>
        <p:spPr>
          <a:xfrm>
            <a:off x="1678320" y="3581280"/>
            <a:ext cx="499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Times New Roman"/>
                <a:ea typeface="굴림"/>
              </a:rPr>
              <a:t>+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1678320" y="4267080"/>
            <a:ext cx="499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Times New Roman"/>
                <a:ea typeface="굴림"/>
              </a:rPr>
              <a:t>+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5495760" y="1135080"/>
            <a:ext cx="722520" cy="307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YT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387360" y="228600"/>
            <a:ext cx="7562880" cy="750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ca304"/>
                </a:solidFill>
                <a:latin typeface="Arial"/>
                <a:ea typeface="굴림"/>
              </a:rPr>
              <a:t>당해년 초부터의 누적 판매실적은 어떠하였는가</a:t>
            </a:r>
            <a:r>
              <a:rPr b="1" lang="ko-KR" sz="3200" spc="-1" strike="noStrike">
                <a:solidFill>
                  <a:srgbClr val="fca304"/>
                </a:solidFill>
                <a:latin typeface="Arial"/>
                <a:ea typeface="굴림"/>
              </a:rPr>
              <a:t>?</a:t>
            </a:r>
            <a:r>
              <a:rPr b="0" lang="ko-KR" sz="3200" spc="-1" strike="noStrike">
                <a:solidFill>
                  <a:srgbClr val="ffffb7"/>
                </a:solidFill>
                <a:latin typeface="Arial"/>
                <a:ea typeface="굴림"/>
              </a:rPr>
              <a:t> </a:t>
            </a:r>
            <a:endParaRPr b="1" lang="en-US" sz="3200" spc="-1" strike="noStrike">
              <a:solidFill>
                <a:srgbClr val="fca304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/>
          <p:nvPr/>
        </p:nvSpPr>
        <p:spPr>
          <a:xfrm>
            <a:off x="1125360" y="374760"/>
            <a:ext cx="7015320" cy="229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a304"/>
                </a:solidFill>
                <a:latin typeface="Arial"/>
                <a:ea typeface="굴림"/>
              </a:rPr>
              <a:t>Navigating In The Hierarchy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a304"/>
                </a:solidFill>
                <a:latin typeface="Arial"/>
                <a:ea typeface="굴림"/>
              </a:rPr>
              <a:t>(The Family Tree)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7" name="" descr=""/>
          <p:cNvPicPr/>
          <p:nvPr/>
        </p:nvPicPr>
        <p:blipFill>
          <a:blip r:embed="rId2"/>
          <a:stretch/>
        </p:blipFill>
        <p:spPr>
          <a:xfrm>
            <a:off x="2225520" y="2733840"/>
            <a:ext cx="4583160" cy="33987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88" name=""/>
          <p:cNvGraphicFramePr/>
          <p:nvPr/>
        </p:nvGraphicFramePr>
        <p:xfrm>
          <a:off x="590400" y="1681200"/>
          <a:ext cx="7753680" cy="3570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8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90400" y="1681200"/>
                    <a:ext cx="7753680" cy="357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0" name=""/>
          <p:cNvSpPr/>
          <p:nvPr/>
        </p:nvSpPr>
        <p:spPr>
          <a:xfrm>
            <a:off x="2649600" y="2587680"/>
            <a:ext cx="898560" cy="758880"/>
          </a:xfrm>
          <a:prstGeom prst="rect">
            <a:avLst/>
          </a:prstGeom>
          <a:noFill/>
          <a:ln w="28440">
            <a:solidFill>
              <a:srgbClr val="fb79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4024440" y="1579680"/>
            <a:ext cx="898560" cy="758880"/>
          </a:xfrm>
          <a:prstGeom prst="rect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6259680" y="2563920"/>
            <a:ext cx="898200" cy="758880"/>
          </a:xfrm>
          <a:prstGeom prst="rect">
            <a:avLst/>
          </a:prstGeom>
          <a:noFill/>
          <a:ln w="28440">
            <a:solidFill>
              <a:srgbClr val="fb79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200240" y="1863720"/>
            <a:ext cx="21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Time.[97].par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5921280" y="1863720"/>
            <a:ext cx="216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Time.[98].par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387360" y="228600"/>
            <a:ext cx="7562880" cy="751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a304"/>
                </a:solidFill>
                <a:latin typeface="Arial"/>
                <a:ea typeface="굴림"/>
              </a:rPr>
              <a:t>Parents</a:t>
            </a:r>
            <a:endParaRPr b="1" lang="en-US" sz="4800" spc="-1" strike="noStrike">
              <a:solidFill>
                <a:srgbClr val="fca304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6" name=""/>
          <p:cNvGraphicFramePr/>
          <p:nvPr/>
        </p:nvGraphicFramePr>
        <p:xfrm>
          <a:off x="851040" y="1157400"/>
          <a:ext cx="7753320" cy="3570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9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51040" y="1157400"/>
                    <a:ext cx="7753320" cy="357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8" name=""/>
          <p:cNvSpPr/>
          <p:nvPr/>
        </p:nvSpPr>
        <p:spPr>
          <a:xfrm>
            <a:off x="2911320" y="2063880"/>
            <a:ext cx="898560" cy="758520"/>
          </a:xfrm>
          <a:prstGeom prst="rect">
            <a:avLst/>
          </a:prstGeom>
          <a:noFill/>
          <a:ln w="28440">
            <a:solidFill>
              <a:srgbClr val="fb79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1461960" y="1339920"/>
            <a:ext cx="261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Time.[97].FirstChil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1552680" y="3032280"/>
            <a:ext cx="898560" cy="758520"/>
          </a:xfrm>
          <a:prstGeom prst="rect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387360" y="228600"/>
            <a:ext cx="7562880" cy="751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a304"/>
                </a:solidFill>
                <a:latin typeface="Arial"/>
                <a:ea typeface="굴림"/>
              </a:rPr>
              <a:t>Children</a:t>
            </a:r>
            <a:endParaRPr b="1" lang="en-US" sz="4800" spc="-1" strike="noStrike">
              <a:solidFill>
                <a:srgbClr val="fca304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02" name=""/>
          <p:cNvGraphicFramePr/>
          <p:nvPr/>
        </p:nvGraphicFramePr>
        <p:xfrm>
          <a:off x="851040" y="1160640"/>
          <a:ext cx="7753320" cy="3562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0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51040" y="1160640"/>
                    <a:ext cx="7753320" cy="356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4" name=""/>
          <p:cNvSpPr/>
          <p:nvPr/>
        </p:nvSpPr>
        <p:spPr>
          <a:xfrm>
            <a:off x="2911320" y="2063880"/>
            <a:ext cx="898560" cy="758520"/>
          </a:xfrm>
          <a:prstGeom prst="rect">
            <a:avLst/>
          </a:prstGeom>
          <a:noFill/>
          <a:ln w="28440">
            <a:solidFill>
              <a:srgbClr val="fb79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1461960" y="1339920"/>
            <a:ext cx="23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Time.[97].Childr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1481040" y="3016080"/>
            <a:ext cx="3687840" cy="811440"/>
          </a:xfrm>
          <a:prstGeom prst="rect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387360" y="228600"/>
            <a:ext cx="7562880" cy="751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a304"/>
                </a:solidFill>
                <a:latin typeface="Arial"/>
                <a:ea typeface="굴림"/>
              </a:rPr>
              <a:t>Children</a:t>
            </a:r>
            <a:endParaRPr b="1" lang="en-US" sz="4800" spc="-1" strike="noStrike">
              <a:solidFill>
                <a:srgbClr val="fca304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08" name=""/>
          <p:cNvGraphicFramePr/>
          <p:nvPr/>
        </p:nvGraphicFramePr>
        <p:xfrm>
          <a:off x="844560" y="1157400"/>
          <a:ext cx="7770960" cy="3570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0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4560" y="1157400"/>
                    <a:ext cx="7770960" cy="357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0" name=""/>
          <p:cNvSpPr/>
          <p:nvPr/>
        </p:nvSpPr>
        <p:spPr>
          <a:xfrm>
            <a:off x="2911320" y="2063880"/>
            <a:ext cx="898560" cy="758520"/>
          </a:xfrm>
          <a:prstGeom prst="rect">
            <a:avLst/>
          </a:prstGeom>
          <a:noFill/>
          <a:ln w="28440">
            <a:solidFill>
              <a:srgbClr val="fb79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351000" y="1216080"/>
            <a:ext cx="429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Descendants(Time.[97], Quarter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1481040" y="3016080"/>
            <a:ext cx="3687840" cy="811440"/>
          </a:xfrm>
          <a:prstGeom prst="rect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387360" y="228600"/>
            <a:ext cx="7562880" cy="751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a304"/>
                </a:solidFill>
                <a:latin typeface="Arial"/>
                <a:ea typeface="굴림"/>
              </a:rPr>
              <a:t>Descendants </a:t>
            </a:r>
            <a:endParaRPr b="1" lang="en-US" sz="4800" spc="-1" strike="noStrike">
              <a:solidFill>
                <a:srgbClr val="fca304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7360" y="228600"/>
            <a:ext cx="7562880" cy="751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a304"/>
                </a:solidFill>
                <a:latin typeface="Arial"/>
                <a:ea typeface="굴림"/>
              </a:rPr>
              <a:t>Session Prerequisites</a:t>
            </a:r>
            <a:endParaRPr b="1" lang="en-US" sz="4800" spc="-1" strike="noStrike">
              <a:solidFill>
                <a:srgbClr val="fca304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82680" y="1250640"/>
            <a:ext cx="7772400" cy="34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82480" indent="-582480">
              <a:lnSpc>
                <a:spcPct val="90000"/>
              </a:lnSpc>
              <a:spcBef>
                <a:spcPts val="119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Relational Database Experienc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82480" indent="-582480">
              <a:lnSpc>
                <a:spcPct val="90000"/>
              </a:lnSpc>
              <a:spcBef>
                <a:spcPts val="119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SQL Server 7.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41480" indent="-457200">
              <a:lnSpc>
                <a:spcPct val="90000"/>
              </a:lnSpc>
              <a:spcBef>
                <a:spcPts val="104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굴림"/>
              </a:rPr>
              <a:t>Data Warehousing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41480" indent="-457200">
              <a:lnSpc>
                <a:spcPct val="90000"/>
              </a:lnSpc>
              <a:spcBef>
                <a:spcPts val="104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굴림"/>
              </a:rPr>
              <a:t>Online Analytical Processing (OLAP) Servic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41480" indent="-457200">
              <a:lnSpc>
                <a:spcPct val="90000"/>
              </a:lnSpc>
              <a:spcBef>
                <a:spcPts val="104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굴림"/>
              </a:rPr>
              <a:t>Cubes, Dimensions, Members, Fact Tables, and Dimension Tabl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4" name=""/>
          <p:cNvGraphicFramePr/>
          <p:nvPr/>
        </p:nvGraphicFramePr>
        <p:xfrm>
          <a:off x="843120" y="1154160"/>
          <a:ext cx="7770600" cy="3578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1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3120" y="1154160"/>
                    <a:ext cx="7770600" cy="357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6" name=""/>
          <p:cNvSpPr/>
          <p:nvPr/>
        </p:nvSpPr>
        <p:spPr>
          <a:xfrm>
            <a:off x="2911320" y="2063880"/>
            <a:ext cx="898560" cy="758520"/>
          </a:xfrm>
          <a:prstGeom prst="rect">
            <a:avLst/>
          </a:prstGeom>
          <a:noFill/>
          <a:ln w="28440">
            <a:solidFill>
              <a:srgbClr val="fb79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351000" y="1216080"/>
            <a:ext cx="429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Descendants(Time.[97], Month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617400" y="4021200"/>
            <a:ext cx="5538960" cy="828720"/>
          </a:xfrm>
          <a:prstGeom prst="rect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387360" y="228600"/>
            <a:ext cx="7562880" cy="751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a304"/>
                </a:solidFill>
                <a:latin typeface="Arial"/>
                <a:ea typeface="굴림"/>
              </a:rPr>
              <a:t>Descendants </a:t>
            </a:r>
            <a:endParaRPr b="1" lang="en-US" sz="4800" spc="-1" strike="noStrike">
              <a:solidFill>
                <a:srgbClr val="fca304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0" name=""/>
          <p:cNvGraphicFramePr/>
          <p:nvPr/>
        </p:nvGraphicFramePr>
        <p:xfrm>
          <a:off x="843120" y="1157400"/>
          <a:ext cx="7770600" cy="3570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3120" y="1157400"/>
                    <a:ext cx="7770600" cy="357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2" name=""/>
          <p:cNvSpPr/>
          <p:nvPr/>
        </p:nvSpPr>
        <p:spPr>
          <a:xfrm>
            <a:off x="1535040" y="3051000"/>
            <a:ext cx="898560" cy="758880"/>
          </a:xfrm>
          <a:prstGeom prst="rect">
            <a:avLst/>
          </a:prstGeom>
          <a:noFill/>
          <a:ln w="28440">
            <a:solidFill>
              <a:srgbClr val="fb79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87360" y="5078520"/>
            <a:ext cx="39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Descendants(Time.[Q1], Month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617400" y="4021200"/>
            <a:ext cx="2751120" cy="828720"/>
          </a:xfrm>
          <a:prstGeom prst="rect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387360" y="228600"/>
            <a:ext cx="7562880" cy="751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a304"/>
                </a:solidFill>
                <a:latin typeface="Arial"/>
                <a:ea typeface="굴림"/>
              </a:rPr>
              <a:t>Descendants </a:t>
            </a:r>
            <a:endParaRPr b="1" lang="en-US" sz="4800" spc="-1" strike="noStrike">
              <a:solidFill>
                <a:srgbClr val="fca304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6" name=""/>
          <p:cNvGraphicFramePr/>
          <p:nvPr/>
        </p:nvGraphicFramePr>
        <p:xfrm>
          <a:off x="844560" y="1157400"/>
          <a:ext cx="7770960" cy="3570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2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4560" y="1157400"/>
                    <a:ext cx="7770960" cy="357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8" name=""/>
          <p:cNvSpPr/>
          <p:nvPr/>
        </p:nvSpPr>
        <p:spPr>
          <a:xfrm>
            <a:off x="619200" y="4057560"/>
            <a:ext cx="898560" cy="758880"/>
          </a:xfrm>
          <a:prstGeom prst="rect">
            <a:avLst/>
          </a:prstGeom>
          <a:noFill/>
          <a:ln w="28440">
            <a:solidFill>
              <a:srgbClr val="fb79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87360" y="5078520"/>
            <a:ext cx="39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Descendants(Time.[Jan], Month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511200" y="3913200"/>
            <a:ext cx="1109520" cy="1023840"/>
          </a:xfrm>
          <a:prstGeom prst="rect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387360" y="228600"/>
            <a:ext cx="7562880" cy="751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a304"/>
                </a:solidFill>
                <a:latin typeface="Arial"/>
                <a:ea typeface="굴림"/>
              </a:rPr>
              <a:t>Descendants </a:t>
            </a:r>
            <a:endParaRPr b="1" lang="en-US" sz="4800" spc="-1" strike="noStrike">
              <a:solidFill>
                <a:srgbClr val="fca304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387360" y="228600"/>
            <a:ext cx="7562880" cy="751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a304"/>
                </a:solidFill>
                <a:latin typeface="Arial"/>
                <a:ea typeface="굴림"/>
              </a:rPr>
              <a:t>The Inventory Problem</a:t>
            </a:r>
            <a:endParaRPr b="1" lang="en-US" sz="4800" spc="-1" strike="noStrike">
              <a:solidFill>
                <a:srgbClr val="fca304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380880" y="1250640"/>
            <a:ext cx="8415360" cy="439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119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Arial"/>
                <a:ea typeface="굴림"/>
              </a:rPr>
              <a:t>이전 시점의 재고 자료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898560" indent="-304920">
              <a:lnSpc>
                <a:spcPct val="80000"/>
              </a:lnSpc>
              <a:spcBef>
                <a:spcPts val="104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굴림"/>
              </a:rPr>
              <a:t>Dimensions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012680" indent="-96840">
              <a:lnSpc>
                <a:spcPct val="80000"/>
              </a:lnSpc>
              <a:spcBef>
                <a:spcPts val="901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굴림"/>
              </a:rPr>
              <a:t>Products: All Products,  Family, Category, N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012680" indent="-96840">
              <a:lnSpc>
                <a:spcPct val="80000"/>
              </a:lnSpc>
              <a:spcBef>
                <a:spcPts val="901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굴림"/>
              </a:rPr>
              <a:t>Warehouses: All, Warehous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012680" indent="-96840">
              <a:lnSpc>
                <a:spcPct val="80000"/>
              </a:lnSpc>
              <a:spcBef>
                <a:spcPts val="901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굴림"/>
              </a:rPr>
              <a:t>Time: Year, Quarter, Mon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898560" indent="-304920">
              <a:lnSpc>
                <a:spcPct val="80000"/>
              </a:lnSpc>
              <a:spcBef>
                <a:spcPts val="104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굴림"/>
              </a:rPr>
              <a:t>Measures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012680" indent="-96840">
              <a:lnSpc>
                <a:spcPct val="80000"/>
              </a:lnSpc>
              <a:spcBef>
                <a:spcPts val="901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굴림"/>
              </a:rPr>
              <a:t>Quantity (SUM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012680" indent="-96840">
              <a:lnSpc>
                <a:spcPct val="80000"/>
              </a:lnSpc>
              <a:spcBef>
                <a:spcPts val="901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굴림"/>
              </a:rPr>
              <a:t>Value (SUM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119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The problem: </a:t>
            </a:r>
            <a:r>
              <a:rPr b="1" lang="ko-KR" sz="3200" spc="-1" strike="noStrike">
                <a:solidFill>
                  <a:srgbClr val="ffffff"/>
                </a:solidFill>
                <a:latin typeface="Arial"/>
                <a:ea typeface="굴림"/>
              </a:rPr>
              <a:t>해당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measures</a:t>
            </a:r>
            <a:r>
              <a:rPr b="1" lang="ko-KR" sz="3200" spc="-1" strike="noStrike">
                <a:solidFill>
                  <a:srgbClr val="ffffff"/>
                </a:solidFill>
                <a:latin typeface="Arial"/>
                <a:ea typeface="굴림"/>
              </a:rPr>
              <a:t>는 이전시점에 대해 적당치 않을 수 있다</a:t>
            </a:r>
            <a:r>
              <a:rPr b="1" lang="ko-KR" sz="3200" spc="-1" strike="noStrike">
                <a:solidFill>
                  <a:srgbClr val="ffffff"/>
                </a:solidFill>
                <a:latin typeface="Arial"/>
                <a:ea typeface="굴림"/>
              </a:rPr>
              <a:t>.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4" name=""/>
          <p:cNvGraphicFramePr/>
          <p:nvPr/>
        </p:nvGraphicFramePr>
        <p:xfrm>
          <a:off x="1257480" y="988920"/>
          <a:ext cx="10289880" cy="55864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93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57480" y="988920"/>
                    <a:ext cx="10289880" cy="558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6" name=""/>
          <p:cNvSpPr/>
          <p:nvPr/>
        </p:nvSpPr>
        <p:spPr>
          <a:xfrm>
            <a:off x="3832560" y="398520"/>
            <a:ext cx="510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Problem: Inventory is not an additive value .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7" name="inventory" descr=""/>
          <p:cNvPicPr/>
          <p:nvPr/>
        </p:nvPicPr>
        <p:blipFill>
          <a:blip r:embed="rId4"/>
          <a:srcRect l="0" t="0" r="52088" b="67855"/>
          <a:stretch/>
        </p:blipFill>
        <p:spPr>
          <a:xfrm>
            <a:off x="6402240" y="5029200"/>
            <a:ext cx="2741760" cy="1380960"/>
          </a:xfrm>
          <a:prstGeom prst="rect">
            <a:avLst/>
          </a:prstGeom>
          <a:ln w="0">
            <a:noFill/>
          </a:ln>
        </p:spPr>
      </p:pic>
      <p:sp>
        <p:nvSpPr>
          <p:cNvPr id="938" name=""/>
          <p:cNvSpPr txBox="1"/>
          <p:nvPr/>
        </p:nvSpPr>
        <p:spPr>
          <a:xfrm>
            <a:off x="4524480" y="1255680"/>
            <a:ext cx="5904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39" name=""/>
          <p:cNvSpPr txBox="1"/>
          <p:nvPr/>
        </p:nvSpPr>
        <p:spPr>
          <a:xfrm>
            <a:off x="4465800" y="1585800"/>
            <a:ext cx="59040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40" name=""/>
          <p:cNvSpPr txBox="1"/>
          <p:nvPr/>
        </p:nvSpPr>
        <p:spPr>
          <a:xfrm>
            <a:off x="4518000" y="2730600"/>
            <a:ext cx="5904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41" name=""/>
          <p:cNvSpPr txBox="1"/>
          <p:nvPr/>
        </p:nvSpPr>
        <p:spPr>
          <a:xfrm>
            <a:off x="4500720" y="5076720"/>
            <a:ext cx="59040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42" name=""/>
          <p:cNvSpPr txBox="1"/>
          <p:nvPr/>
        </p:nvSpPr>
        <p:spPr>
          <a:xfrm>
            <a:off x="4459320" y="3906720"/>
            <a:ext cx="59040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385920" y="228240"/>
            <a:ext cx="7449840" cy="5860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a304"/>
                </a:solidFill>
                <a:latin typeface="Arial"/>
                <a:ea typeface="굴림"/>
              </a:rPr>
              <a:t>Inventory …….</a:t>
            </a:r>
            <a:endParaRPr b="1" lang="en-US" sz="3600" spc="-1" strike="noStrike">
              <a:solidFill>
                <a:srgbClr val="fca304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387360" y="228600"/>
            <a:ext cx="7562880" cy="1409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a304"/>
                </a:solidFill>
                <a:latin typeface="Arial"/>
                <a:ea typeface="굴림"/>
              </a:rPr>
              <a:t>The Business Problems…</a:t>
            </a:r>
            <a:endParaRPr b="1" lang="en-US" sz="4800" spc="-1" strike="noStrike">
              <a:solidFill>
                <a:srgbClr val="fca304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380880" y="1828800"/>
            <a:ext cx="8415360" cy="42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82480" indent="-582480">
              <a:lnSpc>
                <a:spcPct val="90000"/>
              </a:lnSpc>
              <a:spcBef>
                <a:spcPts val="1125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ffffff"/>
                </a:solidFill>
                <a:latin typeface="Arial"/>
                <a:ea typeface="굴림"/>
              </a:rPr>
              <a:t>각 기간별 평균 수량과 재고량의 적용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8248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82480" indent="-582480">
              <a:lnSpc>
                <a:spcPct val="90000"/>
              </a:lnSpc>
              <a:spcBef>
                <a:spcPts val="1125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ffffff"/>
                </a:solidFill>
                <a:latin typeface="Arial"/>
                <a:ea typeface="굴림"/>
              </a:rPr>
              <a:t>각 기간별 기초 기말 값의 적용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8248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82480" indent="-582480">
              <a:lnSpc>
                <a:spcPct val="90000"/>
              </a:lnSpc>
              <a:spcBef>
                <a:spcPts val="1125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ffffff"/>
                </a:solidFill>
                <a:latin typeface="Arial"/>
                <a:ea typeface="굴림"/>
              </a:rPr>
              <a:t>각 기간별 최고 최저 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굴림"/>
              </a:rPr>
              <a:t>Level</a:t>
            </a:r>
            <a:r>
              <a:rPr b="1" lang="ko-KR" sz="3000" spc="-1" strike="noStrike">
                <a:solidFill>
                  <a:srgbClr val="ffffff"/>
                </a:solidFill>
                <a:latin typeface="Arial"/>
                <a:ea typeface="굴림"/>
              </a:rPr>
              <a:t>을 표현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8248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82480" indent="-582480">
              <a:lnSpc>
                <a:spcPct val="90000"/>
              </a:lnSpc>
              <a:spcBef>
                <a:spcPts val="1125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ffffff"/>
                </a:solidFill>
                <a:latin typeface="Arial"/>
                <a:ea typeface="굴림"/>
              </a:rPr>
              <a:t>재고 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굴림"/>
              </a:rPr>
              <a:t>item</a:t>
            </a:r>
            <a:r>
              <a:rPr b="1" lang="ko-KR" sz="3000" spc="-1" strike="noStrike">
                <a:solidFill>
                  <a:srgbClr val="ffffff"/>
                </a:solidFill>
                <a:latin typeface="Arial"/>
                <a:ea typeface="굴림"/>
              </a:rPr>
              <a:t>의 분담량을 전체 재고량으로 처리시 문제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"/>
          <p:cNvSpPr/>
          <p:nvPr/>
        </p:nvSpPr>
        <p:spPr>
          <a:xfrm>
            <a:off x="382680" y="3994200"/>
            <a:ext cx="8286480" cy="11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굴림"/>
              </a:rPr>
              <a:t>Avg( Descendants([Time].CurrentMember,[Month]), Quantity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1618920" y="1243080"/>
            <a:ext cx="457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2800" spc="-1" strike="noStrike">
                <a:solidFill>
                  <a:srgbClr val="fca304"/>
                </a:solidFill>
                <a:latin typeface="Monotype Corsiva"/>
                <a:ea typeface="굴림"/>
              </a:rPr>
              <a:t>기간의 각월 수량 합계를 기간의 월수로 나눔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-114120" y="2165400"/>
            <a:ext cx="6541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굴림"/>
              </a:rPr>
              <a:t>Sum (</a:t>
            </a:r>
            <a:r>
              <a:rPr b="0" lang="en-US" sz="2800" spc="-1" strike="noStrike">
                <a:solidFill>
                  <a:srgbClr val="fca304"/>
                </a:solidFill>
                <a:latin typeface="Monotype Corsiva"/>
                <a:ea typeface="굴림"/>
              </a:rPr>
              <a:t>months in the period ,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굴림"/>
              </a:rPr>
              <a:t>Quantity) /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굴림"/>
              </a:rPr>
              <a:t>Count(</a:t>
            </a:r>
            <a:r>
              <a:rPr b="0" lang="en-US" sz="2800" spc="-1" strike="noStrike">
                <a:solidFill>
                  <a:srgbClr val="fca304"/>
                </a:solidFill>
                <a:latin typeface="Monotype Corsiva"/>
                <a:ea typeface="굴림"/>
              </a:rPr>
              <a:t>months in the period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389520" y="3079800"/>
            <a:ext cx="85125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굴림"/>
              </a:rPr>
              <a:t>Sum (Descendants([Time].CurrentMember,[Month])</a:t>
            </a:r>
            <a:r>
              <a:rPr b="0" lang="en-US" sz="2800" spc="-1" strike="noStrike">
                <a:solidFill>
                  <a:srgbClr val="fca304"/>
                </a:solidFill>
                <a:latin typeface="Monotype Corsiva"/>
                <a:ea typeface="굴림"/>
              </a:rPr>
              <a:t>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a304"/>
                </a:solidFill>
                <a:latin typeface="Monotype Corsiva"/>
                <a:ea typeface="굴림"/>
              </a:rPr>
              <a:t>	</a:t>
            </a:r>
            <a:r>
              <a:rPr b="0" lang="en-US" sz="2800" spc="-1" strike="noStrike">
                <a:solidFill>
                  <a:srgbClr val="fca304"/>
                </a:solidFill>
                <a:latin typeface="Monotype Corsiva"/>
                <a:ea typeface="굴림"/>
              </a:rPr>
              <a:t>	</a:t>
            </a:r>
            <a:r>
              <a:rPr b="0" lang="en-US" sz="2800" spc="-1" strike="noStrike">
                <a:solidFill>
                  <a:srgbClr val="fca304"/>
                </a:solidFill>
                <a:latin typeface="Monotype Corsiva"/>
                <a:ea typeface="굴림"/>
              </a:rPr>
              <a:t>	</a:t>
            </a:r>
            <a:r>
              <a:rPr b="0" lang="en-US" sz="2800" spc="-1" strike="noStrike">
                <a:solidFill>
                  <a:srgbClr val="fca304"/>
                </a:solidFill>
                <a:latin typeface="Monotype Corsiva"/>
                <a:ea typeface="굴림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굴림"/>
              </a:rPr>
              <a:t>Quantity) /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굴림"/>
              </a:rPr>
              <a:t>Count(Descendants([Time].CurrentMember,[Month])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387360" y="228600"/>
            <a:ext cx="7562880" cy="751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a304"/>
                </a:solidFill>
                <a:latin typeface="Arial"/>
                <a:ea typeface="굴림"/>
              </a:rPr>
              <a:t>Average Over Time</a:t>
            </a:r>
            <a:endParaRPr b="1" lang="en-US" sz="4800" spc="-1" strike="noStrike">
              <a:solidFill>
                <a:srgbClr val="fca304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387360" y="228600"/>
            <a:ext cx="7562880" cy="751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a304"/>
                </a:solidFill>
                <a:latin typeface="Arial"/>
                <a:ea typeface="굴림"/>
              </a:rPr>
              <a:t>Closing Balance</a:t>
            </a:r>
            <a:endParaRPr b="1" lang="en-US" sz="4800" spc="-1" strike="noStrike">
              <a:solidFill>
                <a:srgbClr val="fca304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>
            <a:off x="-423720" y="1251000"/>
            <a:ext cx="681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a304"/>
                </a:solidFill>
                <a:latin typeface="Monotype Corsiva"/>
                <a:ea typeface="굴림"/>
              </a:rPr>
              <a:t>Quantity of the last month in the perio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-969840" y="2165400"/>
            <a:ext cx="1098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a304"/>
                </a:solidFill>
                <a:latin typeface="Monotype Corsiva"/>
                <a:ea typeface="굴림"/>
              </a:rPr>
              <a:t>Quantity of the last month in the months contained in the perio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374040" y="3079800"/>
            <a:ext cx="6741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a304"/>
                </a:solidFill>
                <a:latin typeface="Monotype Corsiva"/>
                <a:ea typeface="굴림"/>
              </a:rPr>
              <a:t>Quantity of the last item i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a304"/>
                </a:solidFill>
                <a:latin typeface="Monotype Corsiva"/>
                <a:ea typeface="굴림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(Descendants([Time].CurrentMember, [Month]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372240" y="3994200"/>
            <a:ext cx="7561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Arial"/>
                <a:ea typeface="굴림"/>
              </a:rPr>
              <a:t>(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Measures.Quantity,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Tail(Descendants([Time].CurrentMember, [Month]),1)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75120" y="4908600"/>
            <a:ext cx="566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Arial"/>
                <a:ea typeface="굴림"/>
              </a:rPr>
              <a:t>(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Measures.Quantity,  ClosingPeriod([Month])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57" name=""/>
          <p:cNvGraphicFramePr/>
          <p:nvPr/>
        </p:nvGraphicFramePr>
        <p:xfrm>
          <a:off x="2133720" y="1092240"/>
          <a:ext cx="10293120" cy="55864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95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33720" y="1092240"/>
                    <a:ext cx="10293120" cy="558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59" name="inventory" descr=""/>
          <p:cNvPicPr/>
          <p:nvPr/>
        </p:nvPicPr>
        <p:blipFill>
          <a:blip r:embed="rId4"/>
          <a:srcRect l="0" t="0" r="52088" b="67855"/>
          <a:stretch/>
        </p:blipFill>
        <p:spPr>
          <a:xfrm>
            <a:off x="6402240" y="5029200"/>
            <a:ext cx="2741760" cy="1380960"/>
          </a:xfrm>
          <a:prstGeom prst="rect">
            <a:avLst/>
          </a:prstGeom>
          <a:ln w="0">
            <a:noFill/>
          </a:ln>
        </p:spPr>
      </p:pic>
      <p:sp>
        <p:nvSpPr>
          <p:cNvPr id="960" name=""/>
          <p:cNvSpPr/>
          <p:nvPr/>
        </p:nvSpPr>
        <p:spPr>
          <a:xfrm flipH="1" flipV="1">
            <a:off x="5790600" y="1523160"/>
            <a:ext cx="609480" cy="1219320"/>
          </a:xfrm>
          <a:custGeom>
            <a:avLst/>
            <a:gdLst>
              <a:gd name="textAreaLeft" fmla="*/ 81360 w 609480"/>
              <a:gd name="textAreaRight" fmla="*/ 528120 w 609480"/>
              <a:gd name="textAreaTop" fmla="*/ 234000 h 1219320"/>
              <a:gd name="textAreaBottom" fmla="*/ 86256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308" stAng="-5400000" swAng="-5400000"/>
                <a:lnTo>
                  <a:pt x="0" y="11132"/>
                </a:lnTo>
                <a:arcTo wR="21600" hR="8308" stAng="10800000" swAng="-2220396"/>
                <a:lnTo>
                  <a:pt x="11782" y="20692"/>
                </a:lnTo>
                <a:lnTo>
                  <a:pt x="21600" y="18028"/>
                </a:lnTo>
                <a:lnTo>
                  <a:pt x="11782" y="13548"/>
                </a:lnTo>
                <a:lnTo>
                  <a:pt x="11782" y="15708"/>
                </a:lnTo>
                <a:arcTo wR="21600" hR="8308" stAng="8579604" swAng="1992685"/>
                <a:lnTo>
                  <a:pt x="314" y="9720"/>
                </a:lnTo>
                <a:arcTo wR="21600" hR="8308" stAng="-10572289" swAng="5172289"/>
                <a:close/>
              </a:path>
              <a:path fill="darkenLess" w="21600" h="21600">
                <a:moveTo>
                  <a:pt x="21600" y="0"/>
                </a:moveTo>
                <a:arcTo wR="21600" hR="8308" stAng="-5400000" swAng="-5400000"/>
                <a:lnTo>
                  <a:pt x="0" y="8308"/>
                </a:lnTo>
                <a:arcTo wR="21600" hR="8308" stAng="10800000" swAng="-227711"/>
                <a:lnTo>
                  <a:pt x="314" y="9720"/>
                </a:lnTo>
                <a:arcTo wR="21600" hR="8308" stAng="-10572289" swAng="5172289"/>
                <a:close/>
              </a:path>
            </a:pathLst>
          </a:custGeom>
          <a:solidFill>
            <a:srgbClr val="fb796b"/>
          </a:solidFill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61" name=""/>
          <p:cNvGrpSpPr/>
          <p:nvPr/>
        </p:nvGrpSpPr>
        <p:grpSpPr>
          <a:xfrm>
            <a:off x="5181480" y="1523880"/>
            <a:ext cx="564840" cy="3904200"/>
            <a:chOff x="5181480" y="1523880"/>
            <a:chExt cx="564840" cy="3904200"/>
          </a:xfrm>
        </p:grpSpPr>
        <p:sp>
          <p:nvSpPr>
            <p:cNvPr id="962" name=""/>
            <p:cNvSpPr/>
            <p:nvPr/>
          </p:nvSpPr>
          <p:spPr>
            <a:xfrm>
              <a:off x="5182200" y="1523880"/>
              <a:ext cx="43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ff3300"/>
                  </a:solidFill>
                  <a:latin typeface="Times New Roman"/>
                  <a:ea typeface="굴림"/>
                </a:rPr>
                <a:t>5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5182200" y="2743200"/>
              <a:ext cx="43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ff3300"/>
                  </a:solidFill>
                  <a:latin typeface="Times New Roman"/>
                  <a:ea typeface="굴림"/>
                </a:rPr>
                <a:t>9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5182200" y="3886200"/>
              <a:ext cx="43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ff3300"/>
                  </a:solidFill>
                  <a:latin typeface="Times New Roman"/>
                  <a:ea typeface="굴림"/>
                </a:rPr>
                <a:t>7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5181480" y="5029200"/>
              <a:ext cx="564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ff3300"/>
                  </a:solidFill>
                  <a:latin typeface="Times New Roman"/>
                  <a:ea typeface="굴림"/>
                </a:rPr>
                <a:t>105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66" name=""/>
          <p:cNvSpPr/>
          <p:nvPr/>
        </p:nvSpPr>
        <p:spPr>
          <a:xfrm flipH="1" flipV="1">
            <a:off x="5867280" y="837360"/>
            <a:ext cx="1828800" cy="5334120"/>
          </a:xfrm>
          <a:custGeom>
            <a:avLst/>
            <a:gdLst>
              <a:gd name="textAreaLeft" fmla="*/ 244800 w 1828800"/>
              <a:gd name="textAreaRight" fmla="*/ 1584000 w 1828800"/>
              <a:gd name="textAreaTop" fmla="*/ 1150560 h 5334120"/>
              <a:gd name="textAreaBottom" fmla="*/ 3624840 h 5334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318" stAng="-5400000" swAng="-5400000"/>
                <a:lnTo>
                  <a:pt x="0" y="10019"/>
                </a:lnTo>
                <a:arcTo wR="21600" hR="9318" stAng="10800000" swAng="-3758061"/>
                <a:lnTo>
                  <a:pt x="16893" y="21376"/>
                </a:lnTo>
                <a:lnTo>
                  <a:pt x="21600" y="18987"/>
                </a:lnTo>
                <a:lnTo>
                  <a:pt x="16893" y="16149"/>
                </a:lnTo>
                <a:lnTo>
                  <a:pt x="16893" y="18412"/>
                </a:lnTo>
                <a:arcTo wR="21600" hR="9318" stAng="7041939" swAng="3702243"/>
                <a:lnTo>
                  <a:pt x="15" y="9669"/>
                </a:lnTo>
                <a:arcTo wR="21600" hR="9318" stAng="-10744182" swAng="5344182"/>
                <a:close/>
              </a:path>
              <a:path fill="darkenLess" w="21600" h="21600">
                <a:moveTo>
                  <a:pt x="21600" y="0"/>
                </a:moveTo>
                <a:arcTo wR="21600" hR="9318" stAng="-5400000" swAng="-5400000"/>
                <a:lnTo>
                  <a:pt x="0" y="9318"/>
                </a:lnTo>
                <a:arcTo wR="21600" hR="9318" stAng="10800000" swAng="-55818"/>
                <a:lnTo>
                  <a:pt x="15" y="9669"/>
                </a:lnTo>
                <a:arcTo wR="21600" hR="9318" stAng="-10744182" swAng="5344182"/>
                <a:close/>
              </a:path>
            </a:pathLst>
          </a:custGeom>
          <a:solidFill>
            <a:srgbClr val="fb796b"/>
          </a:solidFill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5183280" y="121932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6666ff"/>
                </a:solidFill>
                <a:latin typeface="Times New Roman"/>
                <a:ea typeface="굴림"/>
              </a:rPr>
              <a:t>10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2123280" y="6461280"/>
            <a:ext cx="371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Times New Roman"/>
                <a:ea typeface="굴림"/>
              </a:rPr>
              <a:t>(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굴림"/>
              </a:rPr>
              <a:t>Inventory,ClosingPeriod(Month)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387000" y="226800"/>
            <a:ext cx="7473960" cy="1190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ca304"/>
                </a:solidFill>
                <a:latin typeface="Arial"/>
                <a:ea typeface="굴림"/>
              </a:rPr>
              <a:t>Closing Period Inventory Value…</a:t>
            </a:r>
            <a:endParaRPr b="1" lang="en-US" sz="4000" spc="-1" strike="noStrike">
              <a:solidFill>
                <a:srgbClr val="fca304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431200" cy="1409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a304"/>
                </a:solidFill>
                <a:latin typeface="Arial"/>
                <a:ea typeface="굴림"/>
              </a:rPr>
              <a:t>Maximum Inventory Level In A Time Span</a:t>
            </a:r>
            <a:endParaRPr b="1" lang="en-US" sz="4800" spc="-1" strike="noStrike">
              <a:solidFill>
                <a:srgbClr val="fca304"/>
              </a:solidFill>
              <a:latin typeface="Arial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387360" y="2430000"/>
            <a:ext cx="6516720" cy="132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824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Measures.[Maximum Inventory Value]: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>
            <a:off x="382680" y="2714760"/>
            <a:ext cx="7905600" cy="32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566640" indent="-56664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-56664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Arial"/>
                <a:ea typeface="굴림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Max(Descendants(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-56664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Time.CurrentMember,Time.Month),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Measures.[Value]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-56664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7360" y="228600"/>
            <a:ext cx="7562880" cy="751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a304"/>
                </a:solidFill>
                <a:latin typeface="Arial"/>
                <a:ea typeface="굴림"/>
              </a:rPr>
              <a:t>The Business Problem</a:t>
            </a:r>
            <a:endParaRPr b="1" lang="en-US" sz="4800" spc="-1" strike="noStrike">
              <a:solidFill>
                <a:srgbClr val="fca304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2680" y="1250640"/>
            <a:ext cx="7772400" cy="44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82480" indent="-582480">
              <a:lnSpc>
                <a:spcPct val="90000"/>
              </a:lnSpc>
              <a:spcBef>
                <a:spcPts val="119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Arial"/>
                <a:ea typeface="굴림"/>
              </a:rPr>
              <a:t>의사결정자는 방대한 데이터의 정보로 부터 신속하고 의미있는 자료를 제공받고 정확한 의사 결정을 할수 있기를 원한다</a:t>
            </a:r>
            <a:r>
              <a:rPr b="1" lang="ko-KR" sz="3200" spc="-1" strike="noStrike">
                <a:solidFill>
                  <a:srgbClr val="ffffff"/>
                </a:solidFill>
                <a:latin typeface="Arial"/>
                <a:ea typeface="굴림"/>
              </a:rPr>
              <a:t>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824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Arial"/>
                <a:ea typeface="굴림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82480" indent="-582480">
              <a:lnSpc>
                <a:spcPct val="90000"/>
              </a:lnSpc>
              <a:spcBef>
                <a:spcPts val="119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Arial"/>
                <a:ea typeface="굴림"/>
              </a:rPr>
              <a:t>합계된 데이터로 모든 분석이 가능한것은 아니다</a:t>
            </a:r>
            <a:r>
              <a:rPr b="1" lang="ko-KR" sz="3200" spc="-1" strike="noStrike">
                <a:solidFill>
                  <a:srgbClr val="ffffff"/>
                </a:solidFill>
                <a:latin typeface="Arial"/>
                <a:ea typeface="굴림"/>
              </a:rPr>
              <a:t>.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41480" indent="-457200">
              <a:lnSpc>
                <a:spcPct val="90000"/>
              </a:lnSpc>
              <a:spcBef>
                <a:spcPts val="104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Arial"/>
                <a:ea typeface="굴림"/>
              </a:rPr>
              <a:t>과거 재고자료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41480" indent="-457200">
              <a:lnSpc>
                <a:spcPct val="90000"/>
              </a:lnSpc>
              <a:spcBef>
                <a:spcPts val="104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Arial"/>
                <a:ea typeface="굴림"/>
              </a:rPr>
              <a:t>성장율 등</a:t>
            </a:r>
            <a:r>
              <a:rPr b="1" lang="ko-KR" sz="2800" spc="-1" strike="noStrike">
                <a:solidFill>
                  <a:srgbClr val="ffffff"/>
                </a:solidFill>
                <a:latin typeface="Arial"/>
                <a:ea typeface="굴림"/>
              </a:rPr>
              <a:t>.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387360" y="228600"/>
            <a:ext cx="7562880" cy="751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a304"/>
                </a:solidFill>
                <a:latin typeface="Arial"/>
                <a:ea typeface="굴림"/>
              </a:rPr>
              <a:t>Relative Contribution</a:t>
            </a:r>
            <a:endParaRPr b="1" lang="en-US" sz="4800" spc="-1" strike="noStrike">
              <a:solidFill>
                <a:srgbClr val="fca304"/>
              </a:solidFill>
              <a:latin typeface="Arial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387360" y="1676160"/>
            <a:ext cx="7655040" cy="97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7636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Measures.[Value Contribution to Total]: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>
            <a:off x="382680" y="2743200"/>
            <a:ext cx="7162560" cy="274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566640" indent="-56664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Arial"/>
                <a:ea typeface="굴림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Measures.[Value] /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-56664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(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Measures.[Value]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-56664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Products.[All]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-56664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Warehouse.[All Warehouse]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387360" y="228600"/>
            <a:ext cx="7562880" cy="751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a304"/>
                </a:solidFill>
                <a:latin typeface="Arial"/>
                <a:ea typeface="굴림"/>
              </a:rPr>
              <a:t>Ranking</a:t>
            </a:r>
            <a:endParaRPr b="1" lang="en-US" sz="4800" spc="-1" strike="noStrike">
              <a:solidFill>
                <a:srgbClr val="fca304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>
            <a:off x="382680" y="1243080"/>
            <a:ext cx="664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a304"/>
                </a:solidFill>
                <a:latin typeface="Monotype Corsiva"/>
                <a:ea typeface="굴림"/>
              </a:rPr>
              <a:t>Category</a:t>
            </a:r>
            <a:r>
              <a:rPr b="0" i="1" lang="ko-KR" sz="2800" spc="-1" strike="noStrike">
                <a:solidFill>
                  <a:srgbClr val="fca304"/>
                </a:solidFill>
                <a:latin typeface="Monotype Corsiva"/>
                <a:ea typeface="굴림"/>
              </a:rPr>
              <a:t>내에서 각 상품의 판매 순위</a:t>
            </a:r>
            <a:r>
              <a:rPr b="0" lang="ko-KR" sz="2800" spc="-1" strike="noStrike">
                <a:solidFill>
                  <a:srgbClr val="fca304"/>
                </a:solidFill>
                <a:latin typeface="Monotype Corsiva"/>
                <a:ea typeface="굴림"/>
              </a:rPr>
              <a:t>(</a:t>
            </a:r>
            <a:r>
              <a:rPr b="0" lang="en-US" sz="2800" spc="-1" strike="noStrike">
                <a:solidFill>
                  <a:srgbClr val="fca304"/>
                </a:solidFill>
                <a:latin typeface="Monotype Corsiva"/>
                <a:ea typeface="굴림"/>
              </a:rPr>
              <a:t>Rank 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-718920" y="2165400"/>
            <a:ext cx="9208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굴림"/>
              </a:rPr>
              <a:t>Rank(</a:t>
            </a:r>
            <a:r>
              <a:rPr b="0" lang="en-US" sz="2800" spc="-1" strike="noStrike">
                <a:solidFill>
                  <a:srgbClr val="fca304"/>
                </a:solidFill>
                <a:latin typeface="Monotype Corsiva"/>
                <a:ea typeface="굴림"/>
              </a:rPr>
              <a:t>current product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a304"/>
                </a:solidFill>
                <a:latin typeface="Monotype Corsiva"/>
                <a:ea typeface="굴림"/>
              </a:rPr>
              <a:t>	</a:t>
            </a:r>
            <a:r>
              <a:rPr b="0" lang="en-US" sz="2800" spc="-1" strike="noStrike">
                <a:solidFill>
                  <a:srgbClr val="fca304"/>
                </a:solidFill>
                <a:latin typeface="Monotype Corsiva"/>
                <a:ea typeface="굴림"/>
              </a:rPr>
              <a:t>other products on its category ordered by sal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굴림"/>
              </a:rPr>
              <a:t>)</a:t>
            </a:r>
            <a:r>
              <a:rPr b="0" lang="en-US" sz="2800" spc="-1" strike="noStrike">
                <a:solidFill>
                  <a:srgbClr val="ffffff"/>
                </a:solidFill>
                <a:latin typeface="Monotype Corsiva"/>
                <a:ea typeface="굴림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-325440" y="3079800"/>
            <a:ext cx="8555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굴림"/>
              </a:rPr>
              <a:t>Rank(Products.CurrentMember </a:t>
            </a:r>
            <a:r>
              <a:rPr b="0" lang="en-US" sz="2800" spc="-1" strike="noStrike">
                <a:solidFill>
                  <a:srgbClr val="ffffff"/>
                </a:solidFill>
                <a:latin typeface="Monotype Corsiva"/>
                <a:ea typeface="굴림"/>
              </a:rPr>
              <a:t>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otype Corsiva"/>
                <a:ea typeface="굴림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굴림"/>
              </a:rPr>
              <a:t>Order(</a:t>
            </a:r>
            <a:r>
              <a:rPr b="0" lang="en-US" sz="2800" spc="-1" strike="noStrike">
                <a:solidFill>
                  <a:srgbClr val="fca304"/>
                </a:solidFill>
                <a:latin typeface="Monotype Corsiva"/>
                <a:ea typeface="굴림"/>
              </a:rPr>
              <a:t>other products on its category</a:t>
            </a:r>
            <a:r>
              <a:rPr b="0" lang="en-US" sz="2800" spc="-1" strike="noStrike">
                <a:solidFill>
                  <a:srgbClr val="ffffff"/>
                </a:solidFill>
                <a:latin typeface="Monotype Corsiva"/>
                <a:ea typeface="굴림"/>
              </a:rPr>
              <a:t> ,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굴림"/>
              </a:rPr>
              <a:t>Sales)</a:t>
            </a:r>
            <a:r>
              <a:rPr b="0" lang="en-US" sz="2800" spc="-1" strike="noStrike">
                <a:solidFill>
                  <a:srgbClr val="ffffff"/>
                </a:solidFill>
                <a:latin typeface="Monotype Corsiva"/>
                <a:ea typeface="굴림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382680" y="3994200"/>
            <a:ext cx="87613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굴림"/>
              </a:rPr>
              <a:t>Rank(Products.CurrentMember </a:t>
            </a:r>
            <a:r>
              <a:rPr b="0" lang="en-US" sz="2800" spc="-1" strike="noStrike">
                <a:solidFill>
                  <a:srgbClr val="ffffff"/>
                </a:solidFill>
                <a:latin typeface="Monotype Corsiva"/>
                <a:ea typeface="굴림"/>
              </a:rPr>
              <a:t>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otype Corsiva"/>
                <a:ea typeface="굴림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굴림"/>
              </a:rPr>
              <a:t>Order(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굴림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굴림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굴림"/>
              </a:rPr>
              <a:t>Products.CurrentMember.Parent.Childre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굴림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굴림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굴림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굴림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굴림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Monotype Corsiva"/>
                <a:ea typeface="굴림"/>
              </a:rPr>
              <a:t>,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굴림"/>
              </a:rPr>
              <a:t>Sales))</a:t>
            </a:r>
            <a:r>
              <a:rPr b="0" lang="en-US" sz="2800" spc="-1" strike="noStrike">
                <a:solidFill>
                  <a:srgbClr val="ffffff"/>
                </a:solidFill>
                <a:latin typeface="Monotype Corsiva"/>
                <a:ea typeface="굴림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382680" y="380880"/>
            <a:ext cx="7772400" cy="751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a304"/>
                </a:solidFill>
                <a:latin typeface="Arial"/>
                <a:ea typeface="굴림"/>
              </a:rPr>
              <a:t>Questions &amp; Answer</a:t>
            </a:r>
            <a:endParaRPr b="1" lang="en-US" sz="4800" spc="-1" strike="noStrike">
              <a:solidFill>
                <a:srgbClr val="fca304"/>
              </a:solidFill>
              <a:latin typeface="Arial"/>
            </a:endParaRPr>
          </a:p>
        </p:txBody>
      </p:sp>
      <p:pic>
        <p:nvPicPr>
          <p:cNvPr id="982" name="" descr=""/>
          <p:cNvPicPr/>
          <p:nvPr/>
        </p:nvPicPr>
        <p:blipFill>
          <a:blip r:embed="rId2"/>
          <a:stretch/>
        </p:blipFill>
        <p:spPr>
          <a:xfrm>
            <a:off x="2101680" y="1768320"/>
            <a:ext cx="4962600" cy="2654280"/>
          </a:xfrm>
          <a:prstGeom prst="rect">
            <a:avLst/>
          </a:prstGeom>
          <a:ln w="0">
            <a:noFill/>
          </a:ln>
        </p:spPr>
      </p:pic>
      <p:sp>
        <p:nvSpPr>
          <p:cNvPr id="983" name=""/>
          <p:cNvSpPr/>
          <p:nvPr/>
        </p:nvSpPr>
        <p:spPr>
          <a:xfrm>
            <a:off x="2209680" y="4632480"/>
            <a:ext cx="5502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ca304"/>
                </a:solidFill>
                <a:latin typeface="Arial"/>
                <a:ea typeface="굴림"/>
              </a:rPr>
              <a:t>WWW.VBSQL.COM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trips dir="rd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4" name="signout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5" name=""/>
          <p:cNvSpPr/>
          <p:nvPr/>
        </p:nvSpPr>
        <p:spPr>
          <a:xfrm>
            <a:off x="0" y="2647800"/>
            <a:ext cx="9144000" cy="779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089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500" spc="-1" strike="noStrike">
                <a:solidFill>
                  <a:srgbClr val="ffffff"/>
                </a:solidFill>
                <a:latin typeface="굴림"/>
                <a:ea typeface="굴림"/>
              </a:rPr>
              <a:t>Where do you want to go today?</a:t>
            </a:r>
            <a:endParaRPr b="0" lang="en-US" sz="45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86" name="ddlogo" descr=""/>
          <p:cNvPicPr/>
          <p:nvPr/>
        </p:nvPicPr>
        <p:blipFill>
          <a:blip r:embed="rId3"/>
          <a:stretch/>
        </p:blipFill>
        <p:spPr>
          <a:xfrm>
            <a:off x="6438960" y="5657760"/>
            <a:ext cx="2419200" cy="90972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7360" y="228600"/>
            <a:ext cx="7562880" cy="751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a304"/>
                </a:solidFill>
                <a:latin typeface="Arial"/>
                <a:ea typeface="굴림"/>
              </a:rPr>
              <a:t>The Microsoft Solution</a:t>
            </a:r>
            <a:endParaRPr b="1" lang="en-US" sz="4800" spc="-1" strike="noStrike">
              <a:solidFill>
                <a:srgbClr val="fca304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2680" y="1251000"/>
            <a:ext cx="77724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82480" indent="-582480">
              <a:lnSpc>
                <a:spcPct val="90000"/>
              </a:lnSpc>
              <a:spcBef>
                <a:spcPts val="119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Extend the Data Services with OLAP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41480" indent="-457200">
              <a:lnSpc>
                <a:spcPct val="90000"/>
              </a:lnSpc>
              <a:spcBef>
                <a:spcPts val="104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굴림"/>
              </a:rPr>
              <a:t>Faster queri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41480" indent="-457200">
              <a:lnSpc>
                <a:spcPct val="90000"/>
              </a:lnSpc>
              <a:spcBef>
                <a:spcPts val="104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굴림"/>
              </a:rPr>
              <a:t>Consistent informa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82480" indent="-582480">
              <a:lnSpc>
                <a:spcPct val="90000"/>
              </a:lnSpc>
              <a:spcBef>
                <a:spcPts val="119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Arial"/>
                <a:ea typeface="굴림"/>
              </a:rPr>
              <a:t>의사결정을 위한 복잡한 질의는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MDX</a:t>
            </a:r>
            <a:r>
              <a:rPr b="1" lang="ko-KR" sz="3200" spc="-1" strike="noStrike">
                <a:solidFill>
                  <a:srgbClr val="ffffff"/>
                </a:solidFill>
                <a:latin typeface="Arial"/>
                <a:ea typeface="굴림"/>
              </a:rPr>
              <a:t>를 통해 해결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41480" indent="-457200">
              <a:lnSpc>
                <a:spcPct val="90000"/>
              </a:lnSpc>
              <a:spcBef>
                <a:spcPts val="104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Arial"/>
                <a:ea typeface="굴림"/>
              </a:rPr>
              <a:t>복잡한 공식을 해결하기 위한 다양한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굴림"/>
              </a:rPr>
              <a:t>Function</a:t>
            </a:r>
            <a:r>
              <a:rPr b="1" lang="ko-KR" sz="2800" spc="-1" strike="noStrike">
                <a:solidFill>
                  <a:srgbClr val="ffffff"/>
                </a:solidFill>
                <a:latin typeface="Arial"/>
                <a:ea typeface="굴림"/>
              </a:rPr>
              <a:t>의 제공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41480" indent="-457200">
              <a:lnSpc>
                <a:spcPct val="90000"/>
              </a:lnSpc>
              <a:spcBef>
                <a:spcPts val="104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Arial"/>
                <a:ea typeface="굴림"/>
              </a:rPr>
              <a:t>편리성 제공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1245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a304"/>
                </a:solidFill>
                <a:latin typeface="Arial"/>
                <a:ea typeface="굴림"/>
              </a:rPr>
              <a:t>Windows DNA</a:t>
            </a:r>
            <a:br>
              <a:rPr sz="4800"/>
            </a:br>
            <a:r>
              <a:rPr b="1" lang="en-US" sz="3600" spc="-1" strike="noStrike">
                <a:solidFill>
                  <a:srgbClr val="00e9e4"/>
                </a:solidFill>
                <a:latin typeface="Arial"/>
                <a:ea typeface="굴림"/>
              </a:rPr>
              <a:t>The Development Model for Windows</a:t>
            </a:r>
            <a:endParaRPr b="1" lang="en-US" sz="3600" spc="-1" strike="noStrike">
              <a:solidFill>
                <a:srgbClr val="fca304"/>
              </a:solidFill>
              <a:latin typeface="Arial"/>
            </a:endParaRPr>
          </a:p>
        </p:txBody>
      </p:sp>
      <p:pic>
        <p:nvPicPr>
          <p:cNvPr id="102" name="top" descr=""/>
          <p:cNvPicPr/>
          <p:nvPr/>
        </p:nvPicPr>
        <p:blipFill>
          <a:blip r:embed="rId2"/>
          <a:srcRect l="15790" t="28339" r="7370" b="0"/>
          <a:stretch/>
        </p:blipFill>
        <p:spPr>
          <a:xfrm>
            <a:off x="1395360" y="2352600"/>
            <a:ext cx="6454800" cy="380196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7070040" y="3069720"/>
            <a:ext cx="155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External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Applicatio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272280" y="2569320"/>
            <a:ext cx="196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Legacy System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03880" y="2074320"/>
            <a:ext cx="132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Databas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25320" y="3268080"/>
            <a:ext cx="81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Thin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Cli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804600" y="4773240"/>
            <a:ext cx="81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Rich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Cli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81960" cy="1245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a304"/>
                </a:solidFill>
                <a:latin typeface="Arial"/>
                <a:ea typeface="굴림"/>
              </a:rPr>
              <a:t>Windows DNA</a:t>
            </a:r>
            <a:br>
              <a:rPr sz="4800"/>
            </a:br>
            <a:r>
              <a:rPr b="1" lang="en-US" sz="3600" spc="-1" strike="noStrike">
                <a:solidFill>
                  <a:srgbClr val="00e9e4"/>
                </a:solidFill>
                <a:latin typeface="Arial"/>
                <a:ea typeface="굴림"/>
              </a:rPr>
              <a:t>The Development Model for Windows</a:t>
            </a:r>
            <a:endParaRPr b="1" lang="en-US" sz="3600" spc="-1" strike="noStrike">
              <a:solidFill>
                <a:srgbClr val="fca304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82680" y="1525320"/>
            <a:ext cx="8456400" cy="35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82480" indent="-582480">
              <a:lnSpc>
                <a:spcPct val="90000"/>
              </a:lnSpc>
              <a:spcBef>
                <a:spcPts val="104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Arial"/>
                <a:ea typeface="굴림"/>
              </a:rPr>
              <a:t>분산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굴림"/>
              </a:rPr>
              <a:t>computing</a:t>
            </a:r>
            <a:r>
              <a:rPr b="1" lang="ko-KR" sz="2800" spc="-1" strike="noStrike">
                <a:solidFill>
                  <a:srgbClr val="ffffff"/>
                </a:solidFill>
                <a:latin typeface="Arial"/>
                <a:ea typeface="굴림"/>
              </a:rPr>
              <a:t>의 단순화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82480" indent="-582480">
              <a:lnSpc>
                <a:spcPct val="90000"/>
              </a:lnSpc>
              <a:spcBef>
                <a:spcPts val="104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Arial"/>
                <a:ea typeface="굴림"/>
              </a:rPr>
              <a:t>분산된 계층간의 통합되고 혁신적인 상호 접근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82480" indent="-582480">
              <a:lnSpc>
                <a:spcPct val="90000"/>
              </a:lnSpc>
              <a:spcBef>
                <a:spcPts val="104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Arial"/>
                <a:ea typeface="굴림"/>
              </a:rPr>
              <a:t>여러 계층에서 같은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굴림"/>
              </a:rPr>
              <a:t>object model</a:t>
            </a:r>
            <a:r>
              <a:rPr b="1" lang="ko-KR" sz="2800" spc="-1" strike="noStrike">
                <a:solidFill>
                  <a:srgbClr val="ffffff"/>
                </a:solidFill>
                <a:latin typeface="Arial"/>
                <a:ea typeface="굴림"/>
              </a:rPr>
              <a:t>의 사용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82480" indent="-582480">
              <a:lnSpc>
                <a:spcPct val="90000"/>
              </a:lnSpc>
              <a:spcBef>
                <a:spcPts val="104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Arial"/>
                <a:ea typeface="굴림"/>
              </a:rPr>
              <a:t>유용하고 다양한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굴림"/>
              </a:rPr>
              <a:t>Tool</a:t>
            </a:r>
            <a:r>
              <a:rPr b="1" lang="ko-KR" sz="2800" spc="-1" strike="noStrike">
                <a:solidFill>
                  <a:srgbClr val="ffffff"/>
                </a:solidFill>
                <a:latin typeface="Arial"/>
                <a:ea typeface="굴림"/>
              </a:rPr>
              <a:t>들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82480" indent="-582480">
              <a:lnSpc>
                <a:spcPct val="90000"/>
              </a:lnSpc>
              <a:spcBef>
                <a:spcPts val="104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굴림"/>
              </a:rPr>
              <a:t>Language</a:t>
            </a:r>
            <a:r>
              <a:rPr b="1" lang="ko-KR" sz="2800" spc="-1" strike="noStrike">
                <a:solidFill>
                  <a:srgbClr val="ffffff"/>
                </a:solidFill>
                <a:latin typeface="Arial"/>
                <a:ea typeface="굴림"/>
              </a:rPr>
              <a:t>의 혼합 사용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82480" indent="-582480">
              <a:lnSpc>
                <a:spcPct val="90000"/>
              </a:lnSpc>
              <a:spcBef>
                <a:spcPts val="104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Arial"/>
                <a:ea typeface="굴림"/>
              </a:rPr>
              <a:t>전체적인 접근방법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824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굴림"/>
              </a:rPr>
              <a:t> 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굴림"/>
              </a:rPr>
              <a:t>(Holistic approch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top%20(2)" descr=""/>
          <p:cNvPicPr/>
          <p:nvPr/>
        </p:nvPicPr>
        <p:blipFill>
          <a:blip r:embed="rId2"/>
          <a:srcRect l="14517" t="27055" r="6843" b="0"/>
          <a:stretch/>
        </p:blipFill>
        <p:spPr>
          <a:xfrm>
            <a:off x="4552920" y="3807000"/>
            <a:ext cx="4294080" cy="251604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topdata" descr=""/>
          <p:cNvPicPr/>
          <p:nvPr/>
        </p:nvPicPr>
        <p:blipFill>
          <a:blip r:embed="rId2"/>
          <a:stretch/>
        </p:blipFill>
        <p:spPr>
          <a:xfrm>
            <a:off x="6473880" y="138240"/>
            <a:ext cx="2381040" cy="139068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81960" cy="1245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a304"/>
                </a:solidFill>
                <a:latin typeface="Arial"/>
                <a:ea typeface="굴림"/>
              </a:rPr>
              <a:t>Windows DNA</a:t>
            </a:r>
            <a:br>
              <a:rPr sz="4800"/>
            </a:br>
            <a:r>
              <a:rPr b="1" lang="en-US" sz="3600" spc="-1" strike="noStrike">
                <a:solidFill>
                  <a:srgbClr val="00e9e4"/>
                </a:solidFill>
                <a:latin typeface="Arial"/>
                <a:ea typeface="굴림"/>
              </a:rPr>
              <a:t>Data Services</a:t>
            </a:r>
            <a:endParaRPr b="1" lang="en-US" sz="3600" spc="-1" strike="noStrike">
              <a:solidFill>
                <a:srgbClr val="fca304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7360" y="1887120"/>
            <a:ext cx="7772400" cy="17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82480" indent="-582480">
              <a:lnSpc>
                <a:spcPct val="80000"/>
              </a:lnSpc>
              <a:spcBef>
                <a:spcPts val="104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굴림"/>
              </a:rPr>
              <a:t>ADO:  </a:t>
            </a:r>
            <a:r>
              <a:rPr b="1" lang="ko-KR" sz="2800" spc="-1" strike="noStrike">
                <a:solidFill>
                  <a:srgbClr val="ffffff"/>
                </a:solidFill>
                <a:latin typeface="Arial"/>
                <a:ea typeface="굴림"/>
              </a:rPr>
              <a:t>통일되고 단순한 접근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82480" indent="-582480">
              <a:lnSpc>
                <a:spcPct val="80000"/>
              </a:lnSpc>
              <a:spcBef>
                <a:spcPts val="104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굴림"/>
              </a:rPr>
              <a:t>OLE DB:  universal data provide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82480" indent="-582480">
              <a:lnSpc>
                <a:spcPct val="80000"/>
              </a:lnSpc>
              <a:spcBef>
                <a:spcPts val="104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굴림"/>
              </a:rPr>
              <a:t>XML: standards-based data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굴림"/>
              </a:rPr>
              <a:t>representation and modifica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1143000" y="1981080"/>
            <a:ext cx="7707600" cy="4674960"/>
            <a:chOff x="1143000" y="1981080"/>
            <a:chExt cx="7707600" cy="4674960"/>
          </a:xfrm>
        </p:grpSpPr>
        <p:pic>
          <p:nvPicPr>
            <p:cNvPr id="115" name="data" descr=""/>
            <p:cNvPicPr/>
            <p:nvPr/>
          </p:nvPicPr>
          <p:blipFill>
            <a:blip r:embed="rId3"/>
            <a:stretch/>
          </p:blipFill>
          <p:spPr>
            <a:xfrm>
              <a:off x="1143000" y="1981080"/>
              <a:ext cx="7326360" cy="467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"/>
            <p:cNvSpPr/>
            <p:nvPr/>
          </p:nvSpPr>
          <p:spPr>
            <a:xfrm>
              <a:off x="7397280" y="2237040"/>
              <a:ext cx="1453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굴림"/>
                </a:rPr>
                <a:t>Mainfram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60920" y="2962800"/>
              <a:ext cx="1299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굴림"/>
                </a:rPr>
                <a:t>Directory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297560" y="3704040"/>
              <a:ext cx="111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굴림"/>
                </a:rPr>
                <a:t>RDBM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244640" y="4256280"/>
              <a:ext cx="15094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굴림"/>
                </a:rPr>
                <a:t>Email &amp;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굴림"/>
                </a:rPr>
                <a:t>messaging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151400" y="4982040"/>
              <a:ext cx="156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굴림"/>
                </a:rPr>
                <a:t>File system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850200" y="4835880"/>
              <a:ext cx="857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굴림"/>
                </a:rPr>
                <a:t>ADO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741840" y="5364360"/>
              <a:ext cx="1331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굴림"/>
                </a:rPr>
                <a:t>OLE DB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889360" y="5060520"/>
              <a:ext cx="98892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686480" y="5052600"/>
              <a:ext cx="69048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362560" y="4485960"/>
              <a:ext cx="0" cy="5936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056040" y="5616360"/>
              <a:ext cx="7398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063960" y="5424120"/>
              <a:ext cx="0" cy="2113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014800" y="5595840"/>
              <a:ext cx="5670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589720" y="4741560"/>
              <a:ext cx="0" cy="8780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909960" y="3476880"/>
              <a:ext cx="82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굴림"/>
                </a:rPr>
                <a:t>XML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498840" y="3693960"/>
              <a:ext cx="46692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H="1">
              <a:off x="5802120" y="3678120"/>
              <a:ext cx="4680" cy="3301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670280" y="3684240"/>
              <a:ext cx="111924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503520" y="3688920"/>
              <a:ext cx="0" cy="8780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12-24T22:02:54Z</dcterms:created>
  <dc:creator>Ellen Moos</dc:creator>
  <dc:description/>
  <dc:language>en-US</dc:language>
  <cp:lastModifiedBy>Woo Choul Woong</cp:lastModifiedBy>
  <cp:lastPrinted>1999-06-07T20:17:19Z</cp:lastPrinted>
  <dcterms:modified xsi:type="dcterms:W3CDTF">1999-10-20T02:35:28Z</dcterms:modified>
  <cp:revision>293</cp:revision>
  <dc:subject/>
  <dc:title>Slide Title</dc:title>
</cp:coreProperties>
</file>