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239-C9C7-4215-89BE-325CA2E6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E7F-0C3A-46E1-9B78-9604F62D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9103-DD85-4471-82E0-21C06DD2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5BF1-A9AD-4810-AE7A-9C242C29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3F2B-BB0A-46CC-A519-4E172ADB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4FD8-B69B-48C1-8BC5-02D7E967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BF1D-CBA9-4C0F-A7B7-7C2D17B8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AE1B-4121-4AD8-B3F1-994DBD1A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5762-B73B-4BF5-8EC2-FA6852AF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293D-3E7C-4E81-9605-8EC03184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C7C4-F0B0-4B27-BA1F-5217600D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D5AB-9CD6-445E-A537-04EDDACF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59F7-26D0-4FB5-804A-C8205892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E926-F847-49D4-B434-A2C2EA19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6D59-6F12-4BC4-870A-15C54DA6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D3A0-8E01-40C5-908F-42ECED89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7BC8-5D2D-4E76-8C03-B806FA2F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234-094F-4F4F-8A7D-E9050D45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89A-E715-4089-A7A9-B1968CE5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2403-2966-4A69-BCBB-DAF80250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CBF7-CF7E-4D3F-828A-A5997DDB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EA9C-A0EE-453C-8CE4-65744603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2E7-D117-4820-8869-D39E78D2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92A-A642-4E21-B25A-A2C92E65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9DAC-A71F-4986-BD83-6168610AF89E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8664-6CD8-4056-BCDE-B75916C12E99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F060-2C4D-4EB2-9179-06049F566B06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0EA0-29D1-4037-BFC1-FAF0C0A832B7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Chapter 8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구조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5029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886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니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195-BED7-4FFD-A949-3E073668E22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F805A-FC95-4C5B-8AF3-6EB2B71576C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8_3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782040" cy="57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5A04-1ED0-46CC-941E-D767B00296C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E7DE4-7A48-405B-AF7E-4760C1EBDB1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대상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DBMS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DBMS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기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표준 관계형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BMS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설비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문적인 데이터 추출 도구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데이터 접근 도구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관계형 조회 사용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관계형 데이터의 다차원 시각을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주문식 사용자 인터페이스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특수 목적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SS/EIS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용자 인터페이스 사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설계시 세가지 결정적인 문제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E6E-FAD2-4D89-8B86-32C4B074D8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16C0E-7237-48BA-A2A3-D166F1355F8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대상 데이터베이스로서의 종래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RDB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범용 데이터 접근 도구들을 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근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복잡한 조회와 분석 기능을 지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기 위한 추가적인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복제 서비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병렬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최적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트맵 색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색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렬 및 적재 시간의 단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저가 최적화 프로그램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조회 성능 최적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racle 7.3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ybase System 1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Q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속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5F8D-E98A-4CA3-9A01-FA4BAE6FE1F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DCCB9-0F74-44E9-A29C-049E5F41178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자산권이 있는 대상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분명한 사업적 명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응용 프로그램을 위해 중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복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기능들 사이의 긴밀한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산권 데이터웨어하우징 도구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온라인 조회에 신속한 반응을 제공하기 위해 특별히 설계된 다중 플랫폼 엔진을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파일 세분화와 분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장된 절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식 데이터웨어하우징 기능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반복 조회 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Q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3F1-E086-4B54-AD27-135F41FC05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46798-6648-4A15-86F4-53C6A203C55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추출과 관리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및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필요한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문적인 데이터 추출 도구들이 필요한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두 기능을 보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의해 제공되는 능력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변환이라는 전문화된 도구들로 보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변환 도구의 두 가지 주요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oint-and-clic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식 인터페이스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리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재조정을 수행하는 프로그램을 자동으로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75C-7F36-435D-AB87-497E84CC1CD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95140-D3B3-48B5-B944-E933E50F487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메타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을 설명하는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들은 소스 데이터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형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형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대상 데이터를 생성하기 위해 소스 데이터에 적용되었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변환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데이터에서 이루어진 변경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상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AS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에 의해 생성된 정보 모델을 포함 가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D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터페이스를 사용하여 반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9EC0-92B5-4D8A-96F0-8D7381847C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A943C-A99A-4C1F-A5F2-F544F1DE92C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위 데이터 접근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어떤 전위 도구들이 적합한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관계형 데이터 접근 도구를 사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수 목적의 다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SS/EIS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가 필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계형 조회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이 관계형 데이터에 매우 편리하게 접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도움없이 조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고서 및 그래픽 프리젠테이션을 지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산업 표준 사용자 인터페이스의 지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든 표준 플랫폼으로의 이주 가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34B-A211-4917-A32E-8DE8C9555BA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3EC6A-E6F2-435C-B399-2385F795FFF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관계형 데이터의 다차원 시각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베이스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차원에서 관계형 데이터를 분석할 수 있는 능력을 부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지원없이 다차원 데이터 분석을 수행할 수 있는 능력을 부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CAE-2844-4F8B-A2DE-1007ECD7A9E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C2221-676A-4A84-BC26-EEC48BDA256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SS/EI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급 다차원 데이터 분석을 위해 사용되는 좀더 복잡한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SS/EIS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재무 보고와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업 계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ine-of-business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익성 보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 예산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보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C1D0-68B9-439E-A70F-043E7880DAD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48887-592C-42BD-947A-6C495F1526F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클라이언트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/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서버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들의 특정 요건을 만족하는 주문식 의사 결정 지원 응용 프로그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파워소프트 사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werBui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이 간편한 그래픽 사용자 인터페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UI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걸쳐 공통된 모양과 느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한 데이터베이스 접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가 조정 가능한 온라인 도움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광범위한 멀티미디어 응용 프로그램을 지원하기 위한 확장성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스프레드시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워드 프로세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계 패키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F7B4-7BA0-4BC4-AD3F-557A6B8542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EF04E-92CE-4C02-94BE-BA9492BA97F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적 사업 개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목표를 만족시키는 강력한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서비스 개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처리 비용 절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을 쉽게 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 조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관리자들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73%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 안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 시스템에 대한 투자 보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패키지를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들을 전위에 배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재정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y D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CA3-2583-4D5F-9E5D-66FE2A0DC9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9B39E-2187-42B2-8C1F-26154BBBF79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접근 도구의 선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쉬운 사용과 탄탄한 기능에 대한 요건에 따라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 편이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oint-and-clic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식 인터페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중 문서 인터페이스 프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아이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움말 기능과 같은 일련의 일상적인 기능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적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어떤 조회 도구를 사용할 것인지에 따라 결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식 의사 결정 지원 응용 프로그램 개발 필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/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D0F8-6DC1-4D6A-9EDD-7E5365929A6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7FBFD-974B-44D9-9C83-A977D9A26F8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현 옵션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의 구현시 구조적 옵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인프레임 응용 프로그램 리호스트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에서 메인프레임을 서버로 사용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기업 정보 구조 구축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0A8-D7C3-4EB0-975A-676312D822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2BC2C-EAA1-4B11-BE0D-25890EE7061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메인프레임 응용 프로그램 리호스트 하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코드를 저가 서버로 이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응용 프로그램들을 훨씬 더 싼 비용의 마이크로컴퓨터 기반 서버로 이동시키는 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 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UNIX(Solaris), Windows 2000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호스팅 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icroFocus COBO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환경 구축에 매력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응용 프로그램과 서비스를 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코드가 앞으로 수년 동안 사용 예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호스팅은 비용을 줄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148-84B8-4DBB-9FC0-DAC7AEBF11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D17C1-62AF-44E4-9697-58ECD0FB6DF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서버로서의 메인프레임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층 구조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접근 방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2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ier architect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후위 서버 구성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인프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클라이언트 구성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반 응용 프로그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r>
              <a:rPr b="0" lang="ko-KR" sz="2000" spc="-1" strike="noStrike">
                <a:solidFill>
                  <a:srgbClr val="000099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기존 메인프레임 시스템의 복잡성을 감추는 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S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Visual 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이베이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파워소프트 사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owerBuil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볼랜드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lph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8-1: 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데이터 웨어하우징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데이터베이스 서버처럼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이 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t-client”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시스템의 개발을 부추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41BB-C915-433C-B4CD-9BC660738D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E512E-E8D8-41B5-B16F-75ABD111B6F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8_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229600" cy="568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7AC3-0AC9-400D-B8C4-0211BD4E11B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DA92F-7929-44C5-ABB4-A65AFD11A62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업 정보 구조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3-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ier architectur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을 위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기업 정보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에 있는 소스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속 데이터베이스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대상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arget) DB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와 같은 조직 전체 공유 데이터와 업무 규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래픽 지향적인 최종 사용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C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orks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합한” 데이터 웨어하우징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시 일련의 대안 데이터 웨어하우징 구조를 조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요건을 만족하는 구조 선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603-EB29-428D-BD4A-DCB8C3C884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04282-D934-4E1F-B94C-D0AFDD61C97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8_2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8077320" cy="577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3234-B80E-4935-B81B-48A2220BA46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8F492-7322-434C-901C-73AE8E54198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구성요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8-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에 있는 소스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및 변환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링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중앙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대상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위 데이터 접근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8EB-D6AB-4166-A652-97F00DE4B7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D1255-7887-4397-9A17-01825D68570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Jong Soo Park</cp:lastModifiedBy>
  <cp:lastPrinted>1999-09-10T20:38:56Z</cp:lastPrinted>
  <dcterms:modified xsi:type="dcterms:W3CDTF">2002-05-27T23:56:13Z</dcterms:modified>
  <cp:revision>278</cp:revision>
  <dc:subject/>
  <dc:title>No Slide Title</dc:title>
</cp:coreProperties>
</file>