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48FB-2E0C-4E11-B097-23236FF30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07D4-E2F3-4A10-BF50-BC98DCF1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C8A4-032D-411D-A853-392E6D70D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2BD0-C97D-4086-9973-6FF774632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81C6-0964-4F8A-8A34-1C23958E9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4F32-CE0B-42F8-8275-B3FD8A6B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A214-85E7-47D5-A51B-FEE664E2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9441-2657-4AB9-A479-3827B7A1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27F2-2D9D-45CC-BF5D-BB7DCCFD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D224-40B3-4B14-811C-A9CD4217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BA21-C8AB-497F-9B44-F48EC24C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16EE-D706-4E0C-BDCE-C9FE3901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6B51-B6D5-44A1-81D5-6D4AEE41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F581-4E64-4264-8099-6A6EB667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4B11-A316-4915-9EB6-7F67CA1F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5E75-2BD5-47CF-BA7A-A6F208ABD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1A11-87E1-4395-A6E7-73D3DC6F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FA0F-795B-4691-A311-E80B0311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7E35-C70F-4E65-9147-CE1D64A5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08AE-60A3-4496-AE33-8CA58079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963B-70A0-4B93-B0C6-6C602F92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7B76-0ABA-42D0-8467-4CFAC39F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0CA4-26FD-4DAC-9E25-A893A07F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177C-78E0-4324-A063-36DF4516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9397-3D6D-4FC7-B3B7-92659CA422B3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0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0122-4D9C-4702-942B-EC5C1A6F5002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ACE1-1454-44D3-8FEA-FF5AE4EF4B8F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0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0B8C-FEDE-453A-8705-1ED740F2C7E8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6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의 관리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0A57-4C8E-4A62-A453-70A6024C274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BC25EA-4B62-4E82-9516-ECAC6F970EE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ecur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어플리케이션의 최소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퍼포먼스의 최적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 축소 방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보안 계층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ecurity hierarchy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설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직별 보안 관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품목별 보안 관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C634-813F-4E88-BC8F-AB2087A8DB0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DC3C0E-97BD-491B-951D-FCA972FA58B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의 관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추출과 로드의 자동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요약과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ummary process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자동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보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C285-B5C9-45B0-B2FE-6799FA7AB35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AA4A31-B19D-4803-8884-F72ADCE2B60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의 추출과 로드의 자동화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에서 데이터를 추출하는 과정이 복잡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여러 문제점이 발생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련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과정을 자동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xtraction, Transformation, Transpor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필요 시점에 원하는 데이터를 가져온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가 정확히 반영되어 원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erformance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무결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 integrity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 보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97CC-4A91-46A0-81F5-3AB42F18FB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59ED94-4B8E-4C41-ABBB-4B1996D51E6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추출을 자동화하는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em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추출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장시간의 작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상적인 작업인지를 통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작업 진행 상화 확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위한 필요 정보를 메타 테이블에 보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0942-96AB-416E-B589-CE063409FC9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E5485C-9A96-4A27-9403-29B0BE64B5B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구축 내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제 영역별 필요 작업 정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필요 작업별로 모듈화 하는 것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TT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자동화 첫걸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예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수주 사실 테이블에 대한 데이터를 추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월별 테이블 생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월별 테이블 삭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일별 증분 데이터 반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제약 사항 추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erformance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인 추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각 모듈별 프로그램 작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job queue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에 등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2B31-74DA-4C95-9E48-AF3FC1C71E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2BFC26-81AC-4D89-8055-245DE7F756D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2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ummary process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자동화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구축하는 목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원하는 시점에 원하는 데이터를 빠르게 제공함으로써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의사결정을 지원하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시간이 경과함에 따라 데이터 양이 증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실적으로 대량의 데이터를 온라인으로 처리하는 것은 불가능하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본적인 데이터 양이 줄어들면 가능하다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리하는 데이터의 크기를 줄이는 요약기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은 데이터 무결성 문제를 야기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erformanc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위해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요약 테이블을 자동 생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관리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BC42-D697-477F-9C71-027C4678E94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C2F1F7-EEEC-4C05-AA70-6838B64C2DC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요약 테이블 관리의 요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체 시스템에서 데이터의 정합성을 보장하기는 아주 어렵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문제점 해결을 위한 기본 개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 생성에 대한 부담 감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 삭제에 대한 부담 감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 생성의 최적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의 무결성 보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D866-4B71-471D-ABE8-FED3835A61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B86587-5A59-4AD8-ADDC-48B34E78A1C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요약 관리를 위한 메타 데이터 설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신속 정확한 요약 과정을 위하여 별도의 메타 데이터 설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타 데이터는 데이터의 일치성 보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효과적 업데이트 및 확장성 보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요약 메타 데이터 설계에 대한 가장 기본적인 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aste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생성 일자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반영 일자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요약 생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QL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C7F6-0903-4AE6-89FD-CB426ECFE8E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D56026-A87F-4CC9-98F9-C9F1AD926F0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3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와 보안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산출되는 데이터는 의사결정의 토대가 되는 기본 정보이므로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누출 방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효과적인 의사결정 정보의 산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이에 대한 보안도 중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용자는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한정된 범위 내에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데이터를 이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1CEB-548B-4D1A-BC88-72854B869FD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726C70-0A89-489F-9B53-E13AD4336C5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5-14T03:38:49Z</dcterms:modified>
  <cp:revision>232</cp:revision>
  <dc:subject/>
  <dc:title>제6장 데이터 웨어하우스의 관리</dc:title>
</cp:coreProperties>
</file>