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844-DC27-4004-A379-6A9E7FF8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B5B-5F4A-4D59-B84E-6257E3DE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208-EF1D-4ADA-92AE-07A7EB2B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2F5-AA03-48AF-965E-05F485CE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6D85-532D-4367-B5A1-94344DAE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9F0E-E418-4CFE-BDBF-9B81F158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413E-59C2-4425-99CE-3250286C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0CFC-D7F0-46CD-A2BF-69ACD817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F5E7-A765-4C3F-9B19-B48F9105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A939-A8E0-4E11-9BBD-762CEB8A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5A3D-8219-4F28-9D15-AD0E9236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664-DFCC-4CC9-8FB8-ED9F5768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C7D0-6813-46B5-8219-A20E84F4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D485-3908-44AF-BD8D-B08B8E0E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8127-B561-4CC7-AD61-5AE7AD9A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F7AF-AB09-4CB6-88F7-3F755144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13B7-A9D4-44B6-809D-484A5745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0D2-A999-4E34-BCEA-4C2B8561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479-6578-4893-9BB7-EE945AF6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6C2-5DA1-4A2B-B298-337442A5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AD2-DF9D-4F84-B146-41A11D8E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9A6-9DF5-4D97-9E51-C80E81F9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D86-6F45-4502-A416-7453713E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30D-D2D4-4D20-9D27-82A2DF15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641B-90FB-4954-B781-9EE0FF418D2D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620E-8A66-48A9-A233-EE2EDA4D4A62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D97C-2FA1-4B55-A149-001E8330F850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01E0-D803-4026-9DAC-C029B87252A4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5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가공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로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TT)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1C9-09B7-45CD-830A-DDBCE5503C6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EF245-3944-440F-BD3C-46BFCECAFA0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중요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생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있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정확하고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화된 솔루션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고 하드웨어가 열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이 낮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E9F-1D92-4C3D-97D6-A7D00270EA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5B667-BBB2-4BA7-8C83-24E84BE16F1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운영계 시스템과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동시에 구축할 경우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 구축 후에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잘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동시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시간과 경비를 절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공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필요한 장표를 만드는 노력을 대폭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244-96E0-42B5-B3F8-E1D98C4F44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32B7D-B44E-406D-8F38-F8E79FAD71A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K*Load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오프라인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으로 데이터 웨어하우스 서버에 있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일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신속하게 로드하는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AA7-E18B-4780-9698-0E7EFF8D41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C3430-62A1-4EDE-933B-045F15A66E8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학적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지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년간의 졸업생의 성적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려 사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법론 연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74D-8021-4F54-BEEA-11BF687EA1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898D7-EB94-4DAF-90ED-6D44B77417C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1. 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개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와 다른 별도의 서버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의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xtrac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forma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송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portation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약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종류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주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로딩 속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질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의 형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역할 등에 좌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304-3E88-4969-9CDD-4A36BC8B00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96E86-9451-4F75-97A3-86F1EADDEFF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필요한 최종 테이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원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형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과 요약 테이블을 소스 시스템에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의 로그 파일을 분석하여 사실 테이블과 요약 테이블을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249-F1AE-415E-B78E-C85590D889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15268-1F53-4DC3-9426-32D02FC744B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초기 데이터와 주기적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과거 수년간의 데이터를 보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itial da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테이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cord layout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형식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산 시스템에서 중요한 것은 데이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적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 단위 또는 월 단위로 소스 시스템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넘어오는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f lin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E35-0892-4252-9DC6-D832E21145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7B977-E1E0-4B93-8B35-6330A658AE6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변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ransform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추출한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사실 테이블이 특정한 포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가 복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코드가 일치하지 않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DB(Hierarchical database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BM IMS/DB : H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근간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올릴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주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CC9-44C1-4231-8929-08295E6683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421B5-BB98-42AA-B438-9CDFEFE6352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정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clean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들어가는 데이터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(dimension ID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해당하는 값이 차원 테이블과 상이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비정상적인 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한 데이터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D(Operational Data Store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이용한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 작업을 용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의 변화에 신속 대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의 문제에 신속 복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D88-6702-4AB8-8BC4-B762097F75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810B0-5876-4792-8830-B5AA4B0A784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ff 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프라인 방식의 개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과 순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시 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n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추출 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pen 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라클 분산 옵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 distributed op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683-0D6B-40CC-826B-A8F7461E1B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F917B-2364-4E02-86CD-FBC9D746F6A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공유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al-tim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원하는 은행에서 많이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rred I/O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로그 파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특정한 데이터가 바뀌면 로그 파일을 만들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주기적으로 데이터를 가져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0E1-9381-4216-A04F-BCC6E332BB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B9781-300A-4465-9B14-5F2233B219F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추출 데이터의 정확성 보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장하는 방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필드의 값을 합산 후 대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시 에러가 생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에러의 원인을 밝히고 교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788-8561-43BD-B9F7-3670E58265A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C832D-9699-4AC7-914D-F6E3B84A587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4-16T05:27:39Z</dcterms:modified>
  <cp:revision>227</cp:revision>
  <dc:subject/>
  <dc:title>제5장 데이터의 추출, 가공, 로드(ETT)</dc:title>
</cp:coreProperties>
</file>