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9391-FB92-4368-BEA5-DACC0E6BE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B069-84FC-4A53-B87D-C198FFD7C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9464-8C04-4CC6-8563-0D7E2F87B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CE6A-E94D-496D-9B97-8B01098A6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61777-4424-4FF7-A6C1-257511A59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310F8-5793-4A51-9B20-044404346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D9CE8-53E2-44E8-9972-610014440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EF8D8-B97A-4345-AFBA-D0EF83FEE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36633-15F9-43E4-ABCD-DB18DE8F2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33A1D-B66C-49EC-86C4-E0EDD4C0E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32791-E230-46FC-A5D1-D4DC2724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579E-2E98-47E7-81B7-2CAEE54F3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68DB3-FBA0-472D-B3F4-6FC99F66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9B4EE-E33D-49CD-A4B3-EF8731C3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43C38-54AE-4175-9290-3CFEAA81D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F8D81-966D-4656-AF48-8FD7DEA70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7DAAB-668B-4706-9B15-E73067E81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7E32-BF4B-48FD-8B73-B8363A63A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6C7B-5F3C-4730-9E3D-125D00B56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4732-8F36-4E2B-BD93-4F1D958E5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6E72-9BA8-40CE-81EE-96FC248A9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F6D8-68BC-4ACE-BBCA-F0745CF9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15B7-754A-440B-9119-337005C3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02EA-244D-4843-ACE3-16B62A83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9BCCE-6C70-49F8-84A7-3C3875627A3B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AD0D7-0BAA-453A-B9D7-87332FA04AA6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제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8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장</a:t>
            </a:r>
            <a:br>
              <a:rPr sz="5400"/>
            </a:b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데이터베이스 마켓팅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굴림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4952520"/>
            <a:ext cx="8305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ong Soo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park@cs.sungshin.ac.k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1638-0D10-4A0D-8F95-4886CB0ED9F7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마이닝과 데이터 웨어하우스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은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정제된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데이터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가 필수이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에는 정제된 데이터가 이미 존재한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A8ED-6A19-437F-A950-7F22AF415E4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마이닝의 이해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현업 전문가가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LAP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도구를 이용해 분석하는 과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156 – 158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페이지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EE49-AF20-4038-A883-6561A0C4C9A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마이닝의 과정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수집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정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준비 작업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트레이닝 셑과 테스트 셑을 결정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 모델 작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적용과 테스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xternal evaluation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실제 데이터와 테스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실제 구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실제 데이터를 적용해보고 그 결과를 분석한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F639-D765-4096-BC13-DC48BA11E85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마이닝 모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redictiv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lassification: decis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escriptiv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연관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association)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B325-517C-4CBC-A391-B1EC13558AD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ecision tree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에 의한 데이터 마이닝 분석의 예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준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Root) node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결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불만 신고에 의해서 해지자를 먼저 고른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nternal) node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결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연체 회수를 가지고 나눈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Node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결정하는 방법이 중요하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결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160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페이지 그림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굴림"/>
              </a:rPr>
              <a:t>Rule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흰색 노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회색 노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검정색 노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819F-03E7-4F98-A621-55CE90096D1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마이닝을 할 때 고려 사항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경험적인 규칙 발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 전문가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현업 전문가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수많은 시행착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발견 후에도 끊임없이 결과 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 도구는 쉬운 것이 아니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전문가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의 통계적 분석에 경험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의 장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결과 확실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ROI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도 분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특정 분야를 중심으로 확산 예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손쉬운 도구의 활성화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Visu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09C4-F406-4641-94E7-7C55627B471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제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8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장 데이터베이스 마케팅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베이스 마케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베이스 마케팅을 현실화한 데이터 웨어하우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 데이터베이스 구축 방법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을 해야만 하는 이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DM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과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D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의 이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의 과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 모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DF6C-BB6E-40D4-8E28-3FDEBAD6F48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1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베이스 마케팅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과학적인 경영기법을 도입하려는 시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 Marketing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은 이미 활용되고 있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와 데이터베이스 마케팅 접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cc"/>
                </a:solidFill>
                <a:latin typeface="Tahoma"/>
                <a:ea typeface="굴림"/>
              </a:rPr>
              <a:t>고객 개인과의 관계를 중시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1:1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마케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의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life time valu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최대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고객 유지 마케팅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Retention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 이탈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efection rate)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을 감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B938-DD09-426C-8542-59AE27248C6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B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마켓팅을 현실화한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(1/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존의 데이터베이스 마케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통계적 방식과 프로그램을 개발하는 방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Samp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방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의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분석 결과에 오차 가능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분석시에 주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tch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로 처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구축 후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B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마케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OL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도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사용하여 다양한 분석을 다차원으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AP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도구는 비정형화된 분석에 매우 강하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실제 데이터를 가지므로 즉시 데이터 분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2470-8A96-4E1B-9D77-6CCAD6B7997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B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마켓팅을 현실화한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(2/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베이스 마케팅을 위한 데이터 웨어하우스 기본 구조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147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페이지 그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OD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ROLAP, MOLAP, D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TM, DM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 ODS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굴림"/>
              </a:rPr>
              <a:t>(feedb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백화점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카드 회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은행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보험 회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통신 회사 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OLAP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FM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법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회귀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추세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80/20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HAID(Chi-square Automatic Interaction Detector)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분석 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본 수식이 주어지면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DB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를 즉시 분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59E5-E2B1-4EFE-96D6-D54D2703B8E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고객 데이터베이스 구축 방법론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단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에 관한 정보를 체계적으로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데이터베이스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한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단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 데이터베이스로부터 원하는 정보를 검색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공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분석하여 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필요한 데이터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추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한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단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목표 고객과 관련 데이터를 이용하여 효과적인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TM/DM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을 실시한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4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단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마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케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팅 결과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데이터베이스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하여 관리함으로써 장기적인 마케팅 의사결정을 지원한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A89E-EBFB-442E-95B5-F71CC683E4A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2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마이닝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의 사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초기 단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을 위한 최적의 시스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업의 요구가 고객 관리에 중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이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특정 분야에서 데이터의 상관관계를 분석하여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비즈니스에 유용한 법칙을 발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 전문가는 고객 데이터 내용을 잘 알아야 된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예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의 성향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해지 고객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신용카드의 위조 사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raud)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분석 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EE44-AE7C-41DE-A222-F39854000EF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마이닝을 해야만 하는 이유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M 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상관 관계를 분석하여 미래 예측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T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환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가 광범위하게 구축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상에서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M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을 이용하여 복잡한 데이터 분석 요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축 난이도와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usiness Pay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굴림"/>
              </a:rPr>
              <a:t>소규모의 투자로도 많고 빠른 효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응용 분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로 데이터베이스 마케팅 분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통신회사의 해지자 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유통 업체의 장바구니 분석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market basket analysi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신용 카드 회사의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fraud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일반 회사의 광고 효과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신제품 개발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고객 성향 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5936-F55E-460E-A299-3F496FAB606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마이닝에 대한 </a:t>
            </a:r>
            <a:r>
              <a:rPr b="0" lang="ko-KR" sz="3600" spc="-1" strike="noStrike">
                <a:solidFill>
                  <a:srgbClr val="ff0000"/>
                </a:solidFill>
                <a:latin typeface="Tahoma"/>
                <a:ea typeface="굴림"/>
              </a:rPr>
              <a:t>잘못된 인식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 도구를 사용하면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자동적으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비즈니스의 법칙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ule)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을 발견하고 즉각적으로 활용할 수 있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누구나 데이터 마이닝 도구만 있으면 데이터 마이닝을 할 수 있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은 통계와 다른 인공지능 기법을 이용한 새로운 기술이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은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있는 데이터를 변환하지 않고 즉각적으로 분석할 수 있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에는 별도의 하드웨어가 필요없이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C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만으로도 가능하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4144-5236-436E-97DB-A93BC01139E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ong Soo Park</dc:creator>
  <dc:description/>
  <dc:language>en-US</dc:language>
  <cp:lastModifiedBy>Jong Soo Park</cp:lastModifiedBy>
  <cp:lastPrinted>1999-09-10T20:38:56Z</cp:lastPrinted>
  <dcterms:modified xsi:type="dcterms:W3CDTF">2002-05-20T06:03:39Z</dcterms:modified>
  <cp:revision>253</cp:revision>
  <dc:subject/>
  <dc:title>제6장 데이터 웨어하우스의 관리</dc:title>
</cp:coreProperties>
</file>