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E8CB-E734-4330-92D4-DEA2B6DA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424B-DC63-48B0-96E0-5769AC73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F1E4-CFB2-42F3-B332-90B16BB5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A0AA-02BD-4556-85D7-E6CDAC74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318B-1649-40BC-9E08-7D6E04FA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F5C8-19E3-490B-B7FB-B9DF23EC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6D42-CC26-4AC1-84B8-25C4D801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FAAF-8A4D-4DCC-9F47-76627037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DA47-348E-40A4-A5DD-2DEEF3D9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2BE5-AB27-4968-B41E-8BBD6FBB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EFC1-F2B6-4718-B803-BE6FB064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21EF-ED25-467B-8528-BDFBC71A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2601-EB81-44EA-ACCE-1DFDD61E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26DE-D2F5-4992-95E4-35392A83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6583-2663-4BC9-A458-F8AB0DD5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7C77-060E-43D6-94DE-41F8C3B1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4172-F557-4D7B-96EC-E9CF4258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0968-ABF5-4147-9BE1-E2104680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E58-0CDF-4EEF-8D3C-E89E6408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E88-EE4F-4582-94E9-1EC5D1C6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B934-7D78-47EF-B1A2-7DA9EE0F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7304-F481-4133-8B2F-399ECA6C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5D5B-F6E5-48BE-85CC-4F38ADEF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71AE-1C2B-4FF3-A29B-49CB137B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D4FE-EB53-470C-9550-39CF4A56A1CA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E370-1D76-4BEF-A0A6-A7CBE694FCA0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10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의 통합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F5F5-A4AE-4328-971A-E7C9DDA8C81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10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의 통합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통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입에 데이터 웨어하우스가 필요한 이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 웨어하우스 도입시 고려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rac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솔루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A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솔루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A0AB-AFD3-4734-94BE-2EE3B7683C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  <a:ea typeface="굴림"/>
              </a:rPr>
              <a:t>ERP</a:t>
            </a: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란 무엇인가</a:t>
            </a: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?</a:t>
            </a:r>
            <a:br>
              <a:rPr sz="4400"/>
            </a:b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tp://www.valhae.com/business/erp.html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굴림"/>
                <a:ea typeface="굴림"/>
              </a:rPr>
              <a:t>Enterprise Resource Planning/</a:t>
            </a:r>
            <a:r>
              <a:rPr b="1" lang="ko-KR" sz="3200" spc="-1" strike="noStrike">
                <a:solidFill>
                  <a:srgbClr val="3333cc"/>
                </a:solidFill>
                <a:latin typeface="굴림"/>
                <a:ea typeface="굴림"/>
              </a:rPr>
              <a:t>전사적 자원관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회사전체 경영자원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즉 생산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판매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물류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회계 등의 기업업무를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전사적인 경영자원으로 활용하기 위하여 최적화하는 시스템으로 주로 통합시스템 소프트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기업의 경영목적을 가장 효율적으로 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기업내의 생산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회계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영업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재고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판매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물류 등의 업무를 통합적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조직적으로 연계 관리하고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회사 내 모든 정보를 공유하며 정보를 만들어 제공한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기업의 생산성과 경쟁력을 극대화시키는 통합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시스템 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(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  <a:ea typeface="굴림"/>
              </a:rPr>
              <a:t>OLTP layer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의 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  <a:ea typeface="굴림"/>
              </a:rPr>
              <a:t>software, 177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페이지 참조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A65B-1933-4A91-A342-B8123ADDF24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erp_p1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39080" cy="4907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762120"/>
            <a:ext cx="7391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valhae.com/business/erp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9259-43E8-490A-A501-5D16BDB93E7A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도입에 데이터 웨어하우스가 필요한 이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구 우수 모범 기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est practic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프로세스를 담고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ustomi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체의 프로세스를 바꾸는 것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어려운 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하는 장표를 개발하는 것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rting syste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표준화된 장표와 그 외는 프로그래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A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이용하면 정형화된 장표와 비정형화된 장표를 얻을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C45D-82B6-4E0A-A589-D626DF8C1D9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 도입시 고려사항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운영계에 해당하는 시스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정보계에 해당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트랜잭션을 처리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트랜잭션의 결과를 분석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하나의 하드웨어에 구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동일한 하드웨어에서 운영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부하를 줄 수 있다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하드웨어를 사용하는 것이 바람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먼저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먼저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순서는 별 문제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449A-8D43-47E0-BBDB-A469CD32B34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 도입시 고려사항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데이터를 어떻게 추출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vendor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제공하는 추출 도구를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 데이터 마트의 위험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데이터를 추출하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부서 단위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목적별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추세는 전사적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가 고급 데이터 분석의 내용을 제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업의 경영 활동에 부가가치를 창조할 수 있는 시스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AA3-2998-43EB-A1CF-5BE7E5C3F4F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racle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ol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892A-B502-43A1-808D-D425AAC97FF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A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ol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8F14-A464-4190-8070-434432348A8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7T08:20:24Z</dcterms:modified>
  <cp:revision>276</cp:revision>
  <dc:subject/>
  <dc:title>제6장 데이터 웨어하우스의 관리</dc:title>
</cp:coreProperties>
</file>