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3FB-B190-4D56-AB36-4C38A7AA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9F7-52FC-49AB-A7BB-03657C3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EDE-C27B-411A-BD96-823BFCD0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0CB-D645-4A71-8202-BA9FCCE0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A5E5-BA28-4C3A-84B1-AD0D53C8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CA4C-6A23-4116-AD32-604BC7B9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F870-9E1E-498C-B94C-C4F68770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AB2B-FF1A-47FD-BD6C-C9886446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2A21-F222-4111-A7A4-C4884C03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A181-1E7E-4A39-BC07-1EF0FD5F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061F-BBF8-4AB6-9696-CB793D9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5E2-89C2-4822-8DC7-4F7DE5E9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9BB1-8AFE-4786-9107-046732CB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6EA7-DD31-43BA-BCC5-D2E216F3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DB48-0703-418B-A0BC-BA6770AB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0B12-8C0E-4FC2-8D12-2CD8B379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D611-4183-4A9B-914A-3D7B88CF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ADF-D2A8-4C38-821A-60910821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E15-A3C3-426C-943C-709D9CC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4AA-A244-46B9-A579-C86F99F7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6B3-B29E-4C0C-8440-98F687FC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072-DB81-4911-9A2E-4546FB06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601-CD58-4FB5-8E07-5F38EBC6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0C1-BE47-4702-A927-2E744C5B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858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143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BEC2-CC3E-45D0-8A84-88E986A748BE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2CB4-1E5C-4D5F-B8A6-C8272320ECD8}" type="slidenum">
              <a:rPr b="0" lang="ko-KR" sz="1400" spc="-1" strike="noStrike">
                <a:solidFill>
                  <a:srgbClr val="5f5f5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 웨어하우스와 </a:t>
            </a:r>
            <a:br>
              <a:rPr sz="4800"/>
            </a:b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마이닝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박  종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http://cs.sungshin.ac.kr/~j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2_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781680" cy="52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통합에 대한 문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D02-B362-49DD-A7CE-44C958F00B4A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2_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543800" cy="49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비휘발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5B4-E5F8-45F2-AAF7-2FDC93A620B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2_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95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시간 변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179-B8BA-456F-B4ED-4C7D689BED80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438280" y="1752120"/>
            <a:ext cx="5715360" cy="4000680"/>
            <a:chOff x="2438280" y="1752120"/>
            <a:chExt cx="5715360" cy="4000680"/>
          </a:xfrm>
        </p:grpSpPr>
        <p:grpSp>
          <p:nvGrpSpPr>
            <p:cNvPr id="124" name=""/>
            <p:cNvGrpSpPr/>
            <p:nvPr/>
          </p:nvGrpSpPr>
          <p:grpSpPr>
            <a:xfrm>
              <a:off x="5638680" y="1752120"/>
              <a:ext cx="2514960" cy="1495440"/>
              <a:chOff x="5638680" y="1752120"/>
              <a:chExt cx="2514960" cy="1495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552000" y="2666880"/>
                <a:ext cx="686880" cy="580680"/>
                <a:chOff x="6552000" y="2666880"/>
                <a:chExt cx="686880" cy="580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5530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530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2388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9" name=""/>
                <p:cNvCxnSpPr>
                  <a:stCxn id="127" idx="0"/>
                  <a:endCxn id="128" idx="0"/>
                </p:cNvCxnSpPr>
                <p:nvPr/>
              </p:nvCxnSpPr>
              <p:spPr>
                <a:xfrm flipH="1" rot="16200000">
                  <a:off x="68943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0" name=""/>
              <p:cNvGrpSpPr/>
              <p:nvPr/>
            </p:nvGrpSpPr>
            <p:grpSpPr>
              <a:xfrm>
                <a:off x="5638680" y="1980720"/>
                <a:ext cx="381240" cy="460080"/>
                <a:chOff x="5638680" y="1980720"/>
                <a:chExt cx="381240" cy="46008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56386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386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195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4" name=""/>
                <p:cNvCxnSpPr>
                  <a:stCxn id="132" idx="0"/>
                  <a:endCxn id="133" idx="0"/>
                </p:cNvCxnSpPr>
                <p:nvPr/>
              </p:nvCxnSpPr>
              <p:spPr>
                <a:xfrm flipH="1" rot="16200000">
                  <a:off x="58284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5" name=""/>
              <p:cNvGrpSpPr/>
              <p:nvPr/>
            </p:nvGrpSpPr>
            <p:grpSpPr>
              <a:xfrm>
                <a:off x="7772400" y="1980720"/>
                <a:ext cx="381240" cy="460080"/>
                <a:chOff x="7772400" y="1980720"/>
                <a:chExt cx="381240" cy="46008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77724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724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53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9" name=""/>
                <p:cNvCxnSpPr>
                  <a:stCxn id="137" idx="0"/>
                  <a:endCxn id="138" idx="0"/>
                </p:cNvCxnSpPr>
                <p:nvPr/>
              </p:nvCxnSpPr>
              <p:spPr>
                <a:xfrm flipH="1" rot="16200000">
                  <a:off x="79621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0" name=""/>
              <p:cNvGrpSpPr/>
              <p:nvPr/>
            </p:nvGrpSpPr>
            <p:grpSpPr>
              <a:xfrm>
                <a:off x="6172200" y="1828440"/>
                <a:ext cx="381240" cy="460080"/>
                <a:chOff x="6172200" y="1828440"/>
                <a:chExt cx="381240" cy="4600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61722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722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5530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"/>
                <p:cNvCxnSpPr>
                  <a:stCxn id="142" idx="0"/>
                  <a:endCxn id="143" idx="0"/>
                </p:cNvCxnSpPr>
                <p:nvPr/>
              </p:nvCxnSpPr>
              <p:spPr>
                <a:xfrm flipH="1" rot="16200000">
                  <a:off x="63619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5" name=""/>
              <p:cNvGrpSpPr/>
              <p:nvPr/>
            </p:nvGrpSpPr>
            <p:grpSpPr>
              <a:xfrm>
                <a:off x="6705360" y="1752120"/>
                <a:ext cx="381240" cy="460080"/>
                <a:chOff x="6705360" y="1752120"/>
                <a:chExt cx="381240" cy="460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67053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53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862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9" name=""/>
                <p:cNvCxnSpPr>
                  <a:stCxn id="147" idx="0"/>
                  <a:endCxn id="148" idx="0"/>
                </p:cNvCxnSpPr>
                <p:nvPr/>
              </p:nvCxnSpPr>
              <p:spPr>
                <a:xfrm flipH="1" rot="16200000">
                  <a:off x="68950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50" name=""/>
              <p:cNvGrpSpPr/>
              <p:nvPr/>
            </p:nvGrpSpPr>
            <p:grpSpPr>
              <a:xfrm>
                <a:off x="7238880" y="1828440"/>
                <a:ext cx="381240" cy="460080"/>
                <a:chOff x="7238880" y="1828440"/>
                <a:chExt cx="381240" cy="46008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72388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88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197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4" name=""/>
                <p:cNvCxnSpPr>
                  <a:stCxn id="152" idx="0"/>
                  <a:endCxn id="153" idx="0"/>
                </p:cNvCxnSpPr>
                <p:nvPr/>
              </p:nvCxnSpPr>
              <p:spPr>
                <a:xfrm flipH="1" rot="16200000">
                  <a:off x="74286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55" name=""/>
              <p:cNvCxnSpPr>
                <a:stCxn id="133" idx="1"/>
                <a:endCxn id="127" idx="0"/>
              </p:cNvCxnSpPr>
              <p:nvPr/>
            </p:nvCxnSpPr>
            <p:spPr>
              <a:xfrm>
                <a:off x="60195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8" idx="1"/>
                <a:endCxn id="126" idx="0"/>
              </p:cNvCxnSpPr>
              <p:nvPr/>
            </p:nvCxnSpPr>
            <p:spPr>
              <a:xfrm flipH="1">
                <a:off x="68954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3" idx="1"/>
                <a:endCxn id="126" idx="1"/>
              </p:cNvCxnSpPr>
              <p:nvPr/>
            </p:nvCxnSpPr>
            <p:spPr>
              <a:xfrm>
                <a:off x="65530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53" idx="1"/>
                <a:endCxn id="126" idx="7"/>
              </p:cNvCxnSpPr>
              <p:nvPr/>
            </p:nvCxnSpPr>
            <p:spPr>
              <a:xfrm flipH="1">
                <a:off x="71384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37" idx="1"/>
                <a:endCxn id="128" idx="0"/>
              </p:cNvCxnSpPr>
              <p:nvPr/>
            </p:nvCxnSpPr>
            <p:spPr>
              <a:xfrm flipH="1">
                <a:off x="72385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60" name=""/>
            <p:cNvGrpSpPr/>
            <p:nvPr/>
          </p:nvGrpSpPr>
          <p:grpSpPr>
            <a:xfrm>
              <a:off x="2438280" y="1752120"/>
              <a:ext cx="2514960" cy="1495440"/>
              <a:chOff x="2438280" y="1752120"/>
              <a:chExt cx="2514960" cy="14954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351600" y="2666880"/>
                <a:ext cx="686880" cy="580680"/>
                <a:chOff x="3351600" y="2666880"/>
                <a:chExt cx="686880" cy="580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26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526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384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stCxn id="163" idx="0"/>
                  <a:endCxn id="164" idx="0"/>
                </p:cNvCxnSpPr>
                <p:nvPr/>
              </p:nvCxnSpPr>
              <p:spPr>
                <a:xfrm flipH="1" rot="16200000">
                  <a:off x="36939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66" name=""/>
              <p:cNvGrpSpPr/>
              <p:nvPr/>
            </p:nvGrpSpPr>
            <p:grpSpPr>
              <a:xfrm>
                <a:off x="2438280" y="1980720"/>
                <a:ext cx="381240" cy="460080"/>
                <a:chOff x="2438280" y="1980720"/>
                <a:chExt cx="381240" cy="4600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4382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38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191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0" name=""/>
                <p:cNvCxnSpPr>
                  <a:stCxn id="168" idx="0"/>
                  <a:endCxn id="169" idx="0"/>
                </p:cNvCxnSpPr>
                <p:nvPr/>
              </p:nvCxnSpPr>
              <p:spPr>
                <a:xfrm flipH="1" rot="16200000">
                  <a:off x="26280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1" name=""/>
              <p:cNvGrpSpPr/>
              <p:nvPr/>
            </p:nvGrpSpPr>
            <p:grpSpPr>
              <a:xfrm>
                <a:off x="4572000" y="1980720"/>
                <a:ext cx="381240" cy="460080"/>
                <a:chOff x="4572000" y="1980720"/>
                <a:chExt cx="381240" cy="4600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45720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20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8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5" name=""/>
                <p:cNvCxnSpPr>
                  <a:stCxn id="173" idx="0"/>
                  <a:endCxn id="174" idx="0"/>
                </p:cNvCxnSpPr>
                <p:nvPr/>
              </p:nvCxnSpPr>
              <p:spPr>
                <a:xfrm flipH="1" rot="16200000">
                  <a:off x="47617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6" name=""/>
              <p:cNvGrpSpPr/>
              <p:nvPr/>
            </p:nvGrpSpPr>
            <p:grpSpPr>
              <a:xfrm>
                <a:off x="2971800" y="1828440"/>
                <a:ext cx="381240" cy="460080"/>
                <a:chOff x="2971800" y="1828440"/>
                <a:chExt cx="381240" cy="4600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29718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9718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0" name=""/>
                <p:cNvCxnSpPr>
                  <a:stCxn id="178" idx="0"/>
                  <a:endCxn id="179" idx="0"/>
                </p:cNvCxnSpPr>
                <p:nvPr/>
              </p:nvCxnSpPr>
              <p:spPr>
                <a:xfrm flipH="1" rot="16200000">
                  <a:off x="31615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1" name=""/>
              <p:cNvGrpSpPr/>
              <p:nvPr/>
            </p:nvGrpSpPr>
            <p:grpSpPr>
              <a:xfrm>
                <a:off x="3504960" y="1752120"/>
                <a:ext cx="381240" cy="460080"/>
                <a:chOff x="3504960" y="1752120"/>
                <a:chExt cx="381240" cy="4600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5049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49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858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5" name=""/>
                <p:cNvCxnSpPr>
                  <a:stCxn id="183" idx="0"/>
                  <a:endCxn id="184" idx="0"/>
                </p:cNvCxnSpPr>
                <p:nvPr/>
              </p:nvCxnSpPr>
              <p:spPr>
                <a:xfrm flipH="1" rot="16200000">
                  <a:off x="36946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6" name=""/>
              <p:cNvGrpSpPr/>
              <p:nvPr/>
            </p:nvGrpSpPr>
            <p:grpSpPr>
              <a:xfrm>
                <a:off x="4038480" y="1828440"/>
                <a:ext cx="381240" cy="460080"/>
                <a:chOff x="4038480" y="1828440"/>
                <a:chExt cx="381240" cy="4600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40384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384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193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0" name=""/>
                <p:cNvCxnSpPr>
                  <a:stCxn id="188" idx="0"/>
                  <a:endCxn id="189" idx="0"/>
                </p:cNvCxnSpPr>
                <p:nvPr/>
              </p:nvCxnSpPr>
              <p:spPr>
                <a:xfrm flipH="1" rot="16200000">
                  <a:off x="42282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91" name=""/>
              <p:cNvCxnSpPr>
                <a:stCxn id="169" idx="1"/>
                <a:endCxn id="163" idx="0"/>
              </p:cNvCxnSpPr>
              <p:nvPr/>
            </p:nvCxnSpPr>
            <p:spPr>
              <a:xfrm>
                <a:off x="28191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84" idx="1"/>
                <a:endCxn id="162" idx="0"/>
              </p:cNvCxnSpPr>
              <p:nvPr/>
            </p:nvCxnSpPr>
            <p:spPr>
              <a:xfrm flipH="1">
                <a:off x="36950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79" idx="1"/>
                <a:endCxn id="162" idx="1"/>
              </p:cNvCxnSpPr>
              <p:nvPr/>
            </p:nvCxnSpPr>
            <p:spPr>
              <a:xfrm>
                <a:off x="33526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89" idx="1"/>
                <a:endCxn id="162" idx="7"/>
              </p:cNvCxnSpPr>
              <p:nvPr/>
            </p:nvCxnSpPr>
            <p:spPr>
              <a:xfrm flipH="1">
                <a:off x="39380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73" idx="1"/>
                <a:endCxn id="164" idx="0"/>
              </p:cNvCxnSpPr>
              <p:nvPr/>
            </p:nvCxnSpPr>
            <p:spPr>
              <a:xfrm flipH="1">
                <a:off x="40381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96" name=""/>
            <p:cNvGrpSpPr/>
            <p:nvPr/>
          </p:nvGrpSpPr>
          <p:grpSpPr>
            <a:xfrm>
              <a:off x="3809880" y="3771720"/>
              <a:ext cx="2895480" cy="1981080"/>
              <a:chOff x="3809880" y="3771720"/>
              <a:chExt cx="2895480" cy="1981080"/>
            </a:xfrm>
          </p:grpSpPr>
          <p:sp>
            <p:nvSpPr>
              <p:cNvPr id="197" name=""/>
              <p:cNvSpPr/>
              <p:nvPr/>
            </p:nvSpPr>
            <p:spPr>
              <a:xfrm>
                <a:off x="4267080" y="3771720"/>
                <a:ext cx="17524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6708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956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8" idx="0"/>
                <a:endCxn id="199" idx="0"/>
              </p:cNvCxnSpPr>
              <p:nvPr/>
            </p:nvCxnSpPr>
            <p:spPr>
              <a:xfrm flipH="1" rot="16200000">
                <a:off x="5142600" y="3657960"/>
                <a:ext cx="2160" cy="1753200"/>
              </a:xfrm>
              <a:prstGeom prst="curvedConnector5">
                <a:avLst>
                  <a:gd name="adj1" fmla="val 13380000"/>
                  <a:gd name="adj2" fmla="val 49989"/>
                  <a:gd name="adj3" fmla="val 1338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3809880" y="5295600"/>
                <a:ext cx="457200" cy="457200"/>
                <a:chOff x="3809880" y="5295600"/>
                <a:chExt cx="457200" cy="457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098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621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419360" y="5295600"/>
                <a:ext cx="457200" cy="457200"/>
                <a:chOff x="4419360" y="5295600"/>
                <a:chExt cx="45720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193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716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29200" y="5295600"/>
                <a:ext cx="457200" cy="457200"/>
                <a:chOff x="5029200" y="5295600"/>
                <a:chExt cx="45720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2920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8148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638680" y="5295600"/>
                <a:ext cx="457200" cy="457200"/>
                <a:chOff x="5638680" y="5295600"/>
                <a:chExt cx="457200" cy="457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6386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7909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248160" y="5295600"/>
                <a:ext cx="457200" cy="457200"/>
                <a:chOff x="6248160" y="5295600"/>
                <a:chExt cx="457200" cy="457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2481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004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4038120" y="4762440"/>
                <a:ext cx="11430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647960" y="47624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1480" y="476244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76244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81480" y="4762440"/>
                <a:ext cx="1219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33920" y="32382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333760" y="3238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7440" y="29718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304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굴림"/>
              </a:rPr>
              <a:t>데이터웨어하우스의 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14300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1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66688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eekly sales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b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984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962520"/>
            <a:ext cx="17528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257800"/>
            <a:ext cx="175248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-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962520"/>
            <a:ext cx="9903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666880"/>
            <a:ext cx="1524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(datam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257800"/>
            <a:ext cx="7617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905120"/>
            <a:ext cx="15242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029200"/>
            <a:ext cx="16761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8280" y="4419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1F5-5324-4F67-B909-79E103B48B28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한번에 한 단계씩 설계되고 구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점증적인 반복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과정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해 완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운영 활동 처리를 위한 시스템들만 존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의 첫번째 주제영역에 대한 몇몇 테이블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많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들이 생성되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용자들도 증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네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점점 확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분석적 처리를 위한 데이터 원천으로 인식 시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서별 데이터베이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마트 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LAP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활성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여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많은 부서별 시스템이 구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번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키텍쳐가 완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몇 년은 일반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부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까지의 이동 과정 동안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경이 성숙되고 발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002-3DBB-4BC4-8520-A61F116BD8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2_10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53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까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372-2783-4B60-AAB5-A32DE28FB665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설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ta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설계에서는 모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같다고 가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서는 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결코 대등하지 않다”에서 출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Fac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량의 데이터를 포함하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중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테이블을 참조할 수 있는 외래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foreign key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가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Dimensi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엔터티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테이블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스타 조인 생성의 이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처리 과정에서 데이터를 능률적으로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를 미리 연결하고 선택적으로 중복 데이터를 생성하여 데이터 액세스와 분석을 더욱 간단하고 효율적으로 할 수 있게 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487-554C-442D-B764-007DEBB2B1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D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nowledge Discovery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데이터베이스에서 지식 탐사는 데이터에서 유효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귀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잠재적으로 유용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궁극적으로 이해될 수 있는 </a:t>
            </a:r>
            <a:r>
              <a:rPr b="1" i="1" lang="ko-KR" sz="2000" spc="-1" strike="noStrike">
                <a:solidFill>
                  <a:srgbClr val="ff0000"/>
                </a:solidFill>
                <a:latin typeface="Arial"/>
              </a:rPr>
              <a:t>패턴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을 알아내는 쉽지않은 과정이다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DD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과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마이닝 과정의 적용 영역과 목표의 이해를 밝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목적 데이터 집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arget data set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선택하거나 얻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청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전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리고 변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델 개발과 가설 설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Arial"/>
              </a:rPr>
              <a:t>적절한 데이터 마이닝 알고리즘의 선택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해석 및 시각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검사 및 검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</a:rPr>
              <a:t>발견된 지식을 사용하고 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DE7-1477-49DD-B052-7F82FAF2AA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440" y="692280"/>
            <a:ext cx="1282680" cy="749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0440" y="5873760"/>
            <a:ext cx="2044800" cy="596880"/>
          </a:xfrm>
          <a:prstGeom prst="rect">
            <a:avLst/>
          </a:prstGeom>
          <a:solidFill>
            <a:srgbClr val="e8e8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720" y="760320"/>
            <a:ext cx="11512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56320" y="1157400"/>
            <a:ext cx="2064240" cy="5191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arg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10440" y="1303200"/>
            <a:ext cx="2382480" cy="945720"/>
          </a:xfrm>
          <a:prstGeom prst="rect">
            <a:avLst/>
          </a:prstGeom>
          <a:solidFill>
            <a:srgbClr val="3333cc"/>
          </a:solidFill>
          <a:ln w="12600">
            <a:solidFill>
              <a:srgbClr val="99ff99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Pre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54320" y="3665520"/>
            <a:ext cx="2202840" cy="945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cc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4240" y="3763800"/>
            <a:ext cx="2076480" cy="702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Arial"/>
                <a:ea typeface="돋움"/>
              </a:rPr>
              <a:t>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1219320"/>
            <a:ext cx="13716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1360" y="5867280"/>
            <a:ext cx="1945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돋움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523880"/>
            <a:ext cx="99072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1960" y="2438280"/>
            <a:ext cx="5105160" cy="114300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191120"/>
            <a:ext cx="1523880" cy="0"/>
          </a:xfrm>
          <a:prstGeom prst="line">
            <a:avLst/>
          </a:prstGeom>
          <a:ln w="50760">
            <a:solidFill>
              <a:srgbClr val="0099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4572000"/>
            <a:ext cx="114300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7320" y="9446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3440" y="94464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4480" y="26971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37940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05400" y="4754520"/>
            <a:ext cx="175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Interpret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520" y="60480"/>
            <a:ext cx="721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verview of the steps constituting the KDD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645-9AE9-48A3-9642-89A61691BA29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관찰된 데이터로 부터 패턴이나 모델의 추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D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에서 한 단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 마이닝 작업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Data Mining Ta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Link Analysis (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odel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C1F-EFA2-48C9-A342-AD3AA9D89E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방법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의사결정 지원 시스템의 발전과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 환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와 설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의 구체화 정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와 기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DD and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FD8-6731-4567-A080-7263EC0840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0769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ypes of Data-Mining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7720" y="1715760"/>
            <a:ext cx="321480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00240" y="1687680"/>
            <a:ext cx="487044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Knowl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97C-D7D5-486F-BCA4-8D1B37BF56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360" y="304920"/>
            <a:ext cx="396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돋움"/>
              </a:rPr>
              <a:t>Association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240" y="1127160"/>
            <a:ext cx="80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x: the statement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90% of transactions that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read and bu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also purch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28480" y="2155680"/>
            <a:ext cx="5956920" cy="458280"/>
            <a:chOff x="1428480" y="2155680"/>
            <a:chExt cx="5956920" cy="458280"/>
          </a:xfrm>
        </p:grpSpPr>
        <p:sp>
          <p:nvSpPr>
            <p:cNvPr id="270" name=""/>
            <p:cNvSpPr/>
            <p:nvPr/>
          </p:nvSpPr>
          <p:spPr>
            <a:xfrm>
              <a:off x="1428480" y="2155680"/>
              <a:ext cx="232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r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, 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ut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238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54720" y="2155680"/>
              <a:ext cx="2830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Milk] (12.5%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06240" y="3336840"/>
            <a:ext cx="6507360" cy="1357560"/>
            <a:chOff x="1506240" y="3336840"/>
            <a:chExt cx="6507360" cy="1357560"/>
          </a:xfrm>
        </p:grpSpPr>
        <p:sp>
          <p:nvSpPr>
            <p:cNvPr id="274" name=""/>
            <p:cNvSpPr/>
            <p:nvPr/>
          </p:nvSpPr>
          <p:spPr>
            <a:xfrm>
              <a:off x="1506240" y="3336840"/>
              <a:ext cx="639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: confidence factor of the rul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돋움"/>
                </a:rPr>
                <a:t>(not 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6960" y="3870360"/>
              <a:ext cx="6506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2.5%: support for the rul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he fraction of transactions in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886400" y="2697120"/>
            <a:ext cx="144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2760" y="26971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600" y="5089680"/>
            <a:ext cx="690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Diet Coke” as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bagels” in the antece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the “best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rules that have “bagels” in the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B8D-BC2A-4BF1-A082-DD4D9528851D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연관규칙의 정의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a set of literals called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a set of items such that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sociation rule is an implication of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port, conf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47920" y="4191120"/>
                <a:ext cx="6705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or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containing all the items in </m:t>
                        </m:r>
                        <m:r>
                          <m:t xml:space="preserve">X</m:t>
                        </m:r>
                        <m:r>
                          <m:t xml:space="preserve">∪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# of transactions in the data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5105520"/>
                <a:ext cx="6248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that contain both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of transactions contaning 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B1A-540E-4C9B-A9C0-C9DC34D396C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eneralized Association Rules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ssociations between items at any level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clothes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erw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ac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505320"/>
            <a:ext cx="7925040" cy="2743200"/>
            <a:chOff x="838080" y="3505320"/>
            <a:chExt cx="7925040" cy="2743200"/>
          </a:xfrm>
        </p:grpSpPr>
        <p:sp>
          <p:nvSpPr>
            <p:cNvPr id="286" name=""/>
            <p:cNvSpPr/>
            <p:nvPr/>
          </p:nvSpPr>
          <p:spPr>
            <a:xfrm>
              <a:off x="838080" y="3505320"/>
              <a:ext cx="792504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90720" y="3576960"/>
              <a:ext cx="7696080" cy="2418480"/>
              <a:chOff x="990720" y="3576960"/>
              <a:chExt cx="7696080" cy="2418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9520" y="3576960"/>
                <a:ext cx="11430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loth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76520" y="45874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uter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86200" y="4587480"/>
                <a:ext cx="10670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i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559656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Jack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71800" y="5596560"/>
                <a:ext cx="15242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ki P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05520" y="4587480"/>
                <a:ext cx="9907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o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2040" y="4587480"/>
                <a:ext cx="19047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iking Boo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6478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t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3040" y="4010040"/>
                <a:ext cx="91440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514240" y="4010040"/>
                <a:ext cx="76212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53440" y="408204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714640" y="408204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14600" y="494820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676160" y="494820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305-0D51-4CEB-8C76-D7E179AC5C0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ic Association Rule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eer and chips are sold together primarily </a:t>
            </a:r>
            <a:r>
              <a:rPr b="0" i="1" lang="ko-KR" sz="2800" spc="-1" strike="noStrike">
                <a:solidFill>
                  <a:srgbClr val="ff0000"/>
                </a:solidFill>
                <a:latin typeface="Arial"/>
              </a:rPr>
              <a:t>between 6PM and 9PM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ssociation rules could also display regular hourly, daily, weekly, etc., variation that has the appearance of 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An association rule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0" i="1" lang="ko-KR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 Y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 holds in time unit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ko-KR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support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Su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nfidence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Con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t has a cycle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c = (l, o),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 length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 an offset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“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coffee </a:t>
            </a:r>
            <a:r>
              <a:rPr b="0" i="1" lang="ko-KR" sz="28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 doughnuts” </a:t>
            </a: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has a cycle (24, 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unit of time is an hour and “coffee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doughnuts” holds during the interval 7AM-8AM everyday (I.e., every 24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0BB-7A4A-4454-B47A-57B58B35321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en is Market Basket Analysis useful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three rules are examples of real rules generated from re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urs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rocery store consumers often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pers and b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Useful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igh quality, actionabl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ho purchas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tenance 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ery likely to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rge appli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vi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hardware store opens, one of the most commonly sold item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ilet r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licabl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ED7-9425-4F08-B6AB-084FDBADFAA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190080"/>
            <a:ext cx="64771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quenti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amples of patt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ustomers typically rent “Star Wars”, then “Empire Strikes Back”, and then “Return of the jed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ote that these rentals need not to be cons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수강신청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관광과 여가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1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수도권과 주택문제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2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증권시장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3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주가 변동 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삼성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LG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보해양조 주가 상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구매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양복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와이셔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검정색 구두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료진단에서 질병 발생 순서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자 치료에서 진료 및 투약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5DD-B01E-4A86-80F0-17378A33072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ining Path Travers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user access patterns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ko-KR" sz="2800" spc="-1" strike="noStrike">
                <a:solidFill>
                  <a:srgbClr val="ff0066"/>
                </a:solidFill>
                <a:latin typeface="Arial"/>
              </a:rPr>
              <a:t>distributed information providing environment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such as WWW, Hite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elp improving the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lead to better marke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pturing user access patterns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ining path travers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apturing user travel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mproving the quality of suc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9C5-9403-4118-8E9D-14B95032661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44960" y="7682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24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704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596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19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17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044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464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916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240" y="990720"/>
            <a:ext cx="1523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8080" y="320040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742840" y="32004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33360" y="4343400"/>
            <a:ext cx="5331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34340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990720"/>
            <a:ext cx="19047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171840" y="21337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47920" y="205740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3840" y="182880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9440" y="280368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3640" y="4022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964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4000" y="40226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8928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36120" y="524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3160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2776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848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22640" y="746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240" y="838080"/>
            <a:ext cx="121932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371240" y="1981080"/>
            <a:ext cx="609480" cy="6098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160" y="3048120"/>
            <a:ext cx="533160" cy="8380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143000" y="3352320"/>
            <a:ext cx="60948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828800" y="236196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90920" y="3200400"/>
            <a:ext cx="30456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057400" y="4267080"/>
            <a:ext cx="457200" cy="8384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62320" y="4572000"/>
            <a:ext cx="304560" cy="914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760" y="-2819160"/>
            <a:ext cx="1065960" cy="80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ff"/>
            </a:solidFill>
            <a:custDash>
              <a:ds d="499000" sp="20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838080"/>
            <a:ext cx="182880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19560" y="2133720"/>
            <a:ext cx="15228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00800" y="2285640"/>
            <a:ext cx="0" cy="6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5720" y="213372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55960" y="74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1812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3032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2080" y="36417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1560" y="2575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22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057400"/>
            <a:ext cx="533520" cy="685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5240" y="4251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4937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267080"/>
            <a:ext cx="53316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4560" y="432756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5280" y="30322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1960" y="898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99160" y="2041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8640" y="2514600"/>
            <a:ext cx="54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cc"/>
                </a:solidFill>
                <a:latin typeface="Arial"/>
                <a:ea typeface="돋움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2160" y="21178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26120" y="4602240"/>
            <a:ext cx="454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돋움"/>
              </a:rPr>
              <a:t>Maximal forwar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{ABCD, ABEGH, ABEGW, AOU, AOV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640" y="152280"/>
            <a:ext cx="282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돋움"/>
              </a:rPr>
              <a:t>Travers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3360" y="5973840"/>
            <a:ext cx="450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2. Find maximal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74080" y="5592600"/>
            <a:ext cx="412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1. Find large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189-1706-45A0-B68F-4AE12B16341B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의사결정지원 시스템의 발전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아키텍쳐 환경의 발전 단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file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D (Direct Access Storage Device) &amp;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, high-performance transaction processing (OL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s, 4G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 &amp; MIS/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(Data Mining) &amp; DW(Data Wareho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732-1906-495E-A7E2-6AF08EC249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1_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248160" cy="520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거미줄 구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The Spider We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243-E4D7-4D87-9482-4887FF511D52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가지 수준의 아키텍쳐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운영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ration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, day to day, current valued, high probability of access, application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원자 또는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데이터웨어하우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수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 or DW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granular, time variant, integrated, subject oriented, som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부서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artment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ochial, some derived; some primitive, typical departments(accounting, marketing, actua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개인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dividu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, ad hoc, heuristic, non-repetitive, PC or workstation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4A8-E130-49AA-ABBD-FA1C9B5FD8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1_11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58200" cy="523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vels of th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D13-6F8A-4021-9FF4-7F0A3C3043B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W SDLC 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시스템 개발 생명 주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 developmen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DS(SDLC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의 반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라고도 부른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gain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S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DC3-EA43-4A35-95AA-5C748B691B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의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웨어하우스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관리자의 의사결정을 지원하기 위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주제중심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subject orien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통합된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integra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비휘발성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nonvolatil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시간변이적인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time var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데이터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집합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이다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4C3-13BC-4D45-A026-D01B3220B1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2_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5178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주제중심의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298-F285-470C-8A6B-25910FBEF9A1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1:14:05Z</dcterms:created>
  <dc:creator>박종수</dc:creator>
  <dc:description/>
  <dc:language>en-US</dc:language>
  <cp:lastModifiedBy>Jong Soo Park</cp:lastModifiedBy>
  <dcterms:modified xsi:type="dcterms:W3CDTF">2002-05-14T02:32:52Z</dcterms:modified>
  <cp:revision>42</cp:revision>
  <dc:subject/>
  <dc:title>DB와 DM 설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2</vt:r8>
  </property>
  <property fmtid="{D5CDD505-2E9C-101B-9397-08002B2CF9AE}" pid="9" name="HomePage">
    <vt:lpwstr/>
  </property>
  <property fmtid="{D5CDD505-2E9C-101B-9397-08002B2CF9AE}" pid="10" name="LinkColor">
    <vt:r8>16711782</vt:r8>
  </property>
  <property fmtid="{D5CDD505-2E9C-101B-9397-08002B2CF9AE}" pid="11" name="MailAddress">
    <vt:lpwstr>jmlee@hansung.ac.kr</vt:lpwstr>
  </property>
  <property fmtid="{D5CDD505-2E9C-101B-9397-08002B2CF9AE}" pid="12" name="NavBtnPos">
    <vt:r8>4</vt:r8>
  </property>
  <property fmtid="{D5CDD505-2E9C-101B-9397-08002B2CF9AE}" pid="13" name="Other">
    <vt:lpwstr/>
  </property>
  <property fmtid="{D5CDD505-2E9C-101B-9397-08002B2CF9AE}" pid="14" name="OutputDir">
    <vt:lpwstr>D:\jmlee\2000\lecture\db</vt:lpwstr>
  </property>
  <property fmtid="{D5CDD505-2E9C-101B-9397-08002B2CF9AE}" pid="15" name="ScreenSize">
    <vt:r8>3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