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6F8B-3ADC-4DE2-B268-983C0B61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1FDD-F728-44E0-921B-ADB6FA37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7EFF-1F38-4EDA-B160-7E04B95A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F6C5-504B-464A-A6C3-0CEBF2EC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4877-3B56-4D4A-B7EA-91C68553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7CC2-0FA6-491B-BB4C-EED15975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35BA-7944-4310-AB07-2CFBA429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9317-3111-4156-AEDD-06022EE4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7FCF-2D5B-47D5-B007-5490BE3F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4A82-B7A8-46C9-96A4-CE079203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1F3A-DD97-446B-8761-12A953C4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A260-9773-4EF1-A0E2-1EC63329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441D-5B01-49B4-91B9-06A1B42D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0E68-D883-499F-AA92-6137F8AC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90FD-1147-49D3-B1C0-44829F85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D0FD-C3EE-456E-87D4-825A38AD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3437-B04C-4FB1-8CE1-2E31D952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5AC2-0404-4FF9-B7BE-240C3A49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6AF6-A4DE-4B31-A0BD-47C146D9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77EB-04BD-4BEC-ACA3-CEE6679E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6A28-D339-4590-9BF7-31DEA994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D2BF-E58B-4CD9-BCEA-6E662B5D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78DB-54CA-4DCC-A61C-12B51782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5190-45CD-4AF2-9F64-C3E52B94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FFA5-38E1-4627-9811-8CBF46E08274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8D52-2CC6-4372-BBA3-6ABA5604AC71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11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구축 방법론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419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박 종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26C1-CE63-429E-88B4-C1B5F61E3CC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단계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-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정의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스템의 목적 선언문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ission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2727-BC2D-407F-AFD3-3D83FF1C495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11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장 구축 방법론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프로젝트 추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프로젝트 추진의 주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선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방법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다른 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Projec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 시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구축 방법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97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설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천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발견과 발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모든 단계에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문서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FAA4-C2B8-4DF5-80A8-EFD3374D583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축 원칙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안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업이 사용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현업의 요구 사항이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100%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반영되어야 한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양이 많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강력한 하드웨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섬세한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설계 및 튜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신속한 추출과 로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스템을 구축해본 경험으로 하면 실패하기 쉽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09B9-14B4-4AAB-BAAC-18AFC6FC7BD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프로젝트 추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제트 추진 주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업에서 주도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제일 바람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현업에서 원하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구축 가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컴퓨터 비전문가로 인한 신기술 도입에 어려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산실에서 주도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대개의 경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파일럿 시스템 구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외국 컨설팅 업체에서 맡길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국내 기술로도 가능하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D1DD-B241-4708-A202-6A3C1D18947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업무 선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Project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안시 가장 고민하는 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제 영역 선정 작업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민감한 부분을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국내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제 영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por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만들기 힘든 부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영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장표 분석 결과가 운영계 시스템과 일치하지 않는 부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을 배치 작업으로 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의 정보 가동 방식으로는 전혀 분석할 수 없는 부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DCA-8B3D-4CCD-8918-2BEAE90429C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축방법이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LT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다른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사용자 수를 기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데이터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보다 약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ardwar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량 산정에 오류 가능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실제 데이터로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병목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네트워크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서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병목 현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 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현업이 프로젝트의 처음에서 끝까지 참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주인은 현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의 주인은 전산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4892-4145-477B-884F-77CEA3823FE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 Projec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시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 발주와 도착 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에서 설치까지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월 가량 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원시 데이터를 정의하고 초기의 원시 데이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내리는 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각보다 시간이 많이 걸린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기존의 운영계 시스템에서 데이터를 맞추는 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안 맞을 것이다’라는 자세에서 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업무를 협의하는 시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많으면 곤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8FF3-2294-4A02-9595-B4B9F170315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축 방법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모든 단계를 체계적으로 정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밀 지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회사마다 구축 방법론이 다르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projec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스템 개발과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다른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cyc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갖는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D746-D392-48C4-A350-2C1CB8878D0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762120"/>
            <a:ext cx="5638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racle 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축 방법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47920" y="1600200"/>
            <a:ext cx="5333760" cy="5016240"/>
            <a:chOff x="1447920" y="1600200"/>
            <a:chExt cx="5333760" cy="5016240"/>
          </a:xfrm>
        </p:grpSpPr>
        <p:sp>
          <p:nvSpPr>
            <p:cNvPr id="117" name=""/>
            <p:cNvSpPr/>
            <p:nvPr/>
          </p:nvSpPr>
          <p:spPr>
            <a:xfrm>
              <a:off x="1447920" y="1600200"/>
              <a:ext cx="52578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정  의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7920" y="2516040"/>
              <a:ext cx="3124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분  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47920" y="3432240"/>
              <a:ext cx="3124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0000"/>
                  </a:solidFill>
                  <a:latin typeface="Tahoma"/>
                  <a:ea typeface="굴림"/>
                </a:rPr>
                <a:t>설  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47920" y="4348080"/>
              <a:ext cx="312408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0000"/>
                  </a:solidFill>
                  <a:latin typeface="Tahoma"/>
                  <a:ea typeface="굴림"/>
                </a:rPr>
                <a:t>구  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47920" y="5221440"/>
              <a:ext cx="312408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천  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47920" y="6095880"/>
              <a:ext cx="533376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발견과 발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4489560" y="3892680"/>
              <a:ext cx="3124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문 서 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199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19920" y="5715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71800" y="2133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71800" y="3048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71800" y="3962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71800" y="4800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715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0" y="2819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37339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4572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5486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D3B2-C614-476B-9543-816CCAF6EC5F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6-03T06:11:41Z</dcterms:modified>
  <cp:revision>288</cp:revision>
  <dc:subject/>
  <dc:title>제6장 데이터 웨어하우스의 관리</dc:title>
</cp:coreProperties>
</file>