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789-4191-45AA-93C1-05969382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9FAB-79C2-4E90-93E2-BE7898AC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4BC-71B0-4C76-ACB2-E4E63FB3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81E-54C0-4B57-9B46-F8D176DC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B257-3E33-4CE6-A379-B3876F84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9353-1B50-4862-84B7-F0707544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B50B-CC3C-48F1-997D-806567E6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7E80-0C41-4D87-8684-7257E64B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0D32-679E-4844-BBE5-27E53B0C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B9EE-EC66-4234-8D5F-889D9365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1128-3AEC-4CAD-823D-8FFAED1E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1CCA-9B18-47A4-AA1C-E08691B3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B703-A3DF-4EF3-A8DF-7E96DD53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02E8-4877-4A88-8D95-888882E0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E836-DBEB-4966-8806-FEFCC53D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1D93-030B-4BFD-8194-4AEDB5F3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A6EE-76C0-4AD7-BB9A-144DD0F2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7D7-B419-4AB8-88A5-CC709A42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753-038D-4868-9002-17E7098C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FEEC-0C99-4203-8E91-9247B466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B28-181D-4342-B558-EE71F871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3D13-28D5-498C-B756-4230A14B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93CD-2FB3-4ADE-9101-164425FB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78AB-94FD-4806-8608-CA780616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56E0-B45E-4C19-B4AF-3CF92EAE3672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D7B6-73AB-44DF-800F-622553183D52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70AB-300E-4B4E-AA85-C96BE75733F1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FBA7-618B-4D18-8303-7F787F776526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개발 전략 </a:t>
            </a:r>
            <a:br>
              <a:rPr sz="54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 —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hapter 4 —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Engineering L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ool of Computing Science and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ngshin Women’s University, Ko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8CA-1173-4FAB-838F-924D6F91174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04BF4-7533-4015-892E-DBD37062492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조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그림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-4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핵심 구성 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변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응용 프로그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관리 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 의사 결정 지원 도구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 works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271-D544-48CA-AF99-69D37789C5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28995-9362-4CED-8FA4-3B271CF8838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술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기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플랫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 관련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ol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건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기술이 데이터 웨어하우징에 적합한지를 확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술 범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 action="ppaction://hlinksldjump"/>
              </a:rPr>
              <a:t>그림 4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술 플랫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드웨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프트웨어 그리고 통신 네트워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련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산성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 의사 결정 지원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22EE-5BE0-4A90-80D1-8D06D2933F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8E9AB-E3C9-4CEB-A2C8-30761EB3A17A}" type="datetime3">
              <a:rPr lang="en-US"/>
              <a:t>July 30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1523880"/>
          <a:ext cx="8381880" cy="5024520"/>
        </p:xfrm>
        <a:graphic>
          <a:graphicData uri="http://schemas.openxmlformats.org/drawingml/2006/table">
            <a:tbl>
              <a:tblPr/>
              <a:tblGrid>
                <a:gridCol w="2057040"/>
                <a:gridCol w="2667240"/>
                <a:gridCol w="1752480"/>
                <a:gridCol w="1905120"/>
              </a:tblGrid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플랫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스 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최종 사용자 도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서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모델링과 데이터베이스의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특별조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저장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운영체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리엔니지니어링과 클리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관리조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DB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추출과 변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다차원 분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응용프로그램 서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운영과 성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마이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네트워크 프로토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의사결정지원 응용프로그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워크스테이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시스템 유틸리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447920" y="457200"/>
            <a:ext cx="6476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 action="ppaction://hlinksldjump"/>
              </a:rPr>
              <a:t>그림 4-5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술 범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853D-383C-4964-B9CD-6D6BE01622C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402E8-2A31-4325-ABFE-FB3989709CA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5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조직체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을 조직체 내의 배치 위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 시스템 조직과 업무 사용자 조직의 역할과 책임 명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4-6 :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데이터 웨어하우징 팀의 역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적 구성 수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숙련 기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정보 자원 관리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RM: information resource manage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업무 사용자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처리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응용 프로그램 시스템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술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6C3-6C99-4CE0-9148-785FF84AD03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F68B8-1D54-45A5-A94B-4977173C291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3880" y="8380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6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의 역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447920"/>
          <a:ext cx="8076960" cy="4749840"/>
        </p:xfrm>
        <a:graphic>
          <a:graphicData uri="http://schemas.openxmlformats.org/drawingml/2006/table">
            <a:tbl>
              <a:tblPr/>
              <a:tblGrid>
                <a:gridCol w="2438280"/>
                <a:gridCol w="563868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역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주요 책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스 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전략 수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계획 및 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징 목표 전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구축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업 데이터 모델 개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요건 분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징 데이터 구조 설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데이터 시각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저장소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표준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저장소 및 사용자 디렉토리 관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베이스 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물리적 데이터베이스 구조 작성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적재 감시 및  조회 수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D6B-05FC-4E05-901E-CD2F5029FB5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8E7C6-AFA8-4816-A1F3-311B2173E7C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838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6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의 역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계속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1447920"/>
          <a:ext cx="8076960" cy="5043240"/>
        </p:xfrm>
        <a:graphic>
          <a:graphicData uri="http://schemas.openxmlformats.org/drawingml/2006/table">
            <a:tbl>
              <a:tblPr/>
              <a:tblGrid>
                <a:gridCol w="2438280"/>
                <a:gridCol w="5638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역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주요 책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사용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설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규칙 지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변환 결과 시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응용프로그램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처리분석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의사 결정 지원 응용 프로그램 개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응용프로그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시스템전문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존 시스템 데이터의 정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변환분석가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프로그래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 데이터와 데이터 웨어하우스의 대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를 선택 및 적재할 프로그램 작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술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도구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술 구성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교육 전문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접근에 관한 교육 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생산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 시스템 작업 진행 및 데이터 웨어하우징 적재 감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C65-6C1C-4D68-85F6-B5162FC0301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9207C-3FD2-4232-830D-97798123528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6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발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환경을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작업 세분화 구조와 작업 계획의 근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반복적인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소한의 일련의 데이터를 시작으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가적인 데이터가 연속적으로 반복해서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7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3ECB-410B-480B-BA0E-2465C695179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90239-9C72-470C-AA79-E825D9594B7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09680" y="20574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운영 환경 수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6002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프로젝트 착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5146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기업정보 구조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3048120"/>
            <a:ext cx="1676520" cy="47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데이터베이스 설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4290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데이터 변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26708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4724280"/>
            <a:ext cx="198108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 인터페이스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52578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생산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5410080"/>
            <a:ext cx="167652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도구 및 응용 프로그램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5867280"/>
            <a:ext cx="167652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및 롤아웃 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838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7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개발 과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676520" y="2209680"/>
            <a:ext cx="533160" cy="228600"/>
            <a:chOff x="1676520" y="2209680"/>
            <a:chExt cx="533160" cy="228600"/>
          </a:xfrm>
        </p:grpSpPr>
        <p:sp>
          <p:nvSpPr>
            <p:cNvPr id="142" name=""/>
            <p:cNvSpPr/>
            <p:nvPr/>
          </p:nvSpPr>
          <p:spPr>
            <a:xfrm>
              <a:off x="1676520" y="2438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895480" y="2666880"/>
            <a:ext cx="533160" cy="228600"/>
            <a:chOff x="2895480" y="2666880"/>
            <a:chExt cx="533160" cy="228600"/>
          </a:xfrm>
        </p:grpSpPr>
        <p:sp>
          <p:nvSpPr>
            <p:cNvPr id="145" name=""/>
            <p:cNvSpPr/>
            <p:nvPr/>
          </p:nvSpPr>
          <p:spPr>
            <a:xfrm>
              <a:off x="2895480" y="2895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95480" y="266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124080"/>
            <a:ext cx="533160" cy="228600"/>
            <a:chOff x="4191120" y="3124080"/>
            <a:chExt cx="533160" cy="228600"/>
          </a:xfrm>
        </p:grpSpPr>
        <p:sp>
          <p:nvSpPr>
            <p:cNvPr id="148" name=""/>
            <p:cNvSpPr/>
            <p:nvPr/>
          </p:nvSpPr>
          <p:spPr>
            <a:xfrm>
              <a:off x="4191120" y="33526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91120" y="3124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533160" cy="228600"/>
            <a:chOff x="5791320" y="3505320"/>
            <a:chExt cx="533160" cy="228600"/>
          </a:xfrm>
        </p:grpSpPr>
        <p:sp>
          <p:nvSpPr>
            <p:cNvPr id="151" name=""/>
            <p:cNvSpPr/>
            <p:nvPr/>
          </p:nvSpPr>
          <p:spPr>
            <a:xfrm>
              <a:off x="5791320" y="37339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132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362320" y="4038480"/>
            <a:ext cx="4419360" cy="381240"/>
            <a:chOff x="2362320" y="4038480"/>
            <a:chExt cx="4419360" cy="381240"/>
          </a:xfrm>
        </p:grpSpPr>
        <p:sp>
          <p:nvSpPr>
            <p:cNvPr id="154" name=""/>
            <p:cNvSpPr/>
            <p:nvPr/>
          </p:nvSpPr>
          <p:spPr>
            <a:xfrm flipH="1">
              <a:off x="2362320" y="441972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816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752480" y="4876920"/>
            <a:ext cx="533160" cy="228600"/>
            <a:chOff x="1752480" y="4876920"/>
            <a:chExt cx="533160" cy="228600"/>
          </a:xfrm>
        </p:grpSpPr>
        <p:sp>
          <p:nvSpPr>
            <p:cNvPr id="157" name=""/>
            <p:cNvSpPr/>
            <p:nvPr/>
          </p:nvSpPr>
          <p:spPr>
            <a:xfrm>
              <a:off x="1752480" y="5105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876920" y="5638680"/>
            <a:ext cx="533160" cy="228600"/>
            <a:chOff x="4876920" y="5638680"/>
            <a:chExt cx="533160" cy="228600"/>
          </a:xfrm>
        </p:grpSpPr>
        <p:sp>
          <p:nvSpPr>
            <p:cNvPr id="160" name=""/>
            <p:cNvSpPr/>
            <p:nvPr/>
          </p:nvSpPr>
          <p:spPr>
            <a:xfrm>
              <a:off x="4876920" y="5867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76920" y="5638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81280" y="5334120"/>
            <a:ext cx="533160" cy="228600"/>
            <a:chOff x="3581280" y="5334120"/>
            <a:chExt cx="533160" cy="228600"/>
          </a:xfrm>
        </p:grpSpPr>
        <p:sp>
          <p:nvSpPr>
            <p:cNvPr id="163" name=""/>
            <p:cNvSpPr/>
            <p:nvPr/>
          </p:nvSpPr>
          <p:spPr>
            <a:xfrm>
              <a:off x="3581280" y="55627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1280" y="5334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77120" y="6019920"/>
            <a:ext cx="533160" cy="228600"/>
            <a:chOff x="6477120" y="6019920"/>
            <a:chExt cx="533160" cy="228600"/>
          </a:xfrm>
        </p:grpSpPr>
        <p:sp>
          <p:nvSpPr>
            <p:cNvPr id="166" name=""/>
            <p:cNvSpPr/>
            <p:nvPr/>
          </p:nvSpPr>
          <p:spPr>
            <a:xfrm>
              <a:off x="6477120" y="6248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77120" y="6019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ED3-1E82-44D8-8D10-CFBD2EDE0C20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A6AD1-8CB5-45C2-802F-7B362330F19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발 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에 알맞은 구현 및 개발 순서 제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반복적이며 단계 지향적인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전환과 제거에 대한 논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현 순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교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9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10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은 제거되었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B057-1100-40E6-8585-6AC01CE9100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022A3-9051-48D1-B257-737224419EA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념 증명 프로젝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적으로 가능할 때마다 방법론이나 도구들에서 나타나는 모순을 파악하고 정정하기 위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제되고 제한된 환경에서 데이터 웨어하우스를 개발하고 시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 성공 요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 편이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수 조회 및 응용 프로그램을 이용한 데이터 접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융통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투명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젝트 구현 계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규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간 및 다원을 추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A99E-C4A3-41F6-9C87-5622BC62D7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F83E6-E774-4BE2-9B7D-16D8FF62BE5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4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개발 전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점</a:t>
            </a: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  <a:ea typeface="굴림"/>
              </a:rPr>
              <a:t>point)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나의 부서에서 필요한 구체적이고 협소한 의미의 요건들을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통 접근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후 업무에 대한 통합된 시각을 제공하는 의사 결정 지원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의 개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전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문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내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20F7-F088-40AD-9D0E-E8B39DB3B3A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2DC3B-FAE0-49F0-BBA9-BF7BF092D96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관리 관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포함 요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성공 요인과 성과 측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높은 수준의 가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위험 요소와 위험을 줄이기 위한 제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대 사항 관리에 관한 토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목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결정적 성공 요인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4-1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위험 평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대사항 관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0603-94B6-48D4-B75B-81F9EEBB623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4C78D-FE00-499C-997F-ACF286DE15B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결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을 개발하기위한 한 가지 접근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문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계획된 그리고 조정된 데이터 웨어하우징 개발이 이루어질 수 있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체계화된 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구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목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목표 그리고 개념들을 조직체에게 전달하고 이해시키기 위한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미래의 비전 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에 도달하는 확실한 단계들 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18B-FF7D-4FAF-A0B6-1B25A3E73D0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F3406-710E-49DD-8488-CDE09E295A1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전략 개발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의 개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작성 및 발표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월 이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의 규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면담 횟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전에 문서화된 구조상의 노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 상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후원자의 긴급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팀 규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19D0-D367-4539-8618-D964CF1545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AED16-AD9D-4BC4-BF11-E179F964415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목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의 정보 필요성 만족 범위 평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영역에서의 실행 과정을 권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목적을 위하여 전략 정보의 적시 포착과 배포에 적합한 구조 창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 기반 도구를 비롯한 새로운 기술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2B4-CC34-4E13-BF4C-0DFBE5CE2D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742DF-228A-49F5-B240-FE5D28CA895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 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연구팀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명 –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외부 자문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일제 팀 구성원 중 한 명은 내부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030-2159-44A8-AA24-63BEA6912E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D56E0-82F0-4EBA-86B2-D8FCCA16449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 연구 활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건 수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요 사업 관계 인사와 면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의 잔존 시스템과 관련된 문서 조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의 구조 문서 검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권고사항 전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실행 과정을 권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업 조직체의 우선 순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정보 필요사항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및 기술 환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5D49-94EF-4192-A89A-753205C03B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D1CA8-06AE-4A8C-9F9F-9989D2F4676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전략 문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 차례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평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 요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 고려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A9A-473A-4C82-985B-ADA6186DAB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3732F-765E-4E14-A5FF-CAE520003ED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에 전략과 관련된 핵심적인 권고 사항들을 요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에 대한 타당한 사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과 조직체 요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점진적 결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음 단계를 진행하기 위한 경영진의 행동 또는 승인에 대한 요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EC23-BB46-4DBA-915A-FD20D5F366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2EF83-1D65-4496-A61E-12B802B6770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현재 평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리 우선 순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4-3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데이터 주제 지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분화 정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부 사항 수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품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확성 완전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일관성과 무결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도 패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공유 및 분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시성과 과거 기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소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 워크스테이션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D459-829E-4F2E-890F-C416018E52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E5B3D-DA91-4570-9B0A-2EB62389D76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박종수</dc:creator>
  <dc:description/>
  <dc:language>en-US</dc:language>
  <cp:lastModifiedBy>박종수</cp:lastModifiedBy>
  <cp:lastPrinted>1999-09-10T20:38:56Z</cp:lastPrinted>
  <dcterms:modified xsi:type="dcterms:W3CDTF">2002-04-09T05:57:08Z</dcterms:modified>
  <cp:revision>217</cp:revision>
  <dc:subject/>
  <dc:title>데이터 웨어하우징 개발 전략</dc:title>
</cp:coreProperties>
</file>