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0E4-4584-4753-AF42-C6032DB7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DFB-B832-4C23-9C8F-378C750F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D5D-84E4-4E68-BEDE-544EDE87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7EF-0A06-40A0-BC58-0A08C900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1065-1E74-4765-B6F9-CA2F8E65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06DA-1A87-4517-9A40-1BA1D315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19CF-6571-409F-AD89-2A76C56A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6985-0BFE-4CBA-9D76-79E9F6BC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3B38-31CE-430B-81FB-59D957C3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33AB-A8FC-4BC6-8272-6E3A95F5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D512-E202-42D9-AF8F-90443E61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E4E-497B-49EF-B7AE-60DB30F4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C7D8-78CA-4BE5-BFD6-8AEAFC88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4CAF-BD75-4272-8158-548194FC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895F-8A64-4EAF-8807-F67A5D67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4B90-D52A-45D0-A173-2994ACA4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4CAC-FC3C-4655-BFBE-AA55926C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23C-E991-420C-9BE8-23BCE673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714-0294-4283-B1D2-23DD99D7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052-C2A4-4A01-AD81-9B09397E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ED2-2B82-40B4-BBA8-42889385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2FE-26B1-4B67-8701-965B9D8A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EEA-F982-499B-A2E0-4AAD811F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2FB-95CE-47B4-A514-DD74EABC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15238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E3DC-02F6-453E-80C3-4ECE241FDF65}" type="datetime3"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286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DF4D-41F0-485E-8148-011A8A38F86F}" type="slidenum">
              <a:rPr b="0" lang="ko-KR" sz="1400" spc="-1" strike="noStrike">
                <a:solidFill>
                  <a:srgbClr val="ffffff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8286-187E-4F4D-A185-BAE28783A6A9}" type="datetime3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6F81-A757-4F3E-AFB4-0C789AD596F9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2320" y="655308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C7E1-914D-44C9-81BD-33E369083C29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Data Mining: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Concepts and Techniqu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— Slides for Textbook —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 — Chapter 1 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©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Jiawei Han and Micheline Ka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lligent Database Systems Research L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hool of Computing Sci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imon Fraser University, Can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BF19-2C06-448F-9F0E-C8B175A0A67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EE4CD-173B-480D-9E5E-9FC6DAEE3A6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ere are the data sources for analys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dit card transactions, loyalty cards, discount coupons, customer complaint calls, plus (public) lifestyle stud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 clusters of “model” customers who share the same characteristics: interest, income level, spending habit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termine customer purchasing patterns over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version of single to a joint bank account: marriag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ross-market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s/co-relations between product s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 based on the association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CF3-FD50-449F-9BC1-E70515658D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90CB6-8D5F-48F8-8C6B-48F157F7F13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ustomer prof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can tell you what types of customers buy what products (clustering or classific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dentifying custom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dentifying the best products for different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prediction to find what factors will attract new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ovides summary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various multidimensional summary repo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tatistical summary information (data central tendency and vari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74F-03FD-4A34-B8E6-872C63775B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86D4D-FB28-4AA1-9092-752A8C54E69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orporate Analysis and Risk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Finance planning and asset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sh flow analysis and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tingent claim analysis to evaluate asse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oss-sectional and time series analysis (financial-ratio, trend analysis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ource plann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ummarize and compare the resources and spen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mpeti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onitor competitors and market direc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roup customers into classes and a class-based pricing proced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t pricing strategy in a highly competitive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5E9-F6FF-4417-98EE-32A9E9A291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3E941-C51A-471C-AE25-C057983BE3C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widely used in health care, retail, credit card services, telecommunications (phone card fraud)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ro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historical data to build models of fraudulent behavior and use data mining to help identify similar insta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uto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a group of people who stage accidents to collect on insur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ney launder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suspicious money transactions (US Treasury's Financial Crimes Enforcement Network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edical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professional patients and ring of doctors and ring of refer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E05-A7A6-46B2-92CB-515C5B888C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2171E-63C8-4DCE-9992-BFB81E6916C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inappropriate medical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stralian Health Insurance Commission identifies that in many cases blanket screening tests were requested  (save Australian $1m/yr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telephone frau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elephone call model: destination of the call, duration, time of day or week.  Analyze patterns that deviate from an expected nor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British Telecom identified discrete groups of callers with frequent intra-group calls, especially mobile phones, and broke a multimillion dollar frau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t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nalysts estimate that 38% of retail shrink is due to dishonest employ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402-588A-4FC4-B8D2-E60F7CC8C1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12EA2-36EA-4AA7-BE01-D96CBB6B26E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Advanced Scout analyzed NBA game statistics (shots blocked, assists, and fouls) to gain competitive advantage for New York Knicks and Miami He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strono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JPL and the Palomar Observatory discovered 22 quasars with the help of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net Web Surf-A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Surf-Aid applies data mining algorithms to Web access logs for market-related pages to discover customer preference and behavior pages, analyzing effectiveness of Web marketing, improving Web site organization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843-1235-47DC-8BAA-465EE540D4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C2B2D-D929-4E19-8890-6D9B8F7DF18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KDD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the core of knowledge discovery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51051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81680" y="15998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05520" y="2666880"/>
            <a:ext cx="99036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276720" y="37335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556272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563868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199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63244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57150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7913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60958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2760" y="4876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6240" y="54100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62485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114800"/>
            <a:ext cx="19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4572000"/>
            <a:ext cx="685800" cy="6858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3429000"/>
            <a:ext cx="457200" cy="4572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1981080"/>
            <a:ext cx="75960" cy="609840"/>
          </a:xfrm>
          <a:prstGeom prst="rect">
            <a:avLst/>
          </a:prstGeom>
          <a:solidFill>
            <a:srgbClr val="ff5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2209680"/>
            <a:ext cx="76320" cy="38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133720"/>
            <a:ext cx="76320" cy="45720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2362320"/>
            <a:ext cx="76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590920"/>
            <a:ext cx="685800" cy="7596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362320"/>
            <a:ext cx="152280" cy="228600"/>
          </a:xfrm>
          <a:prstGeom prst="rect">
            <a:avLst/>
          </a:prstGeom>
          <a:solidFill>
            <a:srgbClr val="ff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086600" y="990720"/>
            <a:ext cx="17431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nowledg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2511000" y="3276720"/>
            <a:ext cx="22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Task-relevant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40528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5280" y="25909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  <a:ea typeface="굴림"/>
              </a:rPr>
              <a:t>Data M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4560" y="167652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attern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12408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2057400"/>
            <a:ext cx="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962160" y="525780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62520" y="4343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5257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86000" y="60958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905120" y="5409720"/>
            <a:ext cx="380880" cy="685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541008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657600" y="4191120"/>
            <a:ext cx="0" cy="12189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EF9-0D29-4319-AA93-E778B195B61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8BE00-2064-4F6E-8448-1EE2015B2AB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teps of a KDD Proces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Learning the application domai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levant prior knowledge and goals of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ating a target data set: data sel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clea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and preprocessing: (may take 60% of effort!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reduction and transform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ind useful features, dimensionality/variable reduction, invariant represen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functions of data min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mmarization, classification, regression, association, cluster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the mining algorithm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mi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search for patterns of inter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Pattern evaluation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visualization, transformation, removing redundant pattern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F3F-BBE2-4752-B651-0BE5685C87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B5D81-3515-45F6-9EFA-D8BCBCF2251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Business Intelligen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5029200"/>
          </a:xfrm>
          <a:prstGeom prst="flowChartExtra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58672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5257800"/>
            <a:ext cx="563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49568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7339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954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3352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83908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7960" y="1509840"/>
            <a:ext cx="191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Increasing poten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to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 deci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50440" y="19558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End 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54400" y="2946240"/>
            <a:ext cx="9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3320" y="3784680"/>
            <a:ext cx="8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03600" y="5689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3960" y="2057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Ma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eci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8680" y="2998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7440" y="33526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Visualization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1440" y="377208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M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2360" y="40384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Information Disco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572000"/>
            <a:ext cx="1889280" cy="36828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Expl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7280" y="556272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OLAP, M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1240" y="48006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Statistical Analysis, Querying and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480" y="525780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Warehouses / Data Ma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1680" y="5867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600" y="6095880"/>
            <a:ext cx="60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Paper, Files, Information Providers, Database Systems, OL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64771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CB4-7A83-4CFF-BF84-95C3DE831A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C3E00-C8B3-4C84-96BA-52248B68CD7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rchitecture of a Typical Data Mining 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617220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48640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5334120"/>
            <a:ext cx="1295640" cy="30456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55627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38098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5029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 &amp; 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579132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4343400"/>
            <a:ext cx="350496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4343400"/>
            <a:ext cx="2667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or data warehous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505320"/>
            <a:ext cx="350532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666880"/>
            <a:ext cx="350496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1752480"/>
            <a:ext cx="365760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raphical 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971800"/>
            <a:ext cx="10670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3200400"/>
            <a:ext cx="99072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124080"/>
            <a:ext cx="914400" cy="838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29718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098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nowledge-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F02-F74C-4842-B548-EB56FA19084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8676A-C030-4A85-9A66-315475A6C84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cknowledge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is work on this set of slides started with my (Han’s) tutorial for UCLA Extension course in February 19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r.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Hongjun L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from Hong Kong Univ. of Science and Technology taught jointly with me a Data Mining Summer Course in Shanghai, China in July 1998.  He has contributed many excellent slides to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ome graduate students have contributed many new slides in the following years.  Notable contributors include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Eugene Belchev, Jian Pe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, and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Osmar R. Zaia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now teaching in Univ. of Albert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50B-7BAD-419E-B25D-F4B6940E0A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DD7A4-A129-4C57-BC5F-ED819E03A91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la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wareho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ansac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dvanced DB and information reposi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-oriented and object-relation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pati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ime-series data and temporal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xt databases and multimedia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Heterogeneous and legacy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E1E-8D5A-45C1-8C0B-E44C7CE317A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5E69E-8D88-489E-A962-6492801DC53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649620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oncept description: Characterization and discri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eneralize, summarize, and contrast data characteristics, e.g., dry vs. wet reg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ssoc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rrelation and causal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ulti-dimensional vs. single-dimensional associ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ge(X, “20..29”) ^ income(X, “20..29K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buys(X, “PC”) [support = 2%, confidence = 60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ntains(T, “computer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contains(x, “software”) [1%, 75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2B3-9D37-4D06-B9B2-CD9EC1E4D8C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E4D35-0634-4057-B256-5D119A333DF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assification and Predi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ing models (functions) that describe and distinguish classes or concepts for future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.g., classify countries based on climate, or classify cars based on gas mile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sentation: decision-tree, classification rule, neural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: Predict some unknown or missing numerical valu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ust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 label is unknown: Group data to form new classes, e.g., cluster houses to find distribution patter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ustering based on the principle: maximizing the intra-class similarity and minimizing the interclass simila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05E-CAA4-4952-A68E-31B294E8926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2CDAB-05AC-4015-855F-C670CD1EF52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utli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Outlier: a data object that does not comply with the general behavior of the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t can be considered as noise or exception but is quite useful in fraud detection, rare events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end and evolution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rend and deviation:  regression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quential pattern mining, periodicity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imilarity-based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ther pattern-directed or statistical analy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659-EF63-4BBA-B981-F88F8FC99F9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F78D9-4FED-40DE-A7AE-535A3121FC9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re All the “Discovered” Patterns Interest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data mining system/query may generate thousands of patterns, not all of them are interes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ggested approach: Human-centered, query-based, focused mi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nterestingness measur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A pattern is </a:t>
            </a:r>
            <a:r>
              <a:rPr b="0" lang="en-US" sz="2000" spc="-1" strike="noStrike">
                <a:solidFill>
                  <a:srgbClr val="ff5050"/>
                </a:solidFill>
                <a:latin typeface="Tahoma"/>
                <a:ea typeface="굴림"/>
              </a:rPr>
              <a:t>interes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if it 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easily understoo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by human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alid on new or test dat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with some degree of certainty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otentially usefu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novel, or validates some hypothes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at a user seeks to confir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 vs. subjective interestingness measur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statistics and structures of patterns, e.g., support, confid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u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user’s belief in the data, e.g., unexpectedness, novelty, actionability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BD1-6F38-4DD2-B934-DF2C8DB8F0C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5B270-DF72-4D26-A7CC-097BEB1B1CD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an We Find All and Only Interesting Pattern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Find all the interesting patterns: Complet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 vs. classification vs. clust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earch for only interesting patterns: Optim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nl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roac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rst general all the patterns and then filter out the uninteresting o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enerate only the interesting patterns—mining query optim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A63-0FE6-42BF-ADEA-9AFEE194DF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84997-674A-465D-BA8B-8B375E40AE7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4678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onfluence of Multiple Disciplin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3429000"/>
            <a:ext cx="2209680" cy="914400"/>
          </a:xfrm>
          <a:prstGeom prst="rect">
            <a:avLst/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9051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1905120"/>
            <a:ext cx="198108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5257800"/>
            <a:ext cx="198144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iscip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5181480"/>
            <a:ext cx="198108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Visu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2666880"/>
            <a:ext cx="129564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76560" y="2666880"/>
            <a:ext cx="114300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1464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5028840" y="4419720"/>
            <a:ext cx="152388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38280" y="4419720"/>
            <a:ext cx="16002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3D3-5D09-41CE-A4C9-3D20B3FAE46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7CF8F-B8B1-4190-A5F9-6A763B0653E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lassification Sche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General functi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scriptive data mi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edictive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ifferent views, different classif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databases to be m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knowledge to be discov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techniques ut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applications adap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496-3505-4151-BE3C-1A6301CF13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64D29-EF7F-497B-BD9F-E877EF59E40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Multi-Dimensional View of Data Mining Classif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s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, transactional, object-oriented, object-relational, active, spatial, time-series, text, multi-media, heterogeneous, legacy, WWW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Knowledge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ation, discrimination, association, classification, clustering, trend, deviation and outlier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ultiple/integrated functions and mining at multiple lev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chniques utiliz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-oriented, data warehouse (OLAP), machine learning, statistics, visualization, neural network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pplications adap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tail, telecommunication, banking, fraud analysis, DNA mining, stock market analysis, Web mining, Weblog analys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D30-3C15-45A9-B48E-66BA0912FCD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BBACB-DF33-4D7F-9DD4-D3B8D96F42D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LAP Mining: An Integration of Data Mining and Data Warehou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systems, DBMS, Data warehouse systems coup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o coupling, loose-coupling, semi-tight-coupling, tight-coupl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mining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ining and OLAP technolog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multi-level know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ecessity of mining knowledge and patterns at different levels of abstraction by drilling/rolling, pivoting, slicing/dicing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ultiple mining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ed classification, first clustering and then assoc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93A-E00D-47D9-B1C5-172BF49A242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F1103-E349-4B58-8083-2B7FF5CB2E8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1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459-00.3 Course Schedu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. Introduction {W1:L2, 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2. Data warehousing and OLAP technology for data mining {W2:L1-3, W3:L1-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 1 distribution (SQLServer7.0+ DBMiner2.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3. Data preprocessing {W3:L3, W4: L1-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4. Data mining primitives, languages and system architectures  {W4: L3, W5: L1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1 due, homework #2 distribu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5. Concept description: Characterization and comparison  {W5: L2, L3, W6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6:L1 Thanksgiving Da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6. Mining association rules in large databases  {W6: L3, W7: L1-3, W8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{W8: L2}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7. Classification and prediction {W8:L3, W9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8. Clustering analysis  {W10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0: L3 Homework #2 d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9. Mining complex types of data {W11: L2-L3, W12: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1:L1 Remembrance Day, W12:L3 Course project du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0. Data mining applications and trends in data mining {W13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Final Exam (W14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B25-6D09-41D6-B59E-5AC17D8E2E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5736E-C3CC-4D85-B614-34F07996E25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n OLAM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4495680"/>
            <a:ext cx="685800" cy="22860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41148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41911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886200"/>
            <a:ext cx="11430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647712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579132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5638680"/>
            <a:ext cx="1295640" cy="30492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5867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648320"/>
            <a:ext cx="13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Meta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MD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724280" y="4343040"/>
            <a:ext cx="83844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16765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35053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2362320" y="3657600"/>
            <a:ext cx="9144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133360" y="3809880"/>
            <a:ext cx="106668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876920" y="3657600"/>
            <a:ext cx="60948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952880" y="36572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243828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7432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1676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User GUI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6680" y="312408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Cub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5181480"/>
            <a:ext cx="5715000" cy="7632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438280" y="464796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4495320" y="4800600"/>
            <a:ext cx="685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2640" y="518148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5480" y="6248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61722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1480" y="586728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6248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35812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51814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167652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20574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OLAP/OL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38862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D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5562720"/>
            <a:ext cx="1905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Reposi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8880" y="83808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477120" y="1142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&amp;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6095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523880" y="1295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100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095880" y="3657600"/>
            <a:ext cx="228600" cy="457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BCC-B6EE-4211-83EB-F9FE51EA43D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8D702-6A1F-455E-A5E8-65BDDE48751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ining methodology and user inte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different kinds of knowledge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o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at multiple levels of abstr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corporation of backgroun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query languages and ad-hoc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ression and visualization of data mining resu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noise and incomplete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: the interestingness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erformance and scal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fficiency and scalability of data mining algorith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rallel, distributed and incremental mining metho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C1D-AF39-4620-8BDA-35C8D3C135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1E5B8-69E0-40AD-A31F-E3DE66CD622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ing to the diversity of data ty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relational and complex type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information from heterogeneous databases and global information systems (WWW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ed to applications and social imp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lication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omain-specific data mining too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cess control and decision ma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the discovered knowledge with existing knowledge: A knowledge fusion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tection of data security, integrity, and priv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8D8-F86D-4ABB-8769-4F68ACE95DF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9D190-9F96-40CE-B1AF-4E3DEC64447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discovering interesting patterns from large amount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natural evolution of database technology, in great demand, with wide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KDD process includes data cleaning, data integration, data selection, transformation, data mining, pattern evaluation,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can be performed in a variety of information repos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: characterization, discrimination, association, classification, clustering, outlier and trend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31D-2D78-42EF-8CF2-AB9B9355C5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FD011-52B8-4BA1-9F5A-3CDDCE983E6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Brief History of Data Mining Socie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89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JCAI Workshop on Knowledge Discovery in Databases (Piatetsky-Shapir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 in Databases (G. Piatetsky-Shapiro and W. Frawley, 199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1-1994 Workshops on Knowledge Discovery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Advances in Knowledge Discovery and Data Mining (U. Fayyad, G. Piatetsky-Shapiro, P. Smyth, and R. Uthurusamy, 199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5-1998 International Conferences on Knowledge Discovery in Databases and Data Mining (KDD’95-9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ournal of Data Mining and Knowledge Discovery (199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8 ACM SIGKDD, SIGKDD’1999-2001 conferences, and SIGKDD Explo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re conferences o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PAKDD, PKDD, SIAM-Data Mining, (IEEE) ICDM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5E4-2FB7-443F-B996-F02709CE6F3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0E776-8076-42AB-A6C6-55156354D78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Referenc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mining and KDD (SIGKDD member CD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KDD, and others, such as PKDD, PAKDD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: Data Mining and Knowledge Discove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 field (SIGMOD member CD 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ACM-SIGMOD, ACM-PODS, VLDB, ICDE, EDBT, DASFA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CM-TODS, J. ACM, IEEE-TKDE, JI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I and Machine Learn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Machine learning, AAAI, IJCA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Machine Learning, Artificial Intellig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tatistic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Joint Stat. Meeting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nnals of statist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isualiza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CH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IEEE Trans. visualization and computer graph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C79-1BC2-4E1B-B292-A8D37918861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65B58-609E-4A8B-AF5B-062652F5D5E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99760" y="609480"/>
            <a:ext cx="7155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U. M. Fayyad, G. Piatetsky-Shapiro, P. Smyth, and R. Uthurusamy. Advances in Knowledge Discovery and Data Mining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. Han and M. Kamber. Data Mining: Concepts and Techniques. Morgan Kaufmann, 2000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T. Imielinski and H. Mannila. A database perspective on knowledge discovery. Communications of ACM, 39:58-64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, U. Fayyad, and P. Smith. From data mining to knowledge discovery: An overview. In U.M. Fayyad, et al. (eds.), Advances in Knowledge Discovery and Data Mining, 1-35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 and W. J. Frawley. Knowledge Discovery in Databases. AAAI/MIT Press, 1991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049-94FC-4079-9466-D724B0831E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49A47-F4B4-4D31-B8E7-C8964322109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31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5409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"/>
                <a:ea typeface="굴림"/>
              </a:rPr>
              <a:t>Thank you !!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590920" y="1219320"/>
          <a:ext cx="41893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19320"/>
                    <a:ext cx="41893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2FE-69DE-40F2-B824-D8762BF8AEB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664EB-4CCB-4935-BFE4-5886714006D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843 Course Arran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st week: full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2nd to 11th week: 1/2 graduate student + 1/2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2-13th week: full student graduate project pres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Course evalua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esentation (quality of presentation slides 7% + presentation 8%) 1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exam 3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(presentation 5% + report 25%)  total 3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 (2): 2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Deadline for the selection of your work in the semeste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course presentation: at the end of the 1st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the course project: at the end of the 3rd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proposal due date: at the end of the 4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due dates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due date: end of the semes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Your presentation slides due date: one day before the presen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date: end of the 8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72F-7D08-4860-B714-4E90053D126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9EB5D-E047-4BB8-A05F-CBBA7024B09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the Set of Slid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utorial sections (MS PowerPoint file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/dm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 conference presentation slides (.ppt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earch papers, DBMiner system, and other related informati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C30-73F7-4182-9654-7D5924F8F2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621C9-FFAA-45E9-A8F7-E64F91A1FA3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Chapter 1.  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otivation: Why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re all the patterns interest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512-BCF6-4660-B6ED-7CD44F53F9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16F64-DDCE-4566-8CE1-7A48F4A6AE5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otivation:  “Necessity is the Mother of Invention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explosion proble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tomated data collection tools and mature database technology lead to tremendous amounts of data stored in databases, data warehouses and other information repositories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e are drowning in data, but starving for knowledge!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olution: Data warehousing and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Data warehousing an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knowledge (rules, regularities,  patterns, constraints) from data in 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700-91C8-448B-B993-AACF193047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013D3-E7B6-4E17-A516-0A9FF0BB65B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Evolution of Database Technology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(See Fig. 1.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196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collection, database creation, IMS and network DB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7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 data model, relational DBMS imple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8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DBMS, advanced data models (extended-relational, OO, deductive, etc.) and application-oriented DBMS (spatial, scientific, engineering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90s—200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data warehousing, multimedia databases, and Web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219-9908-4C3E-9738-3B24217768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DD34D-219F-4C33-9043-CE7FB8782F1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8640" y="699840"/>
            <a:ext cx="750708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(knowledge discovery in databases):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(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non-trivial,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implici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reviously unknow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otentially useful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formation or patterns from data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lternative names and their “inside stories”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misnom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(mining) in databases (KDD), knowledge extraction, data/pattern analysis, data archeology, data dredging, information harvesting, business intelligenc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not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(Deductive) query processing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ert systems or small ML/statistical progr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87560" cy="1174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38880" y="4932360"/>
            <a:ext cx="190512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3B5-8F35-4E7F-848D-671A72FAA6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DECD1-B780-452B-B504-D9518D656AE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y Data Mining? — Potential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 analysis and decision sup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, customer relation management,  market basket analysis, cross selling, market se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isk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orecasting, customer retention, improved underwriting, quality control, competitive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Text mining (news group, email, documents) and Web analy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776-D7E7-4C89-AD9C-1B69071CA0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6E06B-0A99-4E10-9AA1-EC1D301D652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22:01:55Z</dcterms:created>
  <dc:creator>Jiawei Han</dc:creator>
  <dc:description/>
  <dc:language>en-US</dc:language>
  <cp:lastModifiedBy>Jong Soo Park</cp:lastModifiedBy>
  <cp:lastPrinted>2000-06-01T21:00:25Z</cp:lastPrinted>
  <dcterms:modified xsi:type="dcterms:W3CDTF">2002-05-14T02:30:51Z</dcterms:modified>
  <cp:revision>167</cp:revision>
  <dc:subject/>
  <dc:title>Mining Frequent Patterns Without Candidate Generation</dc:title>
</cp:coreProperties>
</file>